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A17-9BD7-4437-9633-AB32051A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E6A-365D-4FB7-BC44-1AC69F2A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AFB45-9D45-4834-A506-27587EB4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AB903-CD89-4003-91A8-F8585AA0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E3F96-B5F2-44A1-B842-C0C66E40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D8B9D-95C8-49AB-A475-D48E635F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738D9-6D32-49BD-910A-C75AB732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30D0A-165F-4219-BF88-05D51212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BCE34-B0B9-48B9-92A0-06374D4B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804A5-1E8F-4095-927C-22A52FC2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28340-A9C2-4430-92B3-F96D1EB1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F5F8F-1E68-4949-8F53-1D01528F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180-5413-4E85-9C11-106E4BAA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C6C59-D652-468E-8A31-26546E68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A73CB-CC60-414E-B019-A9554A01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62EAB-3FC4-48CD-AFAB-2BEFE979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983CA-FF31-4854-9B1F-8CC3CE96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DABA4-F028-4562-BC17-DF525F36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B9DCF-C9A9-463A-B906-639927C6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DB244-8CBB-4A6A-8C98-B2B932B7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E362D-C29C-4E66-90BA-6BDDE9EF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B8280-CE92-4690-A8AE-491B6994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FD584-E5D6-4CBC-8D2D-F32A4DB7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32B4-92C9-439A-9312-C2C48B06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88C6A-5831-4EB5-9809-845DD9DB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8504D-CC70-4A39-9C32-6562B927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5065B-DCF5-4445-98B1-4E33E74C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3C0F4-782D-4219-8947-70F12D60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08F35-F8AF-4B02-83D6-DB25EF38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731E4-19B4-48B5-9750-95669774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056D1-2FB4-40F7-94E6-7FB75EF6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20F63-11E4-4FFA-8B99-0B372D05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A268C-FA7F-4BFB-B1F4-C2E41E9C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0E539-660E-483F-96C1-362508FC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C2B4-1C0E-445B-B437-E68D37E7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0C17C-EA5B-40F6-B101-853CAAED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FC865-60FC-4BFB-8042-68C53C89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81853-8472-4E13-8EAD-1D809991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7E19A-7244-46D7-837C-B31FB138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20360-1509-4747-B59D-114E2BD9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D182D-B003-43C7-937C-C9FA6EBD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45DAB-20E2-405F-9CF2-1350DB5D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4264A-79AF-40CF-AE8E-4D21AF57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0DC1F-C2BB-4630-9BA9-4BD98A6C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AFB88-9055-4290-9CE9-57F76FE7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FEA8-1356-4CD9-8255-6490DFD9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FCAD1-3CEC-4669-97CF-EFA682A6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61822-F5C2-4FCE-9C15-A58080D0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1DE85-A9DC-4EFD-9C82-3E3A8FD0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F2BE5-6F81-442D-8DD4-4DFA5398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525F6-0BB4-49AD-9407-D4AAC2E8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32D3-8959-4BB3-99DF-36148E35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83C7-08BC-4268-8A1E-71F30768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CAF1-A00D-423D-92A3-753A125E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FD38-655F-4D1B-BADB-F9FDA8C8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0FAE-CD30-469A-A1A6-9746EFB3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25D-A20B-4F59-B2D9-79C8F0E0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EAA4-2BBB-4442-B517-218F05EA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CE4B-A984-4D30-BF81-5F137041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B9D2-C35E-415C-B7F3-C52DDBC3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8DC2-ECAD-42D3-88A4-D440F4FE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DB27-E76A-4665-AD5C-6454870E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1EE7B-7168-4EFD-8A02-E9019094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3E1A7-7854-4FFC-BFBD-90D04E29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4C2BC-7D89-4E7E-BACA-6F003849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48621-C5DF-4050-ACF6-8935FD89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BAD8A-51A6-49F2-B5B3-2B92A4FB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ACCC-5363-43E0-9015-297BD737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64F67-5854-4338-8C5C-74C734AE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F8E13-09CB-4E8F-8563-2F23943A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A1916-6D1F-41D9-A7B5-574B33A5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54D37-C1E0-4EA1-A1D7-4BA2DAF3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C39E2-F8BA-4D4A-A404-26DD38EB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96A7B-3354-4BCA-A2AF-C3AE8E62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6A832-092B-4409-8E0C-51563481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1B964-EFF0-4F77-BA14-74DF4D1C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04E6C-562E-428A-87A5-BA30FACA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F909B-BFBD-4D12-840A-253E00FC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97D0-BB6D-4DF7-A911-C14B3910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017D9-5C60-430B-A8F0-32BFF246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FFD06-2299-4A96-AD50-01986697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99E55-0A36-456F-8570-F2C5BFD0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4267D-F244-4C36-9A5A-9DA5B150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8372A-BF54-4AA5-9A17-5176EE8B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0E40B-BF6E-43FA-9CB6-963CEFD7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2C1AC-B659-484B-9FA6-0651C4DB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0FF42-694E-4956-B0F4-7812435C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159BE-436E-422D-B007-B32354DF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1BAF2-4B7E-4294-9D72-FFB8DE32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52E-DF0D-44E7-BE90-BFD96D6E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FFD8C-2B46-4331-B1ED-9038ACE1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C2E39-4F82-4185-8248-23380F1A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DE905-B703-434E-86D7-7EDBADA9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5FCFE-A403-4EA4-80EC-BC95486A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44FE4-EC95-46A2-9E7B-FD1C5651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178B6-2981-488C-8C2B-670F9FE7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BC99B-65F8-42D8-8626-A3637082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AE9D8-9B5D-43BC-BA8A-79578CB3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865E5-D74E-485D-B359-33B3DD6E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D18B7-DE03-42FA-B70D-F7C570AE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C583-8243-4FCD-8CCA-12FC9CEC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05CB7-ED9A-465E-A80E-749C67F8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9BD61-0D62-4691-9F4A-AEACDE3F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03280-6206-473B-BC6E-682035E0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C875B-543C-45D0-A8DF-80EA4042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C90A6-822B-499E-B4E8-5E2B2750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517E8-20D6-4906-BA10-F1E8A69A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93269-44A9-4252-9210-9C707CE8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5ADA2-3DAE-493C-BDEC-0ACCB176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68079-516D-4525-8549-AF05C064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BDE7F-4B44-4812-980A-42C446D9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01C9-EDE9-497C-9166-3899F63D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59899-031B-4E59-B910-A5E251A8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45203-036E-4344-92E6-74434A69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03D35-168B-4B69-AAEE-50C70B9C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C67C8-D4E4-4A75-B758-53643E49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8F518-7EF1-4895-A8E8-DD5FAA52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DC37F-A35B-4736-B032-80D65B81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EA334-1596-4469-8A88-F9C2A346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D9CBA-B5CD-40FB-8F90-D66C7749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0487D-219F-4DA4-8131-56CDEDA1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AA1CA-6D3E-40FA-BDC7-DD91AE78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0388-4A85-43F8-B61F-32A4A4C0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B554C-806C-44AE-8298-C2953E5A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1D09A-4C73-483F-B5AE-51A82800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5ED0E-1E0B-439B-BCA8-89C1C683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B6612-B408-4059-8F2A-9F947A60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74D90-2E30-4F65-B579-42F77615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31793-4E2D-4998-8869-227A6C3E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BB933-F19F-4264-9203-006EA45C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90DEE-6600-4793-AE84-8E92237F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C43A9-11F3-4D8C-8DD9-128A0896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FE4A6-986C-47D5-9657-59122490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6D05-588C-4F8C-97ED-2E7804E3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B0B6A-266B-4599-A874-8A5CFD74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FFF20-2923-44F0-9972-AC99BAD9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E954E-56E6-41EC-A3B2-C2B09F2E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43291-B99B-476D-9B78-047F8A48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25E1B-1A2A-4A06-A66A-83C1C65C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0165B-BD9E-48D8-8C0E-C1CC8989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E94CF-A121-4FCD-BBB2-8ED5B8A8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E6E3C-990B-40E5-9918-FE0C2685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54EA2-0852-435D-8B96-7DC57004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71392-8B9F-4B49-AA79-BF8BFB86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5022-9F9B-422D-802D-3D06F156B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F10B-0B12-4616-848F-228C06CC2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879A-B026-4774-B604-840CB68A7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61D3-0F92-4562-B673-199C9749A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840E-E5C7-4464-973B-73965DF2F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6E40-4B4A-44B2-907E-A2E2AD05F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F90B-FE14-4826-AE8F-0315628C9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0101-066A-4718-BCF5-5B167B0C4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8ABF-37E4-48D4-A79D-698D6FC25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1267-6900-4B61-BEDE-45760FB5E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26FD-721A-4246-A8D4-855D15ABB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900D-FEAF-43AB-AA21-BCA6D5FDD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no Pro Smbd"/>
              </a:rPr>
              <a:t>Здравствуй,  школа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Рисунок 5" descr="62286315.png"/>
          <p:cNvPicPr/>
          <p:nvPr/>
        </p:nvPicPr>
        <p:blipFill>
          <a:blip r:embed="rId1"/>
          <a:stretch/>
        </p:blipFill>
        <p:spPr>
          <a:xfrm>
            <a:off x="0" y="1071720"/>
            <a:ext cx="92869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Содержимое 3" descr="f_j031.jpg"/>
          <p:cNvPicPr/>
          <p:nvPr/>
        </p:nvPicPr>
        <p:blipFill>
          <a:blip r:embed="rId1"/>
          <a:stretch/>
        </p:blipFill>
        <p:spPr>
          <a:xfrm>
            <a:off x="2071800" y="0"/>
            <a:ext cx="535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Содержимое 3" descr="42030763_22.jpg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Содержимое 3" descr="f_k031.jpg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Содержимое 3" descr="erg2.jpg"/>
          <p:cNvPicPr/>
          <p:nvPr/>
        </p:nvPicPr>
        <p:blipFill>
          <a:blip r:embed="rId1"/>
          <a:stretch/>
        </p:blipFill>
        <p:spPr>
          <a:xfrm>
            <a:off x="142920" y="0"/>
            <a:ext cx="4643280" cy="307188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4" descr="Mal.jpg"/>
          <p:cNvPicPr/>
          <p:nvPr/>
        </p:nvPicPr>
        <p:blipFill>
          <a:blip r:embed="rId2"/>
          <a:stretch/>
        </p:blipFill>
        <p:spPr>
          <a:xfrm>
            <a:off x="4500720" y="3214800"/>
            <a:ext cx="621504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Содержимое 9" descr="087425a81db2.jpg"/>
          <p:cNvPicPr/>
          <p:nvPr/>
        </p:nvPicPr>
        <p:blipFill>
          <a:blip r:embed="rId1"/>
          <a:stretch/>
        </p:blipFill>
        <p:spPr>
          <a:xfrm>
            <a:off x="228600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Содержимое 3" descr="0013-013-Pravila-raboty-za-kompjuterom.jpg"/>
          <p:cNvPicPr/>
          <p:nvPr/>
        </p:nvPicPr>
        <p:blipFill>
          <a:blip r:embed="rId1"/>
          <a:stretch/>
        </p:blipFill>
        <p:spPr>
          <a:xfrm>
            <a:off x="500040" y="142920"/>
            <a:ext cx="81439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Picture 2" descr="C:\Documents and Settings\Иванка\Рабочий стол\ibm_1.gif"/>
          <p:cNvPicPr/>
          <p:nvPr/>
        </p:nvPicPr>
        <p:blipFill>
          <a:blip r:embed="rId1"/>
          <a:stretch/>
        </p:blipFill>
        <p:spPr>
          <a:xfrm>
            <a:off x="1143000" y="214200"/>
            <a:ext cx="65721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7" name="Содержимое 3" descr="profilaktika onemeniya ryk.jpg"/>
          <p:cNvPicPr/>
          <p:nvPr/>
        </p:nvPicPr>
        <p:blipFill>
          <a:blip r:embed="rId1"/>
          <a:stretch/>
        </p:blipFill>
        <p:spPr>
          <a:xfrm>
            <a:off x="214200" y="0"/>
            <a:ext cx="4071960" cy="350028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4" descr="10.gif"/>
          <p:cNvPicPr/>
          <p:nvPr/>
        </p:nvPicPr>
        <p:blipFill>
          <a:blip r:embed="rId2"/>
          <a:stretch/>
        </p:blipFill>
        <p:spPr>
          <a:xfrm>
            <a:off x="4500720" y="2714760"/>
            <a:ext cx="4500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Содержимое 3" descr="42030774_33.jpg"/>
          <p:cNvPicPr/>
          <p:nvPr/>
        </p:nvPicPr>
        <p:blipFill>
          <a:blip r:embed="rId1"/>
          <a:stretch/>
        </p:blipFill>
        <p:spPr>
          <a:xfrm>
            <a:off x="221472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Содержимое 3" descr="Artem-computer_10-spina.jpg"/>
          <p:cNvPicPr/>
          <p:nvPr/>
        </p:nvPicPr>
        <p:blipFill>
          <a:blip r:embed="rId1"/>
          <a:stretch/>
        </p:blipFill>
        <p:spPr>
          <a:xfrm>
            <a:off x="164304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28800" y="274680"/>
            <a:ext cx="371484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no Pro Smbd"/>
              </a:rPr>
              <a:t>Чтобы</a:t>
            </a:r>
            <a:r>
              <a:rPr b="0" lang="ru-RU" sz="5400" spc="-1" strike="noStrike">
                <a:solidFill>
                  <a:srgbClr val="000000"/>
                </a:solidFill>
                <a:latin typeface="Arno Pro Smbd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Arno Pro Smbd"/>
              </a:rPr>
              <a:t>компьютер  был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no Pro Smbd"/>
              </a:rPr>
              <a:t> друго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Содержимое 3" descr="7816.jpg"/>
          <p:cNvPicPr/>
          <p:nvPr/>
        </p:nvPicPr>
        <p:blipFill>
          <a:blip r:embed="rId1"/>
          <a:stretch/>
        </p:blipFill>
        <p:spPr>
          <a:xfrm>
            <a:off x="0" y="142920"/>
            <a:ext cx="54291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Arno Pro Smbd"/>
            </a:endParaRPr>
          </a:p>
        </p:txBody>
      </p:sp>
      <p:pic>
        <p:nvPicPr>
          <p:cNvPr id="533" name="Содержимое 5" descr="f7caafddb99b.png"/>
          <p:cNvPicPr/>
          <p:nvPr/>
        </p:nvPicPr>
        <p:blipFill>
          <a:blip r:embed="rId1"/>
          <a:stretch/>
        </p:blipFill>
        <p:spPr>
          <a:xfrm>
            <a:off x="1366920" y="1600200"/>
            <a:ext cx="6410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Содержимое 3" descr="242efe6d6234bc36a615557af826aa34_full.jpg"/>
          <p:cNvPicPr/>
          <p:nvPr/>
        </p:nvPicPr>
        <p:blipFill>
          <a:blip r:embed="rId1"/>
          <a:stretch/>
        </p:blipFill>
        <p:spPr>
          <a:xfrm>
            <a:off x="714240" y="0"/>
            <a:ext cx="7143840" cy="5786280"/>
          </a:xfrm>
          <a:prstGeom prst="rect">
            <a:avLst/>
          </a:prstGeom>
          <a:ln w="0">
            <a:noFill/>
          </a:ln>
        </p:spPr>
      </p:pic>
      <p:sp>
        <p:nvSpPr>
          <p:cNvPr id="498" name="TextBox 4"/>
          <p:cNvSpPr/>
          <p:nvPr/>
        </p:nvSpPr>
        <p:spPr>
          <a:xfrm>
            <a:off x="1714680" y="5786280"/>
            <a:ext cx="542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no Pro Smbd"/>
              </a:rPr>
              <a:t>МОНИТ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1640" y="2857320"/>
            <a:ext cx="43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no Pro Smbd"/>
              </a:rPr>
              <a:t>СИСТЕМНЫЙ БЛО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Содержимое 3" descr="26979.jpg"/>
          <p:cNvPicPr/>
          <p:nvPr/>
        </p:nvPicPr>
        <p:blipFill>
          <a:blip r:embed="rId1"/>
          <a:stretch/>
        </p:blipFill>
        <p:spPr>
          <a:xfrm>
            <a:off x="357120" y="428760"/>
            <a:ext cx="4143600" cy="59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2560" y="514332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no Pro Smbd"/>
              </a:rPr>
              <a:t>КОМПЬЮТЕРНАЯ    МЫШ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Содержимое 3" descr="676063808.jpg"/>
          <p:cNvPicPr/>
          <p:nvPr/>
        </p:nvPicPr>
        <p:blipFill>
          <a:blip r:embed="rId1"/>
          <a:stretch/>
        </p:blipFill>
        <p:spPr>
          <a:xfrm>
            <a:off x="642960" y="571680"/>
            <a:ext cx="47530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7120" y="492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no Pro Smbd"/>
              </a:rPr>
              <a:t>ЗВУКОВЫЕ    КОЛОН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Содержимое 3" descr="creative-gigaworks-t40-20080512044852598-000.jpg"/>
          <p:cNvPicPr/>
          <p:nvPr/>
        </p:nvPicPr>
        <p:blipFill>
          <a:blip r:embed="rId1"/>
          <a:stretch/>
        </p:blipFill>
        <p:spPr>
          <a:xfrm>
            <a:off x="500040" y="357120"/>
            <a:ext cx="55720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57120" y="485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no Pro Smbd"/>
              </a:rPr>
              <a:t>КЛАВИАТУР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Содержимое 3" descr="klava2-2110.jpg"/>
          <p:cNvPicPr/>
          <p:nvPr/>
        </p:nvPicPr>
        <p:blipFill>
          <a:blip r:embed="rId1"/>
          <a:stretch/>
        </p:blipFill>
        <p:spPr>
          <a:xfrm>
            <a:off x="357120" y="428760"/>
            <a:ext cx="66438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72080" y="2642760"/>
            <a:ext cx="4471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no Pro Smbd"/>
              </a:rPr>
              <a:t>ДИС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Содержимое 3" descr="lflash.jpg"/>
          <p:cNvPicPr/>
          <p:nvPr/>
        </p:nvPicPr>
        <p:blipFill>
          <a:blip r:embed="rId1"/>
          <a:stretch/>
        </p:blipFill>
        <p:spPr>
          <a:xfrm>
            <a:off x="1285920" y="1500120"/>
            <a:ext cx="36432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0" name="Содержимое 3" descr="default.jpeg"/>
          <p:cNvPicPr/>
          <p:nvPr/>
        </p:nvPicPr>
        <p:blipFill>
          <a:blip r:embed="rId1"/>
          <a:stretch/>
        </p:blipFill>
        <p:spPr>
          <a:xfrm>
            <a:off x="214200" y="214200"/>
            <a:ext cx="82868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1:43:39Z</dcterms:created>
  <dc:creator>www.PHILka.RU</dc:creator>
  <dc:description/>
  <dc:language>en-US</dc:language>
  <cp:lastModifiedBy>Ёля</cp:lastModifiedBy>
  <dcterms:modified xsi:type="dcterms:W3CDTF">2011-10-25T05:31:10Z</dcterms:modified>
  <cp:revision>15</cp:revision>
  <dc:subject/>
  <dc:title>Слайд 1</dc:title>
</cp:coreProperties>
</file>