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8.gif" ContentType="image/gif"/>
  <Override PartName="/ppt/media/image4.jpeg" ContentType="image/jpeg"/>
  <Override PartName="/ppt/media/image3.png" ContentType="image/png"/>
  <Override PartName="/ppt/media/image24.png" ContentType="image/png"/>
  <Override PartName="/ppt/media/image23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5.png" ContentType="image/png"/>
  <Override PartName="/ppt/media/image2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0D9-EA06-4BCC-B727-8DC39A5E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28A-9EA2-4F13-8947-38BAAD90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B29-5B58-49C6-876B-A59F05D7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2B5-E060-43DA-8EF2-CF0DEE51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5CF-08FD-4359-846B-294DFA74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DC9-360E-4905-A1F2-FF03F7E4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471-63D1-4AFC-94C8-C001ED32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665-E842-41E2-998F-88C99D57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7CD-0A47-4DC0-8B1F-D76D2A81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42F-2753-40BF-9227-3A18CDF6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078-D0DE-48A8-B722-40189DFD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5CB-C799-4212-B82F-55ED71B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2245-9334-4F43-A428-C81F5C90A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x_6b2aa01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4"/>
          <p:cNvGrpSpPr/>
          <p:nvPr/>
        </p:nvGrpSpPr>
        <p:grpSpPr>
          <a:xfrm>
            <a:off x="1476360" y="1298520"/>
            <a:ext cx="6624360" cy="5559120"/>
            <a:chOff x="1476360" y="1298520"/>
            <a:chExt cx="6624360" cy="5559120"/>
          </a:xfrm>
        </p:grpSpPr>
        <p:sp>
          <p:nvSpPr>
            <p:cNvPr id="78" name="AutoShape 5"/>
            <p:cNvSpPr/>
            <p:nvPr/>
          </p:nvSpPr>
          <p:spPr>
            <a:xfrm>
              <a:off x="1476360" y="1298520"/>
              <a:ext cx="6624360" cy="55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2539800" y="1539360"/>
              <a:ext cx="4594680" cy="45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4957920" y="1539360"/>
              <a:ext cx="3240" cy="45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2539800" y="3957480"/>
              <a:ext cx="459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2539800" y="2748600"/>
              <a:ext cx="2419920" cy="241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957920" y="2989800"/>
              <a:ext cx="2176560" cy="217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539800" y="3957480"/>
              <a:ext cx="459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 flipV="1">
              <a:off x="4474800" y="2748240"/>
              <a:ext cx="2415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 flipH="1" flipV="1">
              <a:off x="6649920" y="2989800"/>
              <a:ext cx="24156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5682960" y="3716280"/>
              <a:ext cx="7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 flipV="1">
              <a:off x="5682960" y="5407560"/>
              <a:ext cx="4845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Прямоугольник 14" descr=""/>
          <p:cNvPicPr/>
          <p:nvPr/>
        </p:nvPicPr>
        <p:blipFill>
          <a:blip r:embed="rId1"/>
          <a:stretch/>
        </p:blipFill>
        <p:spPr>
          <a:xfrm>
            <a:off x="1292400" y="189000"/>
            <a:ext cx="7284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2338809-1307112078363.jpg"/>
          <p:cNvPicPr/>
          <p:nvPr/>
        </p:nvPicPr>
        <p:blipFill>
          <a:blip r:embed="rId1"/>
          <a:stretch/>
        </p:blipFill>
        <p:spPr>
          <a:xfrm>
            <a:off x="826920" y="1628640"/>
            <a:ext cx="762012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" descr=""/>
          <p:cNvPicPr/>
          <p:nvPr/>
        </p:nvPicPr>
        <p:blipFill>
          <a:blip r:embed="rId2"/>
          <a:stretch/>
        </p:blipFill>
        <p:spPr>
          <a:xfrm>
            <a:off x="2346480" y="189000"/>
            <a:ext cx="4749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аких фигур и сколько вы насчитал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3780000" y="2205000"/>
            <a:ext cx="1512720" cy="1152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419640" y="3357720"/>
            <a:ext cx="2166840" cy="2808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788000" y="1773360"/>
            <a:ext cx="433440" cy="414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 rot="10800000">
            <a:off x="4356000" y="2637000"/>
            <a:ext cx="432000" cy="2887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 rot="10800000">
            <a:off x="4572000" y="4797360"/>
            <a:ext cx="503280" cy="4320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 rot="10800000">
            <a:off x="3924360" y="4797360"/>
            <a:ext cx="503280" cy="4320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3780000" y="1773360"/>
            <a:ext cx="433080" cy="414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10800000">
            <a:off x="4716000" y="6165360"/>
            <a:ext cx="79236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 rot="10800000">
            <a:off x="3419640" y="6165360"/>
            <a:ext cx="79200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ой приближается праздник?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нова решаем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e8fcdefab39189d95fd80bebd8e.jpg"/>
          <p:cNvPicPr/>
          <p:nvPr/>
        </p:nvPicPr>
        <p:blipFill>
          <a:blip r:embed="rId1"/>
          <a:stretch/>
        </p:blipFill>
        <p:spPr>
          <a:xfrm>
            <a:off x="3780000" y="1413000"/>
            <a:ext cx="508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1315922501masha_i_medvedq.jpg"/>
          <p:cNvPicPr/>
          <p:nvPr/>
        </p:nvPicPr>
        <p:blipFill>
          <a:blip r:embed="rId1"/>
          <a:stretch/>
        </p:blipFill>
        <p:spPr>
          <a:xfrm>
            <a:off x="250920" y="260280"/>
            <a:ext cx="5292720" cy="52833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4" descr=""/>
          <p:cNvPicPr/>
          <p:nvPr/>
        </p:nvPicPr>
        <p:blipFill>
          <a:blip r:embed="rId2"/>
          <a:stretch/>
        </p:blipFill>
        <p:spPr>
          <a:xfrm>
            <a:off x="2341440" y="4943520"/>
            <a:ext cx="7351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927036"/>
          <p:cNvPicPr/>
          <p:nvPr/>
        </p:nvPicPr>
        <p:blipFill>
          <a:blip r:embed="rId1"/>
          <a:stretch/>
        </p:blipFill>
        <p:spPr>
          <a:xfrm>
            <a:off x="2268360" y="1916280"/>
            <a:ext cx="4521240" cy="4506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2200320" y="-212760"/>
            <a:ext cx="45784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?id=326175020-40-72&amp;n=17"/>
          <p:cNvPicPr/>
          <p:nvPr/>
        </p:nvPicPr>
        <p:blipFill>
          <a:blip r:embed="rId1"/>
          <a:stretch/>
        </p:blipFill>
        <p:spPr>
          <a:xfrm>
            <a:off x="468360" y="692280"/>
            <a:ext cx="8172360" cy="5832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611280" y="6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60 + 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11280" y="2276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90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860720" y="385596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69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805800" y="5440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2 –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6302160" y="6206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0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826200" y="527544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5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84360" y="378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0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755640" y="907920"/>
            <a:ext cx="1295280" cy="288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755640" y="691920"/>
            <a:ext cx="5256360" cy="30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6012000" y="836640"/>
            <a:ext cx="1008000" cy="316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4716360" y="2637000"/>
            <a:ext cx="2160720" cy="129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788000" y="2708280"/>
            <a:ext cx="3097080" cy="27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 flipH="1">
            <a:off x="1835280" y="5445000"/>
            <a:ext cx="597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6" descr=""/>
          <p:cNvPicPr/>
          <p:nvPr/>
        </p:nvPicPr>
        <p:blipFill>
          <a:blip r:embed="rId2"/>
          <a:stretch/>
        </p:blipFill>
        <p:spPr>
          <a:xfrm>
            <a:off x="-262080" y="-360360"/>
            <a:ext cx="96314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65507_6"/>
          <p:cNvPicPr/>
          <p:nvPr/>
        </p:nvPicPr>
        <p:blipFill>
          <a:blip r:embed="rId1"/>
          <a:stretch/>
        </p:blipFill>
        <p:spPr>
          <a:xfrm>
            <a:off x="1116000" y="1209600"/>
            <a:ext cx="7037280" cy="5532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2"/>
          <a:stretch/>
        </p:blipFill>
        <p:spPr>
          <a:xfrm>
            <a:off x="1103400" y="85680"/>
            <a:ext cx="70707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лученные значения выражений расположите в порядке убы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5280" y="28396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80       100         70         30         2          5        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         У           Е           Н         К         И          Б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!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Работа по учебнику: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с. 64 - № 137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анимашки рыбки"/>
          <p:cNvPicPr/>
          <p:nvPr/>
        </p:nvPicPr>
        <p:blipFill>
          <a:blip r:embed="rId1"/>
          <a:stretch/>
        </p:blipFill>
        <p:spPr>
          <a:xfrm>
            <a:off x="5254560" y="-531720"/>
            <a:ext cx="3889440" cy="388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анимашки рыбки"/>
          <p:cNvPicPr/>
          <p:nvPr/>
        </p:nvPicPr>
        <p:blipFill>
          <a:blip r:embed="rId2"/>
          <a:stretch/>
        </p:blipFill>
        <p:spPr>
          <a:xfrm>
            <a:off x="7093080" y="5157720"/>
            <a:ext cx="2342880" cy="14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анимашки рыбки"/>
          <p:cNvPicPr/>
          <p:nvPr/>
        </p:nvPicPr>
        <p:blipFill>
          <a:blip r:embed="rId3"/>
          <a:stretch/>
        </p:blipFill>
        <p:spPr>
          <a:xfrm>
            <a:off x="395280" y="573408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анимашки рыбки"/>
          <p:cNvPicPr/>
          <p:nvPr/>
        </p:nvPicPr>
        <p:blipFill>
          <a:blip r:embed="rId4"/>
          <a:stretch/>
        </p:blipFill>
        <p:spPr>
          <a:xfrm>
            <a:off x="324000" y="33336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анимашки рыбки"/>
          <p:cNvPicPr/>
          <p:nvPr/>
        </p:nvPicPr>
        <p:blipFill>
          <a:blip r:embed="rId5"/>
          <a:stretch/>
        </p:blipFill>
        <p:spPr>
          <a:xfrm>
            <a:off x="5364000" y="3933720"/>
            <a:ext cx="2578320" cy="1582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15.jpg"/>
          <p:cNvPicPr/>
          <p:nvPr/>
        </p:nvPicPr>
        <p:blipFill>
          <a:blip r:embed="rId6"/>
          <a:stretch/>
        </p:blipFill>
        <p:spPr>
          <a:xfrm>
            <a:off x="1547640" y="1125360"/>
            <a:ext cx="3346560" cy="50594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9" descr=""/>
          <p:cNvPicPr/>
          <p:nvPr/>
        </p:nvPicPr>
        <p:blipFill>
          <a:blip r:embed="rId7"/>
          <a:stretch/>
        </p:blipFill>
        <p:spPr>
          <a:xfrm>
            <a:off x="1676520" y="-19080"/>
            <a:ext cx="6108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8 + 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2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7 + 7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1 – 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7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7 – 8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20 + 10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0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40 + 1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6 – 8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8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8 – 9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9 + 5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4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8 + 6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43 – 3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0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74 – 4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643280" y="0"/>
            <a:ext cx="73080" cy="685800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11 из 136000"/>
          <p:cNvPicPr/>
          <p:nvPr/>
        </p:nvPicPr>
        <p:blipFill>
          <a:blip r:embed="rId1"/>
          <a:stretch/>
        </p:blipFill>
        <p:spPr>
          <a:xfrm>
            <a:off x="395280" y="0"/>
            <a:ext cx="3564000" cy="193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im5-tub-ru.yandex.net/i?id=99237846-19-72&amp;n=17"/>
          <p:cNvPicPr/>
          <p:nvPr/>
        </p:nvPicPr>
        <p:blipFill>
          <a:blip r:embed="rId2"/>
          <a:stretch/>
        </p:blipFill>
        <p:spPr>
          <a:xfrm>
            <a:off x="5148360" y="0"/>
            <a:ext cx="36003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929814"/>
          <p:cNvPicPr/>
          <p:nvPr/>
        </p:nvPicPr>
        <p:blipFill>
          <a:blip r:embed="rId1"/>
          <a:stretch/>
        </p:blipFill>
        <p:spPr>
          <a:xfrm>
            <a:off x="971640" y="2276640"/>
            <a:ext cx="3168720" cy="3938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" descr=""/>
          <p:cNvPicPr/>
          <p:nvPr/>
        </p:nvPicPr>
        <p:blipFill>
          <a:blip r:embed="rId2"/>
          <a:stretch/>
        </p:blipFill>
        <p:spPr>
          <a:xfrm>
            <a:off x="-36360" y="128520"/>
            <a:ext cx="9210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2:52:39Z</dcterms:created>
  <dc:creator>user</dc:creator>
  <dc:description/>
  <dc:language>en-US</dc:language>
  <cp:lastModifiedBy>Ёля</cp:lastModifiedBy>
  <dcterms:modified xsi:type="dcterms:W3CDTF">2012-02-25T04:58:41Z</dcterms:modified>
  <cp:revision>18</cp:revision>
  <dc:subject/>
  <dc:title>Слайд 1</dc:title>
</cp:coreProperties>
</file>