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670B-26E6-434B-8F7D-23F6D447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AAF7-6E84-42F1-BE34-6405A2A3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1343-30AB-4481-9C44-46AFB36F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068A-EECE-4FD0-87FD-BEA34B22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1E3C-6FAF-4ED0-83E2-32C356EB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229B-3318-466C-A177-F9CC77E6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4AC4-8A09-4A12-9C34-F914C3F8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AACF-5543-4E52-A10F-BCD8E9BA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ECB4-8D05-4012-8A3A-A101A8ED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9F76-93AB-43E7-98F4-F062374C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2B56-4A82-4973-BCD4-EA95386A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842C-FEC6-4F86-B0D2-56DF2C71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A494-E786-4ED3-9AD1-12DE2A47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9AA8-0965-438A-893E-5E3F2E15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2DA9-1F67-4BAA-B771-6E28DEF9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F946-44F3-4781-AB4A-D125EF4C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08A1-8161-4E18-9C82-C920AF75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52B-A5AF-4DE1-B5CD-9CF2B785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1ACA-0490-4BD1-B0BE-4DAC9FDE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BC05-91D3-4F3B-869F-193E8333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2979-17BD-4871-AEAE-D08B9A63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0D0F-0FEB-446A-AEBE-AE519E61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2CB5-500C-47BF-97EC-DA412C02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3785-1D63-4DE7-8999-59FD7836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5E7E-8861-4E20-A925-599587CC8C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77F1-725A-4B4F-B216-285372CBAD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80880" y="5562720"/>
            <a:ext cx="8458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 ИНФОРМАТИКЕ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0"/>
            <a:ext cx="7924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ЫЙ  УМНЫЙ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33520" y="990720"/>
            <a:ext cx="79246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АФИЧЕСКИЙ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ДАКТОР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533520" y="1219320"/>
            <a:ext cx="79246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РХИТЕКТУРА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МПЬЮТЕРА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533520" y="1981080"/>
            <a:ext cx="79246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Е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533520" y="1295280"/>
            <a:ext cx="792468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СТЕМЫ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ЧИСЛЕНИЯ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09480" y="1143000"/>
            <a:ext cx="792504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ЛЕКТРОННЫЕ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БЛИЦЫ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04920" y="1828800"/>
            <a:ext cx="8458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ЛЬТИМЕДИА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09480" y="1295280"/>
            <a:ext cx="792504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ТРОЙСТВО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МПЬЮТЕРА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1905120"/>
            <a:ext cx="79246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I ТУР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228600"/>
            <a:ext cx="8763120" cy="4114800"/>
          </a:xfrm>
          <a:prstGeom prst="ellipse">
            <a:avLst/>
          </a:prstGeom>
          <a:solidFill>
            <a:srgbClr val="0099cc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5791320"/>
            <a:ext cx="1557360" cy="7617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7200" y="228600"/>
            <a:ext cx="8231040" cy="6324480"/>
            <a:chOff x="457200" y="228600"/>
            <a:chExt cx="8231040" cy="6324480"/>
          </a:xfrm>
        </p:grpSpPr>
        <p:grpSp>
          <p:nvGrpSpPr>
            <p:cNvPr id="87" name=""/>
            <p:cNvGrpSpPr/>
            <p:nvPr/>
          </p:nvGrpSpPr>
          <p:grpSpPr>
            <a:xfrm>
              <a:off x="5735520" y="811080"/>
              <a:ext cx="2952360" cy="3406680"/>
              <a:chOff x="5735520" y="811080"/>
              <a:chExt cx="2952360" cy="3406680"/>
            </a:xfrm>
          </p:grpSpPr>
          <p:sp>
            <p:nvSpPr>
              <p:cNvPr id="88" name=""/>
              <p:cNvSpPr/>
              <p:nvPr/>
            </p:nvSpPr>
            <p:spPr>
              <a:xfrm>
                <a:off x="5735520" y="811080"/>
                <a:ext cx="2952360" cy="108000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Ж З И 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735520" y="1974600"/>
                <a:ext cx="2952360" cy="107964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Р С Т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735520" y="3137760"/>
                <a:ext cx="2952360" cy="108000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Щ Ы Ь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3097080" y="228600"/>
              <a:ext cx="2952360" cy="4571640"/>
              <a:chOff x="3097080" y="228600"/>
              <a:chExt cx="2952360" cy="4571640"/>
            </a:xfrm>
          </p:grpSpPr>
          <p:sp>
            <p:nvSpPr>
              <p:cNvPr id="92" name=""/>
              <p:cNvSpPr/>
              <p:nvPr/>
            </p:nvSpPr>
            <p:spPr>
              <a:xfrm>
                <a:off x="3097080" y="3719520"/>
                <a:ext cx="2952360" cy="108072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Э Ю Я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097080" y="228600"/>
                <a:ext cx="2952360" cy="108072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Г Д Е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097080" y="1392480"/>
                <a:ext cx="2952360" cy="108000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Н О П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097080" y="2556000"/>
                <a:ext cx="2952360" cy="108072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Ц Ч Ш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458640" y="811080"/>
              <a:ext cx="2952360" cy="3406680"/>
              <a:chOff x="458640" y="811080"/>
              <a:chExt cx="2952360" cy="3406680"/>
            </a:xfrm>
          </p:grpSpPr>
          <p:sp>
            <p:nvSpPr>
              <p:cNvPr id="97" name=""/>
              <p:cNvSpPr/>
              <p:nvPr/>
            </p:nvSpPr>
            <p:spPr>
              <a:xfrm>
                <a:off x="458640" y="811080"/>
                <a:ext cx="2952360" cy="108000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А Б В 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58640" y="1974600"/>
                <a:ext cx="2952360" cy="107964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К Л М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8640" y="3137760"/>
                <a:ext cx="2952360" cy="108000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У Ф Х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457200" y="5791320"/>
              <a:ext cx="1557360" cy="7617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63600" y="5791320"/>
              <a:ext cx="1557360" cy="7617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70360" y="5791320"/>
              <a:ext cx="1557360" cy="7617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76760" y="5791320"/>
              <a:ext cx="1557360" cy="7617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534960" y="4952880"/>
              <a:ext cx="81532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5560">
                    <a:solidFill>
                      <a:srgbClr val="0000a4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КОМПЬЮТЕРНОЕ ЖИВОТНОЕ</a:t>
              </a:r>
              <a:endParaRPr b="0" lang="en-US" sz="1800" spc="1" strike="noStrike">
                <a:ln w="25560">
                  <a:solidFill>
                    <a:srgbClr val="0000a4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1677960" y="99072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4421160" y="388620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0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7088040" y="327672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9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4344840" y="274320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8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1754280" y="327672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7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7088040" y="213372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6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4421160" y="160020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5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7012080" y="99072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3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4421160" y="380880"/>
              <a:ext cx="3142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1754280" y="213372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4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73280" y="5977080"/>
            <a:ext cx="7597440" cy="0"/>
          </a:xfrm>
          <a:prstGeom prst="line">
            <a:avLst/>
          </a:prstGeom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8200" y="1033560"/>
            <a:ext cx="7912080" cy="0"/>
          </a:xfrm>
          <a:prstGeom prst="line">
            <a:avLst/>
          </a:prstGeom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88080" y="474840"/>
            <a:ext cx="0" cy="6060960"/>
          </a:xfrm>
          <a:prstGeom prst="line">
            <a:avLst/>
          </a:prstGeom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32400" y="566640"/>
            <a:ext cx="0" cy="6062760"/>
          </a:xfrm>
          <a:prstGeom prst="line">
            <a:avLst/>
          </a:prstGeom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7800" y="566640"/>
            <a:ext cx="0" cy="6062760"/>
          </a:xfrm>
          <a:prstGeom prst="line">
            <a:avLst/>
          </a:prstGeom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91160" y="5324400"/>
            <a:ext cx="227196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СТРОЙ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МПЬЮ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35480" y="5324400"/>
            <a:ext cx="227304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УЛЬТИМЕДИ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5324400"/>
            <a:ext cx="227196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ЭЛЕКТРОН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АБЛИЦ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3280" y="2712960"/>
            <a:ext cx="7832520" cy="0"/>
          </a:xfrm>
          <a:prstGeom prst="line">
            <a:avLst/>
          </a:prstGeom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2058840"/>
            <a:ext cx="2271960" cy="13068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ТЕКСТОВ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РЕДАКТ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91160" y="2058840"/>
            <a:ext cx="2271960" cy="13068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РАФИЧЕ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ЕДАКТ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35480" y="2058840"/>
            <a:ext cx="2273040" cy="13068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ОГРАММ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БЕСПЕ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91160" y="380880"/>
            <a:ext cx="227196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ИНТЕР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35480" y="380880"/>
            <a:ext cx="227304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АЛГОРИТ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80880"/>
            <a:ext cx="227196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ИНФОРМ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3280" y="4390920"/>
            <a:ext cx="7832520" cy="0"/>
          </a:xfrm>
          <a:prstGeom prst="line">
            <a:avLst/>
          </a:prstGeom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738600"/>
            <a:ext cx="227196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РХИТЕК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МПЬЮ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91160" y="3738600"/>
            <a:ext cx="227196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ИСТ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ЧИС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35480" y="3738600"/>
            <a:ext cx="227304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БЩ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1905120"/>
            <a:ext cx="7924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Я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33520" y="1828800"/>
            <a:ext cx="7924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Ы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85800" y="1905120"/>
            <a:ext cx="79246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ТЕРНЕТ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09480" y="1295280"/>
            <a:ext cx="792504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КСТОВЫЙ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ДАКТОР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1219320"/>
            <a:ext cx="79246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ГРАММНОЕ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ЕСПЕЧЕНИЕ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04-10T17:44:5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