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36C3-B51A-450C-8562-4A7F3FA0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66E5-B471-4899-8401-7452A7E7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CC4-E183-49FD-A69E-33CC6C14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1805-99FF-4601-B916-335B3557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2DD8-E992-4BF5-9F80-901BFC1F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8756-2801-4D99-91D3-948FDD74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CD4A-4B0F-4E62-B304-2E083FBA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2E75-DEF7-43B3-8415-271FE397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3A07-2021-4ED5-B1CD-C11D6847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472A-CDA1-4E17-9E05-F04EFCC8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E5FD-0ECF-4143-8968-502C07B1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B397-86A7-4045-ACB5-DCB86550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6BF9-E2FF-4467-A911-A5F0ADB5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E2F6-21A4-41B2-9362-74352875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4054-4D87-4EC0-9594-F514B119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B81C-4BF5-4379-9891-185AACFC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FCF9-C89A-4F82-837C-7E6CDFE6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1F5C-0EA1-48E9-A967-BCE6D5FB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59D2-3983-43B4-BF9D-8A44E45C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CB79-8DD6-47F7-BC38-95B559FF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D645-0414-4865-934F-F4F281B3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16D5-1FE3-4B45-8368-3A495292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2C93-3761-4AF2-8BAD-6D847B71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AB5-1949-40CE-A956-2C3ADBF9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8282-DDBC-47BF-8E21-233DB82238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2290-58AE-4E4D-89B2-8CDD220312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0880" y="5562720"/>
            <a:ext cx="8458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 ИНФОРМАТИК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0"/>
            <a:ext cx="7924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Й  УМНЫЙ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85800"/>
            <a:ext cx="77724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Скорость передач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информации измеряется в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бай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д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и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бай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685800"/>
            <a:ext cx="7696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лово информация 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ереводе с латинско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означает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формирова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ве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следние нов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меньшение неопределен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609480"/>
            <a:ext cx="77724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Информация, хранимая на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внешнем носителе 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обладающая именем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называетс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нешней информаци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айл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ереносимой информаци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талог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914400"/>
            <a:ext cx="83818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Какое количество информ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отребуется для кодирования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одного из 256 символов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 бай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 бай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бай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б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152280"/>
            <a:ext cx="76960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Для кого будет информативно следующее сообщение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«Программа- это алгоритм, записанный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на языке программирования»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ля программи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ля учителя информа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ля уче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ля шо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8080" y="533520"/>
            <a:ext cx="777240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Какое понятие объединяет камень, папирус, бересту, книгу и дискет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родное происхожд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сторическая це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хранение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609480"/>
            <a:ext cx="84582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Какие элементы не могут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лужить носителями информации при ее хранени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ка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ума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агнитные материа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уч св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685800"/>
            <a:ext cx="86104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Компьютер – это универсальное устройст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для работы с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исл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гровыми программ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формаци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ормальными язы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914400"/>
            <a:ext cx="77724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колько бит информ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необходимо для кодирования одной букв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90720" y="1066680"/>
            <a:ext cx="7315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колько бит в слов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ИНФОРМАЦ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1905120"/>
            <a:ext cx="79246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 ТУР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1066680"/>
            <a:ext cx="716256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колько байт в сло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ТЕХНОЛОГ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50880" y="350640"/>
            <a:ext cx="1038132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39640" rIns="539640" tIns="539640" bIns="539640" anchor="ctr">
            <a:spAutoFit/>
          </a:bodyPr>
          <a:p>
            <a:pPr marL="343080" indent="-343080"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Что изучает информатик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нструкцию компьют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особы представления, накопл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работки и передачи информации 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мощью технических сред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) компьютерные про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) общешкольные дисципл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80880"/>
            <a:ext cx="868680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корость передач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данных – э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личество информации,  передаваемой за 1 ча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личество информации, передаваемой с одного ПК на друг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личество битов информации, переданных за 1 секун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14400" y="1219320"/>
            <a:ext cx="762012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Что не является свойством информаци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нят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ратк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лав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остовер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838080"/>
            <a:ext cx="876312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Что такое информационн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взрыв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ежедневные новости из горячих точ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озросшее количество газет и журна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урный рост потоков и объемов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щение через ИНТЕРН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762120"/>
            <a:ext cx="8229600" cy="53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овременный компьютер 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эт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стройство для работы с текст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ногофункциональное устройство для работы с информаци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ыстродействующее вычислительное устрой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стройство для хранения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0" y="-14057280"/>
            <a:ext cx="457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838080"/>
            <a:ext cx="77724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За минимальную единиц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измерения информ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ринят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Кбай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бай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б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б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685800"/>
            <a:ext cx="73911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Какое утверждение вер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0Кбайт=2Мбай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0Кбайт&gt;2Мбай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0Кбайт&lt;2Мбай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4-09T13:27:2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