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7CA-098B-4FA7-B756-52FAAD29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5EF-8D6C-456C-87D0-830B57C3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8CE-029C-4189-9124-901F9764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F34-6FF6-4876-9970-24D7B4E8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15FC-B4A0-48BA-AE69-9BA7A009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DA8D-94EB-48E5-994E-353BF388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133-969F-4CC1-BB8D-C6BF3459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D9B1-02F7-4C87-91B3-E269BCC5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2EB-F929-428A-A265-0AB29AAB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EAB-AC75-4518-9B69-5F59E048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86F7-9B70-4110-8673-226AA73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A90-A580-409F-A6C7-C1029B58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CE46-21A0-434A-9DF3-4CC9317D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7F87-4991-4901-ABCF-7CAC000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26F1-9F34-4B58-9146-839503B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29ED-05E5-4247-9AB3-02CE16CF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A1A9-1999-463C-B0D7-DE85F41A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E81-2E9D-4804-8BD7-96B7232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AB8-F7F1-429F-89C5-151BEC04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DB3-2137-4390-B710-20B2804E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401-F088-43F7-ABD9-744F6A29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C6A-1DF0-489B-B90A-D437991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760-385B-4B0E-9694-ACC9770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AF4-A948-48B5-A50D-2F4B664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69F-B578-4E00-8C8D-2D8B18ADC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B55-5AF7-4C0D-904F-2E8977A29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35520" y="811080"/>
            <a:ext cx="2952360" cy="3406680"/>
            <a:chOff x="5735520" y="811080"/>
            <a:chExt cx="2952360" cy="3406680"/>
          </a:xfrm>
        </p:grpSpPr>
        <p:sp>
          <p:nvSpPr>
            <p:cNvPr id="86" name=""/>
            <p:cNvSpPr/>
            <p:nvPr/>
          </p:nvSpPr>
          <p:spPr>
            <a:xfrm>
              <a:off x="573552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Ж З И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552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 С 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552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Щ Ы 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97080" y="228600"/>
            <a:ext cx="2952360" cy="4571640"/>
            <a:chOff x="3097080" y="228600"/>
            <a:chExt cx="2952360" cy="4571640"/>
          </a:xfrm>
        </p:grpSpPr>
        <p:sp>
          <p:nvSpPr>
            <p:cNvPr id="90" name=""/>
            <p:cNvSpPr/>
            <p:nvPr/>
          </p:nvSpPr>
          <p:spPr>
            <a:xfrm>
              <a:off x="3097080" y="371952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Э Ю 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7080" y="2286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 Д 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7080" y="13924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 О П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7080" y="25560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 Ч Ш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8640" y="811080"/>
            <a:ext cx="2952360" cy="3406680"/>
            <a:chOff x="458640" y="811080"/>
            <a:chExt cx="2952360" cy="3406680"/>
          </a:xfrm>
        </p:grpSpPr>
        <p:sp>
          <p:nvSpPr>
            <p:cNvPr id="95" name=""/>
            <p:cNvSpPr/>
            <p:nvPr/>
          </p:nvSpPr>
          <p:spPr>
            <a:xfrm>
              <a:off x="45864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Б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864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 Л 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64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 Ф Х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914400" y="480060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сновное устройство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ывода информации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796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21160" y="3886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88040" y="3276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4840" y="274320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4280" y="3276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88040" y="2133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1160" y="1600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01208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1160" y="380880"/>
            <a:ext cx="314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4280" y="2133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5680" y="5791320"/>
            <a:ext cx="118404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308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9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8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6604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8769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8T12:36:4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