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E3B-0ED4-46D7-AC15-5B0071D2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C7A-FFF4-42EC-9D42-B552C446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C38-CEEB-4126-B11A-1CE8B790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DC2-2ED0-48C9-AC65-66247973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9EB-A749-4B3E-BC0A-32FEB71B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DD4-9AAA-497A-ABD2-80512FE1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A51-3B5A-4591-943B-6005454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EFD-A13F-4A3E-9B15-8BFAD39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C50-E8E8-4A6D-BEA3-2E51467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C5D-3FB6-4C72-B705-9C24BED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000-62FE-478F-9B9D-86A1B20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72D-43F6-4E0F-A8AD-7327B75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0F8D-7D4D-4477-ADCC-47C431B87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obg/Pozhar/0002-001-Eti-vrednye-sestrichki-Ukhvatili-utrom-spichki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6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28760" y="1429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Муниципальное казё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«Средняя общеобразовательная школа №1 города Сузда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-139680" y="3492360"/>
            <a:ext cx="682164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643800" y="5786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лотни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357960" y="357120"/>
            <a:ext cx="2581200" cy="2635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928800" y="2858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г) переложите 2 спички так, чтобы образовалось 7 квадр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785960" y="2048760"/>
            <a:ext cx="1643040" cy="1542600"/>
            <a:chOff x="1785960" y="2048760"/>
            <a:chExt cx="1643040" cy="1542600"/>
          </a:xfrm>
        </p:grpSpPr>
        <p:sp>
          <p:nvSpPr>
            <p:cNvPr id="231" name="AutoShape 12"/>
            <p:cNvSpPr/>
            <p:nvPr/>
          </p:nvSpPr>
          <p:spPr>
            <a:xfrm rot="2752800">
              <a:off x="201960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 rot="2752800">
              <a:off x="326448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"/>
          <p:cNvGrpSpPr/>
          <p:nvPr/>
        </p:nvGrpSpPr>
        <p:grpSpPr>
          <a:xfrm>
            <a:off x="3286080" y="2048760"/>
            <a:ext cx="1643040" cy="1542600"/>
            <a:chOff x="3286080" y="2048760"/>
            <a:chExt cx="1643040" cy="1542600"/>
          </a:xfrm>
        </p:grpSpPr>
        <p:sp>
          <p:nvSpPr>
            <p:cNvPr id="234" name="AutoShape 12"/>
            <p:cNvSpPr/>
            <p:nvPr/>
          </p:nvSpPr>
          <p:spPr>
            <a:xfrm rot="2752800">
              <a:off x="351972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 rot="2752800">
              <a:off x="476460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1785960" y="3620520"/>
            <a:ext cx="1643040" cy="1542600"/>
            <a:chOff x="1785960" y="3620520"/>
            <a:chExt cx="1643040" cy="1542600"/>
          </a:xfrm>
        </p:grpSpPr>
        <p:sp>
          <p:nvSpPr>
            <p:cNvPr id="237" name="AutoShape 12"/>
            <p:cNvSpPr/>
            <p:nvPr/>
          </p:nvSpPr>
          <p:spPr>
            <a:xfrm rot="2752800">
              <a:off x="2019600" y="38383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 rot="2752800">
              <a:off x="3264480" y="4326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3357360" y="3620520"/>
            <a:ext cx="1642680" cy="1542240"/>
            <a:chOff x="3357360" y="3620520"/>
            <a:chExt cx="1642680" cy="1542240"/>
          </a:xfrm>
        </p:grpSpPr>
        <p:sp>
          <p:nvSpPr>
            <p:cNvPr id="240" name="AutoShape 12"/>
            <p:cNvSpPr/>
            <p:nvPr/>
          </p:nvSpPr>
          <p:spPr>
            <a:xfrm rot="2752800">
              <a:off x="3591000" y="383832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 rot="2752800">
              <a:off x="4835520" y="4326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2548800" y="2786040"/>
            <a:ext cx="1542600" cy="1643040"/>
            <a:chOff x="2548800" y="2786040"/>
            <a:chExt cx="1542600" cy="1643040"/>
          </a:xfrm>
        </p:grpSpPr>
        <p:sp>
          <p:nvSpPr>
            <p:cNvPr id="243" name="AutoShape 12"/>
            <p:cNvSpPr/>
            <p:nvPr/>
          </p:nvSpPr>
          <p:spPr>
            <a:xfrm rot="18939600">
              <a:off x="278208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 rot="18939600">
              <a:off x="325332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548800" y="4286160"/>
            <a:ext cx="1542600" cy="1643040"/>
            <a:chOff x="2548800" y="4286160"/>
            <a:chExt cx="1542600" cy="1643040"/>
          </a:xfrm>
        </p:grpSpPr>
        <p:sp>
          <p:nvSpPr>
            <p:cNvPr id="246" name="AutoShape 12"/>
            <p:cNvSpPr/>
            <p:nvPr/>
          </p:nvSpPr>
          <p:spPr>
            <a:xfrm rot="18939600">
              <a:off x="2782080" y="46040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 rot="18939600">
              <a:off x="3253320" y="4313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4120560" y="2786040"/>
            <a:ext cx="1542600" cy="1643040"/>
            <a:chOff x="4120560" y="2786040"/>
            <a:chExt cx="1542600" cy="1643040"/>
          </a:xfrm>
        </p:grpSpPr>
        <p:sp>
          <p:nvSpPr>
            <p:cNvPr id="249" name="AutoShape 12"/>
            <p:cNvSpPr/>
            <p:nvPr/>
          </p:nvSpPr>
          <p:spPr>
            <a:xfrm rot="18939600">
              <a:off x="435384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 rot="18939600">
              <a:off x="482508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1048680" y="2786040"/>
            <a:ext cx="1542600" cy="1643040"/>
            <a:chOff x="1048680" y="2786040"/>
            <a:chExt cx="1542600" cy="1643040"/>
          </a:xfrm>
        </p:grpSpPr>
        <p:sp>
          <p:nvSpPr>
            <p:cNvPr id="252" name="AutoShape 12"/>
            <p:cNvSpPr/>
            <p:nvPr/>
          </p:nvSpPr>
          <p:spPr>
            <a:xfrm rot="18939600">
              <a:off x="1281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"/>
            <p:cNvSpPr/>
            <p:nvPr/>
          </p:nvSpPr>
          <p:spPr>
            <a:xfrm rot="18939600">
              <a:off x="175320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4120560" y="4357800"/>
            <a:ext cx="1542600" cy="1643040"/>
            <a:chOff x="4120560" y="4357800"/>
            <a:chExt cx="1542600" cy="1643040"/>
          </a:xfrm>
        </p:grpSpPr>
        <p:sp>
          <p:nvSpPr>
            <p:cNvPr id="255" name="AutoShape 12"/>
            <p:cNvSpPr/>
            <p:nvPr/>
          </p:nvSpPr>
          <p:spPr>
            <a:xfrm rot="18939600">
              <a:off x="435384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 rot="18939600">
              <a:off x="482508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1048680" y="4357800"/>
            <a:ext cx="1542600" cy="1643040"/>
            <a:chOff x="1048680" y="4357800"/>
            <a:chExt cx="1542600" cy="1643040"/>
          </a:xfrm>
        </p:grpSpPr>
        <p:sp>
          <p:nvSpPr>
            <p:cNvPr id="258" name="AutoShape 12"/>
            <p:cNvSpPr/>
            <p:nvPr/>
          </p:nvSpPr>
          <p:spPr>
            <a:xfrm rot="18939600">
              <a:off x="128196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3"/>
            <p:cNvSpPr/>
            <p:nvPr/>
          </p:nvSpPr>
          <p:spPr>
            <a:xfrm rot="18939600">
              <a:off x="175320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1714320" y="5120640"/>
            <a:ext cx="1642680" cy="1542240"/>
            <a:chOff x="1714320" y="5120640"/>
            <a:chExt cx="1642680" cy="1542240"/>
          </a:xfrm>
        </p:grpSpPr>
        <p:sp>
          <p:nvSpPr>
            <p:cNvPr id="261" name="AutoShape 12"/>
            <p:cNvSpPr/>
            <p:nvPr/>
          </p:nvSpPr>
          <p:spPr>
            <a:xfrm rot="2752800">
              <a:off x="1947960" y="533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 rot="2752800">
              <a:off x="3192480" y="5826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3286080" y="5120640"/>
            <a:ext cx="1643040" cy="1542600"/>
            <a:chOff x="3286080" y="5120640"/>
            <a:chExt cx="1643040" cy="1542600"/>
          </a:xfrm>
        </p:grpSpPr>
        <p:sp>
          <p:nvSpPr>
            <p:cNvPr id="264" name="AutoShape 12"/>
            <p:cNvSpPr/>
            <p:nvPr/>
          </p:nvSpPr>
          <p:spPr>
            <a:xfrm rot="2752800">
              <a:off x="3519720" y="5338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 rot="2752800">
              <a:off x="4764600" y="5826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1"/>
          <p:cNvGrpSpPr/>
          <p:nvPr/>
        </p:nvGrpSpPr>
        <p:grpSpPr>
          <a:xfrm>
            <a:off x="3286080" y="2905920"/>
            <a:ext cx="1643400" cy="1542960"/>
            <a:chOff x="3286080" y="2905920"/>
            <a:chExt cx="1643400" cy="1542960"/>
          </a:xfrm>
        </p:grpSpPr>
        <p:sp>
          <p:nvSpPr>
            <p:cNvPr id="267" name="AutoShape 12"/>
            <p:cNvSpPr/>
            <p:nvPr/>
          </p:nvSpPr>
          <p:spPr>
            <a:xfrm rot="2752800">
              <a:off x="3519720" y="312372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 rot="2752800">
              <a:off x="4764960" y="3611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3334680" y="2786040"/>
            <a:ext cx="1542960" cy="1643040"/>
            <a:chOff x="3334680" y="2786040"/>
            <a:chExt cx="1542960" cy="1643040"/>
          </a:xfrm>
        </p:grpSpPr>
        <p:sp>
          <p:nvSpPr>
            <p:cNvPr id="270" name="AutoShape 12"/>
            <p:cNvSpPr/>
            <p:nvPr/>
          </p:nvSpPr>
          <p:spPr>
            <a:xfrm rot="18937200">
              <a:off x="3567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 rot="18937200">
              <a:off x="4038840" y="281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71680" y="228600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143000" y="142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) переложите 4 спички так, чтобы образовалось 10 квад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7407000" y="2071800"/>
            <a:ext cx="1542960" cy="1643040"/>
            <a:chOff x="7407000" y="2071800"/>
            <a:chExt cx="1542960" cy="1643040"/>
          </a:xfrm>
        </p:grpSpPr>
        <p:sp>
          <p:nvSpPr>
            <p:cNvPr id="280" name="AutoShape 12"/>
            <p:cNvSpPr/>
            <p:nvPr/>
          </p:nvSpPr>
          <p:spPr>
            <a:xfrm rot="18907800">
              <a:off x="7640640" y="2389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 rot="18907800">
              <a:off x="8104320" y="2099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1"/>
          <p:cNvGrpSpPr/>
          <p:nvPr/>
        </p:nvGrpSpPr>
        <p:grpSpPr>
          <a:xfrm>
            <a:off x="4049280" y="3785760"/>
            <a:ext cx="1543320" cy="1643400"/>
            <a:chOff x="4049280" y="3785760"/>
            <a:chExt cx="1543320" cy="1643400"/>
          </a:xfrm>
        </p:grpSpPr>
        <p:sp>
          <p:nvSpPr>
            <p:cNvPr id="283" name="AutoShape 12"/>
            <p:cNvSpPr/>
            <p:nvPr/>
          </p:nvSpPr>
          <p:spPr>
            <a:xfrm rot="18907800">
              <a:off x="4282920" y="41036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 rot="18907800">
              <a:off x="4746960" y="3813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4857840" y="4621320"/>
            <a:ext cx="1642680" cy="1543320"/>
            <a:chOff x="4857840" y="4621320"/>
            <a:chExt cx="1642680" cy="1543320"/>
          </a:xfrm>
        </p:grpSpPr>
        <p:sp>
          <p:nvSpPr>
            <p:cNvPr id="286" name="AutoShape 12"/>
            <p:cNvSpPr/>
            <p:nvPr/>
          </p:nvSpPr>
          <p:spPr>
            <a:xfrm rot="2658000">
              <a:off x="509148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 rot="2658000">
              <a:off x="633636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6572520" y="1406880"/>
            <a:ext cx="1641960" cy="1542960"/>
            <a:chOff x="6572520" y="1406880"/>
            <a:chExt cx="1641960" cy="1542960"/>
          </a:xfrm>
        </p:grpSpPr>
        <p:sp>
          <p:nvSpPr>
            <p:cNvPr id="289" name="AutoShape 12"/>
            <p:cNvSpPr/>
            <p:nvPr/>
          </p:nvSpPr>
          <p:spPr>
            <a:xfrm rot="2658000">
              <a:off x="680580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"/>
            <p:cNvSpPr/>
            <p:nvPr/>
          </p:nvSpPr>
          <p:spPr>
            <a:xfrm rot="2658000">
              <a:off x="805032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6572160" y="2978280"/>
            <a:ext cx="1642680" cy="1543320"/>
            <a:chOff x="6572160" y="2978280"/>
            <a:chExt cx="1642680" cy="1543320"/>
          </a:xfrm>
        </p:grpSpPr>
        <p:sp>
          <p:nvSpPr>
            <p:cNvPr id="292" name="AutoShape 12"/>
            <p:cNvSpPr/>
            <p:nvPr/>
          </p:nvSpPr>
          <p:spPr>
            <a:xfrm rot="2658000">
              <a:off x="6805800" y="3196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2658000">
              <a:off x="8050680" y="36630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"/>
          <p:cNvGrpSpPr/>
          <p:nvPr/>
        </p:nvGrpSpPr>
        <p:grpSpPr>
          <a:xfrm>
            <a:off x="5763960" y="2143080"/>
            <a:ext cx="1542960" cy="1643040"/>
            <a:chOff x="5763960" y="2143080"/>
            <a:chExt cx="1542960" cy="1643040"/>
          </a:xfrm>
        </p:grpSpPr>
        <p:sp>
          <p:nvSpPr>
            <p:cNvPr id="295" name="AutoShape 12"/>
            <p:cNvSpPr/>
            <p:nvPr/>
          </p:nvSpPr>
          <p:spPr>
            <a:xfrm rot="18907800">
              <a:off x="5997600" y="2460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 rot="18907800">
              <a:off x="6461280" y="2170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1"/>
          <p:cNvGrpSpPr/>
          <p:nvPr/>
        </p:nvGrpSpPr>
        <p:grpSpPr>
          <a:xfrm>
            <a:off x="5763960" y="3786120"/>
            <a:ext cx="1542960" cy="1643040"/>
            <a:chOff x="5763960" y="3786120"/>
            <a:chExt cx="1542960" cy="1643040"/>
          </a:xfrm>
        </p:grpSpPr>
        <p:sp>
          <p:nvSpPr>
            <p:cNvPr id="298" name="AutoShape 12"/>
            <p:cNvSpPr/>
            <p:nvPr/>
          </p:nvSpPr>
          <p:spPr>
            <a:xfrm rot="18907800">
              <a:off x="599760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 rot="18907800">
              <a:off x="646128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4858200" y="3049920"/>
            <a:ext cx="1641960" cy="1542960"/>
            <a:chOff x="4858200" y="3049920"/>
            <a:chExt cx="1641960" cy="1542960"/>
          </a:xfrm>
        </p:grpSpPr>
        <p:sp>
          <p:nvSpPr>
            <p:cNvPr id="301" name="AutoShape 12"/>
            <p:cNvSpPr/>
            <p:nvPr/>
          </p:nvSpPr>
          <p:spPr>
            <a:xfrm rot="2658000">
              <a:off x="5091480" y="32680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 rot="2658000">
              <a:off x="6336000" y="373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4858200" y="1406880"/>
            <a:ext cx="1641960" cy="1542960"/>
            <a:chOff x="4858200" y="1406880"/>
            <a:chExt cx="1641960" cy="1542960"/>
          </a:xfrm>
        </p:grpSpPr>
        <p:sp>
          <p:nvSpPr>
            <p:cNvPr id="304" name="AutoShape 12"/>
            <p:cNvSpPr/>
            <p:nvPr/>
          </p:nvSpPr>
          <p:spPr>
            <a:xfrm rot="2658000">
              <a:off x="509148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"/>
            <p:cNvSpPr/>
            <p:nvPr/>
          </p:nvSpPr>
          <p:spPr>
            <a:xfrm rot="2658000">
              <a:off x="633600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6572160" y="4621320"/>
            <a:ext cx="1642680" cy="1543320"/>
            <a:chOff x="6572160" y="4621320"/>
            <a:chExt cx="1642680" cy="1543320"/>
          </a:xfrm>
        </p:grpSpPr>
        <p:sp>
          <p:nvSpPr>
            <p:cNvPr id="307" name="AutoShape 12"/>
            <p:cNvSpPr/>
            <p:nvPr/>
          </p:nvSpPr>
          <p:spPr>
            <a:xfrm rot="2658000">
              <a:off x="680580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 rot="2658000">
              <a:off x="805068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1"/>
          <p:cNvGrpSpPr/>
          <p:nvPr/>
        </p:nvGrpSpPr>
        <p:grpSpPr>
          <a:xfrm>
            <a:off x="4049280" y="2142720"/>
            <a:ext cx="1543320" cy="1643400"/>
            <a:chOff x="4049280" y="2142720"/>
            <a:chExt cx="1543320" cy="1643400"/>
          </a:xfrm>
        </p:grpSpPr>
        <p:sp>
          <p:nvSpPr>
            <p:cNvPr id="310" name="AutoShape 12"/>
            <p:cNvSpPr/>
            <p:nvPr/>
          </p:nvSpPr>
          <p:spPr>
            <a:xfrm rot="18907800">
              <a:off x="4282920" y="246060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 rot="18907800">
              <a:off x="4746960" y="217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"/>
          <p:cNvGrpSpPr/>
          <p:nvPr/>
        </p:nvGrpSpPr>
        <p:grpSpPr>
          <a:xfrm>
            <a:off x="7407000" y="3714840"/>
            <a:ext cx="1542960" cy="1643040"/>
            <a:chOff x="7407000" y="3714840"/>
            <a:chExt cx="1542960" cy="1643040"/>
          </a:xfrm>
        </p:grpSpPr>
        <p:sp>
          <p:nvSpPr>
            <p:cNvPr id="313" name="AutoShape 12"/>
            <p:cNvSpPr/>
            <p:nvPr/>
          </p:nvSpPr>
          <p:spPr>
            <a:xfrm rot="18907800">
              <a:off x="7640640" y="4032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 rot="18907800">
              <a:off x="8104320" y="3742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6572160" y="2192400"/>
            <a:ext cx="1642680" cy="1543320"/>
            <a:chOff x="6572160" y="2192400"/>
            <a:chExt cx="1642680" cy="1543320"/>
          </a:xfrm>
        </p:grpSpPr>
        <p:sp>
          <p:nvSpPr>
            <p:cNvPr id="316" name="AutoShape 12"/>
            <p:cNvSpPr/>
            <p:nvPr/>
          </p:nvSpPr>
          <p:spPr>
            <a:xfrm rot="2658000">
              <a:off x="6805800" y="2410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 rot="2658000">
              <a:off x="8050680" y="2877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6621480" y="2214000"/>
            <a:ext cx="1543320" cy="1643400"/>
            <a:chOff x="6621480" y="2214000"/>
            <a:chExt cx="1543320" cy="1643400"/>
          </a:xfrm>
        </p:grpSpPr>
        <p:sp>
          <p:nvSpPr>
            <p:cNvPr id="319" name="AutoShape 12"/>
            <p:cNvSpPr/>
            <p:nvPr/>
          </p:nvSpPr>
          <p:spPr>
            <a:xfrm rot="18881400">
              <a:off x="6855120" y="25322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3"/>
            <p:cNvSpPr/>
            <p:nvPr/>
          </p:nvSpPr>
          <p:spPr>
            <a:xfrm rot="18881400">
              <a:off x="7313400" y="2241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4857840" y="3835440"/>
            <a:ext cx="1642680" cy="1543320"/>
            <a:chOff x="4857840" y="3835440"/>
            <a:chExt cx="1642680" cy="1543320"/>
          </a:xfrm>
        </p:grpSpPr>
        <p:sp>
          <p:nvSpPr>
            <p:cNvPr id="322" name="AutoShape 12"/>
            <p:cNvSpPr/>
            <p:nvPr/>
          </p:nvSpPr>
          <p:spPr>
            <a:xfrm rot="2658000">
              <a:off x="5091480" y="4053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3"/>
            <p:cNvSpPr/>
            <p:nvPr/>
          </p:nvSpPr>
          <p:spPr>
            <a:xfrm rot="2658000">
              <a:off x="6336360" y="4520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4906440" y="3786120"/>
            <a:ext cx="1542960" cy="1643040"/>
            <a:chOff x="4906440" y="3786120"/>
            <a:chExt cx="1542960" cy="1643040"/>
          </a:xfrm>
        </p:grpSpPr>
        <p:sp>
          <p:nvSpPr>
            <p:cNvPr id="325" name="AutoShape 12"/>
            <p:cNvSpPr/>
            <p:nvPr/>
          </p:nvSpPr>
          <p:spPr>
            <a:xfrm rot="18939000">
              <a:off x="513972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 rot="18939000">
              <a:off x="561096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1143000" y="2142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еложите четыре спички из шестнадцати, чтобы получилось три квадр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Четыре из шестнадцати"/>
          <p:cNvPicPr/>
          <p:nvPr/>
        </p:nvPicPr>
        <p:blipFill>
          <a:blip r:embed="rId2"/>
          <a:stretch/>
        </p:blipFill>
        <p:spPr>
          <a:xfrm>
            <a:off x="6000840" y="14292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37080" y="3643200"/>
            <a:ext cx="1197720" cy="1274760"/>
            <a:chOff x="37080" y="3643200"/>
            <a:chExt cx="1197720" cy="1274760"/>
          </a:xfrm>
        </p:grpSpPr>
        <p:sp>
          <p:nvSpPr>
            <p:cNvPr id="334" name="AutoShape 12"/>
            <p:cNvSpPr/>
            <p:nvPr/>
          </p:nvSpPr>
          <p:spPr>
            <a:xfrm rot="18879000">
              <a:off x="20916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 rot="18879000">
              <a:off x="58536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337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37080" y="2357640"/>
            <a:ext cx="1197360" cy="1274760"/>
            <a:chOff x="37080" y="2357640"/>
            <a:chExt cx="1197360" cy="1274760"/>
          </a:xfrm>
        </p:grpSpPr>
        <p:sp>
          <p:nvSpPr>
            <p:cNvPr id="340" name="AutoShape 12"/>
            <p:cNvSpPr/>
            <p:nvPr/>
          </p:nvSpPr>
          <p:spPr>
            <a:xfrm rot="18879000">
              <a:off x="20952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 rot="18879000">
              <a:off x="585000" y="2379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42600" y="5466240"/>
            <a:ext cx="1275120" cy="1197720"/>
            <a:chOff x="642600" y="5466240"/>
            <a:chExt cx="1275120" cy="1197720"/>
          </a:xfrm>
        </p:grpSpPr>
        <p:sp>
          <p:nvSpPr>
            <p:cNvPr id="343" name="AutoShape 12"/>
            <p:cNvSpPr/>
            <p:nvPr/>
          </p:nvSpPr>
          <p:spPr>
            <a:xfrm rot="2681400">
              <a:off x="815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 rot="2681400">
              <a:off x="178920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1856880" y="5466240"/>
            <a:ext cx="1275120" cy="1197720"/>
            <a:chOff x="1856880" y="5466240"/>
            <a:chExt cx="1275120" cy="1197720"/>
          </a:xfrm>
        </p:grpSpPr>
        <p:sp>
          <p:nvSpPr>
            <p:cNvPr id="346" name="AutoShape 12"/>
            <p:cNvSpPr/>
            <p:nvPr/>
          </p:nvSpPr>
          <p:spPr>
            <a:xfrm rot="2681400">
              <a:off x="202932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 rot="2681400">
              <a:off x="300348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3071520" y="5466240"/>
            <a:ext cx="1275120" cy="1197720"/>
            <a:chOff x="3071520" y="5466240"/>
            <a:chExt cx="1275120" cy="1197720"/>
          </a:xfrm>
        </p:grpSpPr>
        <p:sp>
          <p:nvSpPr>
            <p:cNvPr id="349" name="AutoShape 12"/>
            <p:cNvSpPr/>
            <p:nvPr/>
          </p:nvSpPr>
          <p:spPr>
            <a:xfrm rot="2681400">
              <a:off x="324396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"/>
            <p:cNvSpPr/>
            <p:nvPr/>
          </p:nvSpPr>
          <p:spPr>
            <a:xfrm rot="2681400">
              <a:off x="421812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"/>
          <p:cNvGrpSpPr/>
          <p:nvPr/>
        </p:nvGrpSpPr>
        <p:grpSpPr>
          <a:xfrm>
            <a:off x="642600" y="1823040"/>
            <a:ext cx="1275120" cy="1197720"/>
            <a:chOff x="642600" y="1823040"/>
            <a:chExt cx="1275120" cy="1197720"/>
          </a:xfrm>
        </p:grpSpPr>
        <p:sp>
          <p:nvSpPr>
            <p:cNvPr id="352" name="AutoShape 12"/>
            <p:cNvSpPr/>
            <p:nvPr/>
          </p:nvSpPr>
          <p:spPr>
            <a:xfrm rot="2681400">
              <a:off x="81504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 rot="2681400">
              <a:off x="178920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1856880" y="1823040"/>
            <a:ext cx="1275120" cy="1197720"/>
            <a:chOff x="1856880" y="1823040"/>
            <a:chExt cx="1275120" cy="1197720"/>
          </a:xfrm>
        </p:grpSpPr>
        <p:sp>
          <p:nvSpPr>
            <p:cNvPr id="355" name="AutoShape 12"/>
            <p:cNvSpPr/>
            <p:nvPr/>
          </p:nvSpPr>
          <p:spPr>
            <a:xfrm rot="2681400">
              <a:off x="202932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 rot="2681400">
              <a:off x="300348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3071520" y="1823040"/>
            <a:ext cx="1275120" cy="1197720"/>
            <a:chOff x="3071520" y="1823040"/>
            <a:chExt cx="1275120" cy="1197720"/>
          </a:xfrm>
        </p:grpSpPr>
        <p:sp>
          <p:nvSpPr>
            <p:cNvPr id="358" name="AutoShape 12"/>
            <p:cNvSpPr/>
            <p:nvPr/>
          </p:nvSpPr>
          <p:spPr>
            <a:xfrm rot="2681400">
              <a:off x="324396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 rot="2681400">
              <a:off x="421812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3751920" y="2428920"/>
            <a:ext cx="1197720" cy="1274760"/>
            <a:chOff x="3751920" y="2428920"/>
            <a:chExt cx="1197720" cy="1274760"/>
          </a:xfrm>
        </p:grpSpPr>
        <p:sp>
          <p:nvSpPr>
            <p:cNvPr id="361" name="AutoShape 12"/>
            <p:cNvSpPr/>
            <p:nvPr/>
          </p:nvSpPr>
          <p:spPr>
            <a:xfrm rot="18879000">
              <a:off x="3924000" y="2684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 rot="18879000">
              <a:off x="4300200" y="2450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3751920" y="3643200"/>
            <a:ext cx="1197720" cy="1274760"/>
            <a:chOff x="3751920" y="3643200"/>
            <a:chExt cx="1197720" cy="1274760"/>
          </a:xfrm>
        </p:grpSpPr>
        <p:sp>
          <p:nvSpPr>
            <p:cNvPr id="364" name="AutoShape 12"/>
            <p:cNvSpPr/>
            <p:nvPr/>
          </p:nvSpPr>
          <p:spPr>
            <a:xfrm rot="18879000">
              <a:off x="392400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 rot="18879000">
              <a:off x="430020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1"/>
          <p:cNvGrpSpPr/>
          <p:nvPr/>
        </p:nvGrpSpPr>
        <p:grpSpPr>
          <a:xfrm>
            <a:off x="3751920" y="4786200"/>
            <a:ext cx="1197720" cy="1274760"/>
            <a:chOff x="3751920" y="4786200"/>
            <a:chExt cx="1197720" cy="1274760"/>
          </a:xfrm>
        </p:grpSpPr>
        <p:sp>
          <p:nvSpPr>
            <p:cNvPr id="367" name="AutoShape 12"/>
            <p:cNvSpPr/>
            <p:nvPr/>
          </p:nvSpPr>
          <p:spPr>
            <a:xfrm rot="18879000">
              <a:off x="3924000" y="504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3"/>
            <p:cNvSpPr/>
            <p:nvPr/>
          </p:nvSpPr>
          <p:spPr>
            <a:xfrm rot="18879000">
              <a:off x="4300200" y="4808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251720" y="3571920"/>
            <a:ext cx="1197360" cy="1274400"/>
            <a:chOff x="1251720" y="3571920"/>
            <a:chExt cx="1197360" cy="1274400"/>
          </a:xfrm>
        </p:grpSpPr>
        <p:sp>
          <p:nvSpPr>
            <p:cNvPr id="370" name="AutoShape 12"/>
            <p:cNvSpPr/>
            <p:nvPr/>
          </p:nvSpPr>
          <p:spPr>
            <a:xfrm rot="18879000">
              <a:off x="1423800" y="38271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 rot="18879000">
              <a:off x="1799640" y="35938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2466000" y="3571920"/>
            <a:ext cx="1197720" cy="1274760"/>
            <a:chOff x="2466000" y="3571920"/>
            <a:chExt cx="1197720" cy="1274760"/>
          </a:xfrm>
        </p:grpSpPr>
        <p:sp>
          <p:nvSpPr>
            <p:cNvPr id="373" name="AutoShape 12"/>
            <p:cNvSpPr/>
            <p:nvPr/>
          </p:nvSpPr>
          <p:spPr>
            <a:xfrm rot="18879000">
              <a:off x="263808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18879000">
              <a:off x="301428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"/>
          <p:cNvGrpSpPr/>
          <p:nvPr/>
        </p:nvGrpSpPr>
        <p:grpSpPr>
          <a:xfrm>
            <a:off x="1785600" y="4251960"/>
            <a:ext cx="1275120" cy="1197720"/>
            <a:chOff x="1785600" y="4251960"/>
            <a:chExt cx="1275120" cy="1197720"/>
          </a:xfrm>
        </p:grpSpPr>
        <p:sp>
          <p:nvSpPr>
            <p:cNvPr id="376" name="AutoShape 12"/>
            <p:cNvSpPr/>
            <p:nvPr/>
          </p:nvSpPr>
          <p:spPr>
            <a:xfrm rot="2681400">
              <a:off x="1958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 rot="2681400">
              <a:off x="2932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1785960" y="3037680"/>
            <a:ext cx="1274760" cy="1197360"/>
            <a:chOff x="1785960" y="3037680"/>
            <a:chExt cx="1274760" cy="1197360"/>
          </a:xfrm>
        </p:grpSpPr>
        <p:sp>
          <p:nvSpPr>
            <p:cNvPr id="379" name="AutoShape 12"/>
            <p:cNvSpPr/>
            <p:nvPr/>
          </p:nvSpPr>
          <p:spPr>
            <a:xfrm rot="2681400">
              <a:off x="195804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 rot="2681400">
              <a:off x="293220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3071880" y="3037680"/>
            <a:ext cx="1274760" cy="1197360"/>
            <a:chOff x="3071880" y="3037680"/>
            <a:chExt cx="1274760" cy="1197360"/>
          </a:xfrm>
        </p:grpSpPr>
        <p:sp>
          <p:nvSpPr>
            <p:cNvPr id="382" name="AutoShape 12"/>
            <p:cNvSpPr/>
            <p:nvPr/>
          </p:nvSpPr>
          <p:spPr>
            <a:xfrm rot="2681400">
              <a:off x="324396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"/>
            <p:cNvSpPr/>
            <p:nvPr/>
          </p:nvSpPr>
          <p:spPr>
            <a:xfrm rot="2681400">
              <a:off x="421812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466360" y="2357640"/>
            <a:ext cx="1197360" cy="1274400"/>
            <a:chOff x="2466360" y="2357640"/>
            <a:chExt cx="1197360" cy="1274400"/>
          </a:xfrm>
        </p:grpSpPr>
        <p:sp>
          <p:nvSpPr>
            <p:cNvPr id="385" name="AutoShape 12"/>
            <p:cNvSpPr/>
            <p:nvPr/>
          </p:nvSpPr>
          <p:spPr>
            <a:xfrm rot="18855600">
              <a:off x="263844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 rot="18855600">
              <a:off x="3010320" y="2379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1251000" y="4786560"/>
            <a:ext cx="1197360" cy="1274040"/>
            <a:chOff x="1251000" y="4786560"/>
            <a:chExt cx="1197360" cy="1274040"/>
          </a:xfrm>
        </p:grpSpPr>
        <p:sp>
          <p:nvSpPr>
            <p:cNvPr id="388" name="AutoShape 12"/>
            <p:cNvSpPr/>
            <p:nvPr/>
          </p:nvSpPr>
          <p:spPr>
            <a:xfrm rot="18964200">
              <a:off x="1423440" y="5041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"/>
            <p:cNvSpPr/>
            <p:nvPr/>
          </p:nvSpPr>
          <p:spPr>
            <a:xfrm rot="18964200">
              <a:off x="1813680" y="4808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642600" y="4251960"/>
            <a:ext cx="1275120" cy="1197720"/>
            <a:chOff x="642600" y="4251960"/>
            <a:chExt cx="1275120" cy="1197720"/>
          </a:xfrm>
        </p:grpSpPr>
        <p:sp>
          <p:nvSpPr>
            <p:cNvPr id="391" name="AutoShape 12"/>
            <p:cNvSpPr/>
            <p:nvPr/>
          </p:nvSpPr>
          <p:spPr>
            <a:xfrm rot="2681400">
              <a:off x="815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 rot="2681400">
              <a:off x="1789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1"/>
          <p:cNvGrpSpPr/>
          <p:nvPr/>
        </p:nvGrpSpPr>
        <p:grpSpPr>
          <a:xfrm>
            <a:off x="4191480" y="4214880"/>
            <a:ext cx="1197720" cy="1274760"/>
            <a:chOff x="4191480" y="4214880"/>
            <a:chExt cx="1197720" cy="1274760"/>
          </a:xfrm>
        </p:grpSpPr>
        <p:sp>
          <p:nvSpPr>
            <p:cNvPr id="394" name="AutoShape 12"/>
            <p:cNvSpPr/>
            <p:nvPr/>
          </p:nvSpPr>
          <p:spPr>
            <a:xfrm rot="18879000">
              <a:off x="436356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 rot="18879000">
              <a:off x="473976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4191480" y="5429160"/>
            <a:ext cx="1197720" cy="1274760"/>
            <a:chOff x="4191480" y="5429160"/>
            <a:chExt cx="1197720" cy="1274760"/>
          </a:xfrm>
        </p:grpSpPr>
        <p:sp>
          <p:nvSpPr>
            <p:cNvPr id="397" name="AutoShape 12"/>
            <p:cNvSpPr/>
            <p:nvPr/>
          </p:nvSpPr>
          <p:spPr>
            <a:xfrm rot="18879000">
              <a:off x="4363560" y="5684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3"/>
            <p:cNvSpPr/>
            <p:nvPr/>
          </p:nvSpPr>
          <p:spPr>
            <a:xfrm rot="18879000">
              <a:off x="4739760" y="54511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4191480" y="2928960"/>
            <a:ext cx="1197720" cy="1274760"/>
            <a:chOff x="4191480" y="2928960"/>
            <a:chExt cx="1197720" cy="1274760"/>
          </a:xfrm>
        </p:grpSpPr>
        <p:sp>
          <p:nvSpPr>
            <p:cNvPr id="400" name="AutoShape 12"/>
            <p:cNvSpPr/>
            <p:nvPr/>
          </p:nvSpPr>
          <p:spPr>
            <a:xfrm rot="18879000">
              <a:off x="4363560" y="3184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"/>
            <p:cNvSpPr/>
            <p:nvPr/>
          </p:nvSpPr>
          <p:spPr>
            <a:xfrm rot="18879000">
              <a:off x="4739760" y="2950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1"/>
          <p:cNvGrpSpPr/>
          <p:nvPr/>
        </p:nvGrpSpPr>
        <p:grpSpPr>
          <a:xfrm>
            <a:off x="4797000" y="6037920"/>
            <a:ext cx="1275120" cy="1197720"/>
            <a:chOff x="4797000" y="6037920"/>
            <a:chExt cx="1275120" cy="1197720"/>
          </a:xfrm>
        </p:grpSpPr>
        <p:sp>
          <p:nvSpPr>
            <p:cNvPr id="403" name="AutoShape 12"/>
            <p:cNvSpPr/>
            <p:nvPr/>
          </p:nvSpPr>
          <p:spPr>
            <a:xfrm rot="2681400">
              <a:off x="496944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 rot="2681400">
              <a:off x="594360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1"/>
          <p:cNvGrpSpPr/>
          <p:nvPr/>
        </p:nvGrpSpPr>
        <p:grpSpPr>
          <a:xfrm>
            <a:off x="6011640" y="6037920"/>
            <a:ext cx="1275120" cy="1197720"/>
            <a:chOff x="6011640" y="6037920"/>
            <a:chExt cx="1275120" cy="1197720"/>
          </a:xfrm>
        </p:grpSpPr>
        <p:sp>
          <p:nvSpPr>
            <p:cNvPr id="406" name="AutoShape 12"/>
            <p:cNvSpPr/>
            <p:nvPr/>
          </p:nvSpPr>
          <p:spPr>
            <a:xfrm rot="2681400">
              <a:off x="618408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 rot="2681400">
              <a:off x="715824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7225920" y="6037920"/>
            <a:ext cx="1275120" cy="1197720"/>
            <a:chOff x="7225920" y="6037920"/>
            <a:chExt cx="1275120" cy="1197720"/>
          </a:xfrm>
        </p:grpSpPr>
        <p:sp>
          <p:nvSpPr>
            <p:cNvPr id="409" name="AutoShape 12"/>
            <p:cNvSpPr/>
            <p:nvPr/>
          </p:nvSpPr>
          <p:spPr>
            <a:xfrm rot="2681400">
              <a:off x="739836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3"/>
            <p:cNvSpPr/>
            <p:nvPr/>
          </p:nvSpPr>
          <p:spPr>
            <a:xfrm rot="2681400">
              <a:off x="837252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4797360" y="2394720"/>
            <a:ext cx="1274760" cy="1197360"/>
            <a:chOff x="4797360" y="2394720"/>
            <a:chExt cx="1274760" cy="1197360"/>
          </a:xfrm>
        </p:grpSpPr>
        <p:sp>
          <p:nvSpPr>
            <p:cNvPr id="412" name="AutoShape 12"/>
            <p:cNvSpPr/>
            <p:nvPr/>
          </p:nvSpPr>
          <p:spPr>
            <a:xfrm rot="2681400">
              <a:off x="496944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 rot="2681400">
              <a:off x="594360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6012000" y="2394720"/>
            <a:ext cx="1274760" cy="1197360"/>
            <a:chOff x="6012000" y="2394720"/>
            <a:chExt cx="1274760" cy="1197360"/>
          </a:xfrm>
        </p:grpSpPr>
        <p:sp>
          <p:nvSpPr>
            <p:cNvPr id="415" name="AutoShape 12"/>
            <p:cNvSpPr/>
            <p:nvPr/>
          </p:nvSpPr>
          <p:spPr>
            <a:xfrm rot="2681400">
              <a:off x="618408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3"/>
            <p:cNvSpPr/>
            <p:nvPr/>
          </p:nvSpPr>
          <p:spPr>
            <a:xfrm rot="2681400">
              <a:off x="715824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7226280" y="2394720"/>
            <a:ext cx="1274760" cy="1197360"/>
            <a:chOff x="7226280" y="2394720"/>
            <a:chExt cx="1274760" cy="1197360"/>
          </a:xfrm>
        </p:grpSpPr>
        <p:sp>
          <p:nvSpPr>
            <p:cNvPr id="418" name="AutoShape 12"/>
            <p:cNvSpPr/>
            <p:nvPr/>
          </p:nvSpPr>
          <p:spPr>
            <a:xfrm rot="2681400">
              <a:off x="739836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 rot="2681400">
              <a:off x="837252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1"/>
          <p:cNvGrpSpPr/>
          <p:nvPr/>
        </p:nvGrpSpPr>
        <p:grpSpPr>
          <a:xfrm>
            <a:off x="7906320" y="3000240"/>
            <a:ext cx="1197720" cy="1274760"/>
            <a:chOff x="7906320" y="3000240"/>
            <a:chExt cx="1197720" cy="1274760"/>
          </a:xfrm>
        </p:grpSpPr>
        <p:sp>
          <p:nvSpPr>
            <p:cNvPr id="421" name="AutoShape 12"/>
            <p:cNvSpPr/>
            <p:nvPr/>
          </p:nvSpPr>
          <p:spPr>
            <a:xfrm rot="18879000">
              <a:off x="8078400" y="3255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 rot="18879000">
              <a:off x="8454600" y="3022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1"/>
          <p:cNvGrpSpPr/>
          <p:nvPr/>
        </p:nvGrpSpPr>
        <p:grpSpPr>
          <a:xfrm>
            <a:off x="7906320" y="4214880"/>
            <a:ext cx="1197720" cy="1274760"/>
            <a:chOff x="7906320" y="4214880"/>
            <a:chExt cx="1197720" cy="1274760"/>
          </a:xfrm>
        </p:grpSpPr>
        <p:sp>
          <p:nvSpPr>
            <p:cNvPr id="424" name="AutoShape 12"/>
            <p:cNvSpPr/>
            <p:nvPr/>
          </p:nvSpPr>
          <p:spPr>
            <a:xfrm rot="18879000">
              <a:off x="807840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 rot="18879000">
              <a:off x="845460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7906320" y="5357880"/>
            <a:ext cx="1197720" cy="1274760"/>
            <a:chOff x="7906320" y="5357880"/>
            <a:chExt cx="1197720" cy="1274760"/>
          </a:xfrm>
        </p:grpSpPr>
        <p:sp>
          <p:nvSpPr>
            <p:cNvPr id="427" name="AutoShape 12"/>
            <p:cNvSpPr/>
            <p:nvPr/>
          </p:nvSpPr>
          <p:spPr>
            <a:xfrm rot="18879000">
              <a:off x="807840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 rot="18879000">
              <a:off x="845460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"/>
          <p:cNvGrpSpPr/>
          <p:nvPr/>
        </p:nvGrpSpPr>
        <p:grpSpPr>
          <a:xfrm>
            <a:off x="5394960" y="4214880"/>
            <a:ext cx="1197720" cy="1274760"/>
            <a:chOff x="5394960" y="4214880"/>
            <a:chExt cx="1197720" cy="1274760"/>
          </a:xfrm>
        </p:grpSpPr>
        <p:sp>
          <p:nvSpPr>
            <p:cNvPr id="430" name="AutoShape 12"/>
            <p:cNvSpPr/>
            <p:nvPr/>
          </p:nvSpPr>
          <p:spPr>
            <a:xfrm rot="18879000">
              <a:off x="556704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18879000">
              <a:off x="594324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6620400" y="4143240"/>
            <a:ext cx="1197720" cy="1274760"/>
            <a:chOff x="6620400" y="4143240"/>
            <a:chExt cx="1197720" cy="1274760"/>
          </a:xfrm>
        </p:grpSpPr>
        <p:sp>
          <p:nvSpPr>
            <p:cNvPr id="433" name="AutoShape 12"/>
            <p:cNvSpPr/>
            <p:nvPr/>
          </p:nvSpPr>
          <p:spPr>
            <a:xfrm rot="18879000">
              <a:off x="6792480" y="4398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 rot="18879000">
              <a:off x="7168680" y="4165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5928840" y="4823280"/>
            <a:ext cx="1275120" cy="1197720"/>
            <a:chOff x="5928840" y="4823280"/>
            <a:chExt cx="1275120" cy="1197720"/>
          </a:xfrm>
        </p:grpSpPr>
        <p:sp>
          <p:nvSpPr>
            <p:cNvPr id="436" name="AutoShape 12"/>
            <p:cNvSpPr/>
            <p:nvPr/>
          </p:nvSpPr>
          <p:spPr>
            <a:xfrm rot="2681400">
              <a:off x="6101280" y="500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3"/>
            <p:cNvSpPr/>
            <p:nvPr/>
          </p:nvSpPr>
          <p:spPr>
            <a:xfrm rot="2681400">
              <a:off x="7075440" y="537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5928840" y="3609000"/>
            <a:ext cx="1275120" cy="1197720"/>
            <a:chOff x="5928840" y="3609000"/>
            <a:chExt cx="1275120" cy="1197720"/>
          </a:xfrm>
        </p:grpSpPr>
        <p:sp>
          <p:nvSpPr>
            <p:cNvPr id="439" name="AutoShape 12"/>
            <p:cNvSpPr/>
            <p:nvPr/>
          </p:nvSpPr>
          <p:spPr>
            <a:xfrm rot="2681400">
              <a:off x="6101280" y="378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3"/>
            <p:cNvSpPr/>
            <p:nvPr/>
          </p:nvSpPr>
          <p:spPr>
            <a:xfrm rot="2681400">
              <a:off x="7075440" y="415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1"/>
          <p:cNvGrpSpPr/>
          <p:nvPr/>
        </p:nvGrpSpPr>
        <p:grpSpPr>
          <a:xfrm>
            <a:off x="6609240" y="5286240"/>
            <a:ext cx="1197720" cy="1274760"/>
            <a:chOff x="6609240" y="5286240"/>
            <a:chExt cx="1197720" cy="1274760"/>
          </a:xfrm>
        </p:grpSpPr>
        <p:sp>
          <p:nvSpPr>
            <p:cNvPr id="442" name="AutoShape 12"/>
            <p:cNvSpPr/>
            <p:nvPr/>
          </p:nvSpPr>
          <p:spPr>
            <a:xfrm rot="18879000">
              <a:off x="6781320" y="554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 rot="18879000">
              <a:off x="7157520" y="5308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7214760" y="4824000"/>
            <a:ext cx="1274760" cy="1197360"/>
            <a:chOff x="7214760" y="4824000"/>
            <a:chExt cx="1274760" cy="1197360"/>
          </a:xfrm>
        </p:grpSpPr>
        <p:sp>
          <p:nvSpPr>
            <p:cNvPr id="445" name="AutoShape 12"/>
            <p:cNvSpPr/>
            <p:nvPr/>
          </p:nvSpPr>
          <p:spPr>
            <a:xfrm rot="2644200">
              <a:off x="7387200" y="5002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 rot="2644200">
              <a:off x="8361000" y="5366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1"/>
          <p:cNvGrpSpPr/>
          <p:nvPr/>
        </p:nvGrpSpPr>
        <p:grpSpPr>
          <a:xfrm>
            <a:off x="5394960" y="5357880"/>
            <a:ext cx="1197720" cy="1274760"/>
            <a:chOff x="5394960" y="5357880"/>
            <a:chExt cx="1197720" cy="1274760"/>
          </a:xfrm>
        </p:grpSpPr>
        <p:sp>
          <p:nvSpPr>
            <p:cNvPr id="448" name="AutoShape 12"/>
            <p:cNvSpPr/>
            <p:nvPr/>
          </p:nvSpPr>
          <p:spPr>
            <a:xfrm rot="18879000">
              <a:off x="556704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3"/>
            <p:cNvSpPr/>
            <p:nvPr/>
          </p:nvSpPr>
          <p:spPr>
            <a:xfrm rot="18879000">
              <a:off x="594324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785840" y="4896000"/>
            <a:ext cx="1274760" cy="1197360"/>
            <a:chOff x="4785840" y="4896000"/>
            <a:chExt cx="1274760" cy="1197360"/>
          </a:xfrm>
        </p:grpSpPr>
        <p:sp>
          <p:nvSpPr>
            <p:cNvPr id="451" name="AutoShape 12"/>
            <p:cNvSpPr/>
            <p:nvPr/>
          </p:nvSpPr>
          <p:spPr>
            <a:xfrm rot="2628000">
              <a:off x="4958280" y="50738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3"/>
            <p:cNvSpPr/>
            <p:nvPr/>
          </p:nvSpPr>
          <p:spPr>
            <a:xfrm rot="2628000">
              <a:off x="5932080" y="543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000080" y="50004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Фасад дома выложен из 11 спич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" descr="Дом с колоннами"/>
          <p:cNvPicPr/>
          <p:nvPr/>
        </p:nvPicPr>
        <p:blipFill>
          <a:blip r:embed="rId2"/>
          <a:stretch/>
        </p:blipFill>
        <p:spPr>
          <a:xfrm>
            <a:off x="5786280" y="1000080"/>
            <a:ext cx="3357720" cy="2314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-720" y="-27468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500040" y="107172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 переложите 2 спички, получ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и этом 11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переложите 4 спичк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учить фигуру с 15 квадра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право 9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461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1180080" y="4857840"/>
            <a:ext cx="1197720" cy="1274760"/>
            <a:chOff x="1180080" y="4857840"/>
            <a:chExt cx="1197720" cy="1274760"/>
          </a:xfrm>
        </p:grpSpPr>
        <p:sp>
          <p:nvSpPr>
            <p:cNvPr id="464" name="AutoShape 12"/>
            <p:cNvSpPr/>
            <p:nvPr/>
          </p:nvSpPr>
          <p:spPr>
            <a:xfrm rot="18879000">
              <a:off x="1352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 rot="18879000">
              <a:off x="1728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570600" y="4322160"/>
            <a:ext cx="1275840" cy="1198440"/>
            <a:chOff x="570600" y="4322160"/>
            <a:chExt cx="1275840" cy="1198440"/>
          </a:xfrm>
        </p:grpSpPr>
        <p:sp>
          <p:nvSpPr>
            <p:cNvPr id="467" name="AutoShape 12"/>
            <p:cNvSpPr/>
            <p:nvPr/>
          </p:nvSpPr>
          <p:spPr>
            <a:xfrm rot="2685600">
              <a:off x="743400" y="4500000"/>
              <a:ext cx="85248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"/>
            <p:cNvSpPr/>
            <p:nvPr/>
          </p:nvSpPr>
          <p:spPr>
            <a:xfrm rot="2685600">
              <a:off x="1717560" y="4871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1"/>
          <p:cNvGrpSpPr/>
          <p:nvPr/>
        </p:nvGrpSpPr>
        <p:grpSpPr>
          <a:xfrm>
            <a:off x="1785600" y="4323240"/>
            <a:ext cx="1275120" cy="1197720"/>
            <a:chOff x="1785600" y="4323240"/>
            <a:chExt cx="1275120" cy="1197720"/>
          </a:xfrm>
        </p:grpSpPr>
        <p:sp>
          <p:nvSpPr>
            <p:cNvPr id="470" name="AutoShape 12"/>
            <p:cNvSpPr/>
            <p:nvPr/>
          </p:nvSpPr>
          <p:spPr>
            <a:xfrm rot="2685600">
              <a:off x="195804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"/>
            <p:cNvSpPr/>
            <p:nvPr/>
          </p:nvSpPr>
          <p:spPr>
            <a:xfrm rot="2685600">
              <a:off x="293184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1"/>
          <p:cNvGrpSpPr/>
          <p:nvPr/>
        </p:nvGrpSpPr>
        <p:grpSpPr>
          <a:xfrm>
            <a:off x="571320" y="5466240"/>
            <a:ext cx="1274760" cy="1197360"/>
            <a:chOff x="571320" y="5466240"/>
            <a:chExt cx="1274760" cy="1197360"/>
          </a:xfrm>
        </p:grpSpPr>
        <p:sp>
          <p:nvSpPr>
            <p:cNvPr id="473" name="AutoShape 12"/>
            <p:cNvSpPr/>
            <p:nvPr/>
          </p:nvSpPr>
          <p:spPr>
            <a:xfrm rot="2685600">
              <a:off x="743760" y="5644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 rot="2685600">
              <a:off x="1717200" y="6015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1"/>
          <p:cNvGrpSpPr/>
          <p:nvPr/>
        </p:nvGrpSpPr>
        <p:grpSpPr>
          <a:xfrm>
            <a:off x="1785600" y="5466240"/>
            <a:ext cx="1275120" cy="1197720"/>
            <a:chOff x="1785600" y="5466240"/>
            <a:chExt cx="1275120" cy="1197720"/>
          </a:xfrm>
        </p:grpSpPr>
        <p:sp>
          <p:nvSpPr>
            <p:cNvPr id="476" name="AutoShape 12"/>
            <p:cNvSpPr/>
            <p:nvPr/>
          </p:nvSpPr>
          <p:spPr>
            <a:xfrm rot="2685600">
              <a:off x="1958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3"/>
            <p:cNvSpPr/>
            <p:nvPr/>
          </p:nvSpPr>
          <p:spPr>
            <a:xfrm rot="2685600">
              <a:off x="2931840" y="6016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1"/>
          <p:cNvGrpSpPr/>
          <p:nvPr/>
        </p:nvGrpSpPr>
        <p:grpSpPr>
          <a:xfrm>
            <a:off x="642960" y="4117680"/>
            <a:ext cx="1233360" cy="1153440"/>
            <a:chOff x="642960" y="4117680"/>
            <a:chExt cx="1233360" cy="1153440"/>
          </a:xfrm>
        </p:grpSpPr>
        <p:sp>
          <p:nvSpPr>
            <p:cNvPr id="479" name="AutoShape 12"/>
            <p:cNvSpPr/>
            <p:nvPr/>
          </p:nvSpPr>
          <p:spPr>
            <a:xfrm rot="1785600">
              <a:off x="795600" y="427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3"/>
            <p:cNvSpPr/>
            <p:nvPr/>
          </p:nvSpPr>
          <p:spPr>
            <a:xfrm rot="1785600">
              <a:off x="1749960" y="4489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1"/>
          <p:cNvGrpSpPr/>
          <p:nvPr/>
        </p:nvGrpSpPr>
        <p:grpSpPr>
          <a:xfrm>
            <a:off x="1840320" y="4081680"/>
            <a:ext cx="1222920" cy="1153800"/>
            <a:chOff x="1840320" y="4081680"/>
            <a:chExt cx="1222920" cy="1153800"/>
          </a:xfrm>
        </p:grpSpPr>
        <p:sp>
          <p:nvSpPr>
            <p:cNvPr id="482" name="AutoShape 12"/>
            <p:cNvSpPr/>
            <p:nvPr/>
          </p:nvSpPr>
          <p:spPr>
            <a:xfrm rot="3645600">
              <a:off x="1989000" y="423792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3"/>
            <p:cNvSpPr/>
            <p:nvPr/>
          </p:nvSpPr>
          <p:spPr>
            <a:xfrm rot="3645600">
              <a:off x="2937600" y="4774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"/>
          <p:cNvGrpSpPr/>
          <p:nvPr/>
        </p:nvGrpSpPr>
        <p:grpSpPr>
          <a:xfrm>
            <a:off x="2394720" y="4857840"/>
            <a:ext cx="1197360" cy="1274400"/>
            <a:chOff x="2394720" y="4857840"/>
            <a:chExt cx="1197360" cy="1274400"/>
          </a:xfrm>
        </p:grpSpPr>
        <p:sp>
          <p:nvSpPr>
            <p:cNvPr id="485" name="AutoShape 12"/>
            <p:cNvSpPr/>
            <p:nvPr/>
          </p:nvSpPr>
          <p:spPr>
            <a:xfrm rot="18879000">
              <a:off x="256680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3"/>
            <p:cNvSpPr/>
            <p:nvPr/>
          </p:nvSpPr>
          <p:spPr>
            <a:xfrm rot="18879000">
              <a:off x="294264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1"/>
          <p:cNvGrpSpPr/>
          <p:nvPr/>
        </p:nvGrpSpPr>
        <p:grpSpPr>
          <a:xfrm>
            <a:off x="608760" y="4857840"/>
            <a:ext cx="1197360" cy="1274400"/>
            <a:chOff x="608760" y="4857840"/>
            <a:chExt cx="1197360" cy="1274400"/>
          </a:xfrm>
        </p:grpSpPr>
        <p:sp>
          <p:nvSpPr>
            <p:cNvPr id="488" name="AutoShape 12"/>
            <p:cNvSpPr/>
            <p:nvPr/>
          </p:nvSpPr>
          <p:spPr>
            <a:xfrm rot="18879000">
              <a:off x="780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 rot="18879000">
              <a:off x="1156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1"/>
          <p:cNvGrpSpPr/>
          <p:nvPr/>
        </p:nvGrpSpPr>
        <p:grpSpPr>
          <a:xfrm>
            <a:off x="1751760" y="4857840"/>
            <a:ext cx="1197360" cy="1274400"/>
            <a:chOff x="1751760" y="4857840"/>
            <a:chExt cx="1197360" cy="1274400"/>
          </a:xfrm>
        </p:grpSpPr>
        <p:sp>
          <p:nvSpPr>
            <p:cNvPr id="491" name="AutoShape 12"/>
            <p:cNvSpPr/>
            <p:nvPr/>
          </p:nvSpPr>
          <p:spPr>
            <a:xfrm rot="18879000">
              <a:off x="1923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 rot="18879000">
              <a:off x="2299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1"/>
          <p:cNvGrpSpPr/>
          <p:nvPr/>
        </p:nvGrpSpPr>
        <p:grpSpPr>
          <a:xfrm>
            <a:off x="1785600" y="4894920"/>
            <a:ext cx="1275120" cy="1197720"/>
            <a:chOff x="1785600" y="4894920"/>
            <a:chExt cx="1275120" cy="1197720"/>
          </a:xfrm>
        </p:grpSpPr>
        <p:sp>
          <p:nvSpPr>
            <p:cNvPr id="494" name="AutoShape 12"/>
            <p:cNvSpPr/>
            <p:nvPr/>
          </p:nvSpPr>
          <p:spPr>
            <a:xfrm rot="2685600">
              <a:off x="1958040" y="507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"/>
            <p:cNvSpPr/>
            <p:nvPr/>
          </p:nvSpPr>
          <p:spPr>
            <a:xfrm rot="2685600">
              <a:off x="2931840" y="5445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1"/>
          <p:cNvGrpSpPr/>
          <p:nvPr/>
        </p:nvGrpSpPr>
        <p:grpSpPr>
          <a:xfrm>
            <a:off x="571320" y="4894920"/>
            <a:ext cx="1274760" cy="1197360"/>
            <a:chOff x="571320" y="4894920"/>
            <a:chExt cx="1274760" cy="1197360"/>
          </a:xfrm>
        </p:grpSpPr>
        <p:sp>
          <p:nvSpPr>
            <p:cNvPr id="497" name="AutoShape 12"/>
            <p:cNvSpPr/>
            <p:nvPr/>
          </p:nvSpPr>
          <p:spPr>
            <a:xfrm rot="2685600">
              <a:off x="743760" y="50731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 rot="2685600">
              <a:off x="1717200" y="5444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1"/>
          <p:cNvGrpSpPr/>
          <p:nvPr/>
        </p:nvGrpSpPr>
        <p:grpSpPr>
          <a:xfrm>
            <a:off x="3609000" y="4071960"/>
            <a:ext cx="1197720" cy="1274760"/>
            <a:chOff x="3609000" y="4071960"/>
            <a:chExt cx="1197720" cy="1274760"/>
          </a:xfrm>
        </p:grpSpPr>
        <p:sp>
          <p:nvSpPr>
            <p:cNvPr id="500" name="AutoShape 12"/>
            <p:cNvSpPr/>
            <p:nvPr/>
          </p:nvSpPr>
          <p:spPr>
            <a:xfrm rot="18879000">
              <a:off x="3781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3"/>
            <p:cNvSpPr/>
            <p:nvPr/>
          </p:nvSpPr>
          <p:spPr>
            <a:xfrm rot="18879000">
              <a:off x="4157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"/>
          <p:cNvGrpSpPr/>
          <p:nvPr/>
        </p:nvGrpSpPr>
        <p:grpSpPr>
          <a:xfrm>
            <a:off x="4752000" y="4071960"/>
            <a:ext cx="1197720" cy="1274760"/>
            <a:chOff x="4752000" y="4071960"/>
            <a:chExt cx="1197720" cy="1274760"/>
          </a:xfrm>
        </p:grpSpPr>
        <p:sp>
          <p:nvSpPr>
            <p:cNvPr id="503" name="AutoShape 12"/>
            <p:cNvSpPr/>
            <p:nvPr/>
          </p:nvSpPr>
          <p:spPr>
            <a:xfrm rot="18879000">
              <a:off x="4924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3"/>
            <p:cNvSpPr/>
            <p:nvPr/>
          </p:nvSpPr>
          <p:spPr>
            <a:xfrm rot="18879000">
              <a:off x="5300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4142160" y="3536280"/>
            <a:ext cx="1276200" cy="1198800"/>
            <a:chOff x="4142160" y="3536280"/>
            <a:chExt cx="1276200" cy="1198800"/>
          </a:xfrm>
        </p:grpSpPr>
        <p:sp>
          <p:nvSpPr>
            <p:cNvPr id="506" name="AutoShape 12"/>
            <p:cNvSpPr/>
            <p:nvPr/>
          </p:nvSpPr>
          <p:spPr>
            <a:xfrm rot="2685600">
              <a:off x="4314960" y="371412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3"/>
            <p:cNvSpPr/>
            <p:nvPr/>
          </p:nvSpPr>
          <p:spPr>
            <a:xfrm rot="2685600">
              <a:off x="5289480" y="4086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5357880" y="3537720"/>
            <a:ext cx="1274760" cy="1197360"/>
            <a:chOff x="5357880" y="3537720"/>
            <a:chExt cx="1274760" cy="1197360"/>
          </a:xfrm>
        </p:grpSpPr>
        <p:sp>
          <p:nvSpPr>
            <p:cNvPr id="509" name="AutoShape 12"/>
            <p:cNvSpPr/>
            <p:nvPr/>
          </p:nvSpPr>
          <p:spPr>
            <a:xfrm rot="2685600">
              <a:off x="5529960" y="3715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3"/>
            <p:cNvSpPr/>
            <p:nvPr/>
          </p:nvSpPr>
          <p:spPr>
            <a:xfrm rot="2685600">
              <a:off x="6504120" y="4087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1"/>
          <p:cNvGrpSpPr/>
          <p:nvPr/>
        </p:nvGrpSpPr>
        <p:grpSpPr>
          <a:xfrm>
            <a:off x="4143240" y="4680720"/>
            <a:ext cx="1274760" cy="1197360"/>
            <a:chOff x="4143240" y="4680720"/>
            <a:chExt cx="1274760" cy="1197360"/>
          </a:xfrm>
        </p:grpSpPr>
        <p:sp>
          <p:nvSpPr>
            <p:cNvPr id="512" name="AutoShape 12"/>
            <p:cNvSpPr/>
            <p:nvPr/>
          </p:nvSpPr>
          <p:spPr>
            <a:xfrm rot="2685600">
              <a:off x="431532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 rot="2685600">
              <a:off x="528948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5357880" y="4680720"/>
            <a:ext cx="1274760" cy="1197360"/>
            <a:chOff x="5357880" y="4680720"/>
            <a:chExt cx="1274760" cy="1197360"/>
          </a:xfrm>
        </p:grpSpPr>
        <p:sp>
          <p:nvSpPr>
            <p:cNvPr id="515" name="AutoShape 12"/>
            <p:cNvSpPr/>
            <p:nvPr/>
          </p:nvSpPr>
          <p:spPr>
            <a:xfrm rot="2685600">
              <a:off x="552996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3"/>
            <p:cNvSpPr/>
            <p:nvPr/>
          </p:nvSpPr>
          <p:spPr>
            <a:xfrm rot="2685600">
              <a:off x="650412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1"/>
          <p:cNvGrpSpPr/>
          <p:nvPr/>
        </p:nvGrpSpPr>
        <p:grpSpPr>
          <a:xfrm>
            <a:off x="4214880" y="3331800"/>
            <a:ext cx="1233000" cy="1153080"/>
            <a:chOff x="4214880" y="3331800"/>
            <a:chExt cx="1233000" cy="1153080"/>
          </a:xfrm>
        </p:grpSpPr>
        <p:sp>
          <p:nvSpPr>
            <p:cNvPr id="518" name="AutoShape 12"/>
            <p:cNvSpPr/>
            <p:nvPr/>
          </p:nvSpPr>
          <p:spPr>
            <a:xfrm rot="1785600">
              <a:off x="4367520" y="34876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 rot="1785600">
              <a:off x="5321520" y="3703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5412240" y="3295800"/>
            <a:ext cx="1222920" cy="1153800"/>
            <a:chOff x="5412240" y="3295800"/>
            <a:chExt cx="1222920" cy="1153800"/>
          </a:xfrm>
        </p:grpSpPr>
        <p:sp>
          <p:nvSpPr>
            <p:cNvPr id="521" name="AutoShape 12"/>
            <p:cNvSpPr/>
            <p:nvPr/>
          </p:nvSpPr>
          <p:spPr>
            <a:xfrm rot="3645600">
              <a:off x="5560920" y="3452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3"/>
            <p:cNvSpPr/>
            <p:nvPr/>
          </p:nvSpPr>
          <p:spPr>
            <a:xfrm rot="3645600">
              <a:off x="6509520" y="3988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966280" y="4071960"/>
            <a:ext cx="1197720" cy="1274760"/>
            <a:chOff x="5966280" y="4071960"/>
            <a:chExt cx="1197720" cy="1274760"/>
          </a:xfrm>
        </p:grpSpPr>
        <p:sp>
          <p:nvSpPr>
            <p:cNvPr id="524" name="AutoShape 12"/>
            <p:cNvSpPr/>
            <p:nvPr/>
          </p:nvSpPr>
          <p:spPr>
            <a:xfrm rot="18879000">
              <a:off x="61383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 rot="18879000">
              <a:off x="65145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4180680" y="4071960"/>
            <a:ext cx="1197360" cy="1274400"/>
            <a:chOff x="4180680" y="4071960"/>
            <a:chExt cx="1197360" cy="1274400"/>
          </a:xfrm>
        </p:grpSpPr>
        <p:sp>
          <p:nvSpPr>
            <p:cNvPr id="527" name="AutoShape 12"/>
            <p:cNvSpPr/>
            <p:nvPr/>
          </p:nvSpPr>
          <p:spPr>
            <a:xfrm rot="18879000">
              <a:off x="4352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"/>
            <p:cNvSpPr/>
            <p:nvPr/>
          </p:nvSpPr>
          <p:spPr>
            <a:xfrm rot="18879000">
              <a:off x="4728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1"/>
          <p:cNvGrpSpPr/>
          <p:nvPr/>
        </p:nvGrpSpPr>
        <p:grpSpPr>
          <a:xfrm>
            <a:off x="5323680" y="4071960"/>
            <a:ext cx="1197360" cy="1274400"/>
            <a:chOff x="5323680" y="4071960"/>
            <a:chExt cx="1197360" cy="1274400"/>
          </a:xfrm>
        </p:grpSpPr>
        <p:sp>
          <p:nvSpPr>
            <p:cNvPr id="530" name="AutoShape 12"/>
            <p:cNvSpPr/>
            <p:nvPr/>
          </p:nvSpPr>
          <p:spPr>
            <a:xfrm rot="18879000">
              <a:off x="5495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 rot="18879000">
              <a:off x="5871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357880" y="3894840"/>
            <a:ext cx="1274760" cy="1197360"/>
            <a:chOff x="5357880" y="3894840"/>
            <a:chExt cx="1274760" cy="1197360"/>
          </a:xfrm>
        </p:grpSpPr>
        <p:sp>
          <p:nvSpPr>
            <p:cNvPr id="533" name="AutoShape 12"/>
            <p:cNvSpPr/>
            <p:nvPr/>
          </p:nvSpPr>
          <p:spPr>
            <a:xfrm rot="2685600">
              <a:off x="5529960" y="407304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"/>
            <p:cNvSpPr/>
            <p:nvPr/>
          </p:nvSpPr>
          <p:spPr>
            <a:xfrm rot="2685600">
              <a:off x="6504120" y="4444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1"/>
          <p:cNvGrpSpPr/>
          <p:nvPr/>
        </p:nvGrpSpPr>
        <p:grpSpPr>
          <a:xfrm>
            <a:off x="5357520" y="4323240"/>
            <a:ext cx="1275120" cy="1197720"/>
            <a:chOff x="5357520" y="4323240"/>
            <a:chExt cx="1275120" cy="1197720"/>
          </a:xfrm>
        </p:grpSpPr>
        <p:sp>
          <p:nvSpPr>
            <p:cNvPr id="536" name="AutoShape 12"/>
            <p:cNvSpPr/>
            <p:nvPr/>
          </p:nvSpPr>
          <p:spPr>
            <a:xfrm rot="2685600">
              <a:off x="552996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 rot="2685600">
              <a:off x="650376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1"/>
          <p:cNvGrpSpPr/>
          <p:nvPr/>
        </p:nvGrpSpPr>
        <p:grpSpPr>
          <a:xfrm>
            <a:off x="5537880" y="4071960"/>
            <a:ext cx="1197720" cy="1274760"/>
            <a:chOff x="5537880" y="4071960"/>
            <a:chExt cx="1197720" cy="1274760"/>
          </a:xfrm>
        </p:grpSpPr>
        <p:sp>
          <p:nvSpPr>
            <p:cNvPr id="539" name="AutoShape 12"/>
            <p:cNvSpPr/>
            <p:nvPr/>
          </p:nvSpPr>
          <p:spPr>
            <a:xfrm rot="18879000">
              <a:off x="57099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 rot="18879000">
              <a:off x="60861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1"/>
          <p:cNvGrpSpPr/>
          <p:nvPr/>
        </p:nvGrpSpPr>
        <p:grpSpPr>
          <a:xfrm>
            <a:off x="5180760" y="4071960"/>
            <a:ext cx="1197360" cy="1274400"/>
            <a:chOff x="5180760" y="4071960"/>
            <a:chExt cx="1197360" cy="1274400"/>
          </a:xfrm>
        </p:grpSpPr>
        <p:sp>
          <p:nvSpPr>
            <p:cNvPr id="542" name="AutoShape 12"/>
            <p:cNvSpPr/>
            <p:nvPr/>
          </p:nvSpPr>
          <p:spPr>
            <a:xfrm rot="18879000">
              <a:off x="535284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 rot="18879000">
              <a:off x="572868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2357280" y="42876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 "бокал" (см. левый рисунок), и "рюмка" (см. правый рисунок) составлены из четырех спичек. Внутри каждого "сосуда" - вишенка. Как нужно переместить "бокал" и "рюмку", переложив по две спички в каждом из них, чтобы вишенки оказались снаруж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Рюмка"/>
          <p:cNvPicPr/>
          <p:nvPr/>
        </p:nvPicPr>
        <p:blipFill>
          <a:blip r:embed="rId2"/>
          <a:stretch/>
        </p:blipFill>
        <p:spPr>
          <a:xfrm>
            <a:off x="7215120" y="642960"/>
            <a:ext cx="1776600" cy="2071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Бокал - Ответ"/>
          <p:cNvPicPr/>
          <p:nvPr/>
        </p:nvPicPr>
        <p:blipFill>
          <a:blip r:embed="rId3"/>
          <a:srcRect l="16677" t="13413" r="43351" b="57124"/>
          <a:stretch/>
        </p:blipFill>
        <p:spPr>
          <a:xfrm>
            <a:off x="1143000" y="400068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548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Бокал"/>
          <p:cNvPicPr/>
          <p:nvPr/>
        </p:nvPicPr>
        <p:blipFill>
          <a:blip r:embed="rId4"/>
          <a:stretch/>
        </p:blipFill>
        <p:spPr>
          <a:xfrm>
            <a:off x="857160" y="357120"/>
            <a:ext cx="1428840" cy="260352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11"/>
          <p:cNvGrpSpPr/>
          <p:nvPr/>
        </p:nvGrpSpPr>
        <p:grpSpPr>
          <a:xfrm>
            <a:off x="786240" y="4407480"/>
            <a:ext cx="1642680" cy="1543320"/>
            <a:chOff x="786240" y="4407480"/>
            <a:chExt cx="1642680" cy="1543320"/>
          </a:xfrm>
        </p:grpSpPr>
        <p:sp>
          <p:nvSpPr>
            <p:cNvPr id="551" name="AutoShape 12"/>
            <p:cNvSpPr/>
            <p:nvPr/>
          </p:nvSpPr>
          <p:spPr>
            <a:xfrm rot="2643000">
              <a:off x="101952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643000">
              <a:off x="226440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1"/>
          <p:cNvGrpSpPr/>
          <p:nvPr/>
        </p:nvGrpSpPr>
        <p:grpSpPr>
          <a:xfrm>
            <a:off x="49320" y="3571920"/>
            <a:ext cx="1543320" cy="1642680"/>
            <a:chOff x="49320" y="3571920"/>
            <a:chExt cx="1543320" cy="1642680"/>
          </a:xfrm>
        </p:grpSpPr>
        <p:sp>
          <p:nvSpPr>
            <p:cNvPr id="554" name="AutoShape 12"/>
            <p:cNvSpPr/>
            <p:nvPr/>
          </p:nvSpPr>
          <p:spPr>
            <a:xfrm rot="18879000">
              <a:off x="28296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 rot="18879000">
              <a:off x="74052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1549440" y="3571920"/>
            <a:ext cx="1543320" cy="1642680"/>
            <a:chOff x="1549440" y="3571920"/>
            <a:chExt cx="1543320" cy="1642680"/>
          </a:xfrm>
        </p:grpSpPr>
        <p:sp>
          <p:nvSpPr>
            <p:cNvPr id="557" name="AutoShape 12"/>
            <p:cNvSpPr/>
            <p:nvPr/>
          </p:nvSpPr>
          <p:spPr>
            <a:xfrm rot="18879000">
              <a:off x="178308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 rot="18879000">
              <a:off x="224064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763560" y="5215320"/>
            <a:ext cx="1542960" cy="1642680"/>
            <a:chOff x="763560" y="5215320"/>
            <a:chExt cx="1542960" cy="1642680"/>
          </a:xfrm>
        </p:grpSpPr>
        <p:sp>
          <p:nvSpPr>
            <p:cNvPr id="560" name="AutoShape 12"/>
            <p:cNvSpPr/>
            <p:nvPr/>
          </p:nvSpPr>
          <p:spPr>
            <a:xfrm rot="18879000">
              <a:off x="997200" y="553320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3"/>
            <p:cNvSpPr/>
            <p:nvPr/>
          </p:nvSpPr>
          <p:spPr>
            <a:xfrm rot="18879000">
              <a:off x="1454760" y="5242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1"/>
          <p:cNvGrpSpPr/>
          <p:nvPr/>
        </p:nvGrpSpPr>
        <p:grpSpPr>
          <a:xfrm>
            <a:off x="1500480" y="4407480"/>
            <a:ext cx="1642680" cy="1543320"/>
            <a:chOff x="1500480" y="4407480"/>
            <a:chExt cx="1642680" cy="1543320"/>
          </a:xfrm>
        </p:grpSpPr>
        <p:sp>
          <p:nvSpPr>
            <p:cNvPr id="563" name="AutoShape 12"/>
            <p:cNvSpPr/>
            <p:nvPr/>
          </p:nvSpPr>
          <p:spPr>
            <a:xfrm rot="2643000">
              <a:off x="173376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 rot="2643000">
              <a:off x="297864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2335320" y="5072040"/>
            <a:ext cx="1543320" cy="1642680"/>
            <a:chOff x="2335320" y="5072040"/>
            <a:chExt cx="1543320" cy="1642680"/>
          </a:xfrm>
        </p:grpSpPr>
        <p:sp>
          <p:nvSpPr>
            <p:cNvPr id="566" name="AutoShape 12"/>
            <p:cNvSpPr/>
            <p:nvPr/>
          </p:nvSpPr>
          <p:spPr>
            <a:xfrm rot="18879000">
              <a:off x="2568960" y="5389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 rot="18879000">
              <a:off x="3026520" y="5099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1"/>
          <p:cNvGrpSpPr/>
          <p:nvPr/>
        </p:nvGrpSpPr>
        <p:grpSpPr>
          <a:xfrm>
            <a:off x="6335640" y="5072400"/>
            <a:ext cx="1542960" cy="1642680"/>
            <a:chOff x="6335640" y="5072400"/>
            <a:chExt cx="1542960" cy="1642680"/>
          </a:xfrm>
        </p:grpSpPr>
        <p:sp>
          <p:nvSpPr>
            <p:cNvPr id="569" name="AutoShape 12"/>
            <p:cNvSpPr/>
            <p:nvPr/>
          </p:nvSpPr>
          <p:spPr>
            <a:xfrm rot="18879000">
              <a:off x="6569280" y="53902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3"/>
            <p:cNvSpPr/>
            <p:nvPr/>
          </p:nvSpPr>
          <p:spPr>
            <a:xfrm rot="18879000">
              <a:off x="7026840" y="5099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6215040" y="5910840"/>
            <a:ext cx="1643040" cy="1541880"/>
            <a:chOff x="6215040" y="5910840"/>
            <a:chExt cx="1643040" cy="1541880"/>
          </a:xfrm>
        </p:grpSpPr>
        <p:sp>
          <p:nvSpPr>
            <p:cNvPr id="572" name="AutoShape 12"/>
            <p:cNvSpPr/>
            <p:nvPr/>
          </p:nvSpPr>
          <p:spPr>
            <a:xfrm rot="13588800">
              <a:off x="6548400" y="61282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3"/>
            <p:cNvSpPr/>
            <p:nvPr/>
          </p:nvSpPr>
          <p:spPr>
            <a:xfrm rot="13588800">
              <a:off x="6243840" y="6600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1"/>
          <p:cNvGrpSpPr/>
          <p:nvPr/>
        </p:nvGrpSpPr>
        <p:grpSpPr>
          <a:xfrm>
            <a:off x="7010640" y="3785400"/>
            <a:ext cx="1215360" cy="1320120"/>
            <a:chOff x="7010640" y="3785400"/>
            <a:chExt cx="1215360" cy="1320120"/>
          </a:xfrm>
        </p:grpSpPr>
        <p:sp>
          <p:nvSpPr>
            <p:cNvPr id="575" name="AutoShape 12"/>
            <p:cNvSpPr/>
            <p:nvPr/>
          </p:nvSpPr>
          <p:spPr>
            <a:xfrm rot="21134400">
              <a:off x="7080120" y="3931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3"/>
            <p:cNvSpPr/>
            <p:nvPr/>
          </p:nvSpPr>
          <p:spPr>
            <a:xfrm rot="21134400">
              <a:off x="8012880" y="3793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1"/>
          <p:cNvGrpSpPr/>
          <p:nvPr/>
        </p:nvGrpSpPr>
        <p:grpSpPr>
          <a:xfrm>
            <a:off x="5956200" y="3895560"/>
            <a:ext cx="1177920" cy="1215000"/>
            <a:chOff x="5956200" y="3895560"/>
            <a:chExt cx="1177920" cy="1215000"/>
          </a:xfrm>
        </p:grpSpPr>
        <p:sp>
          <p:nvSpPr>
            <p:cNvPr id="578" name="AutoShape 12"/>
            <p:cNvSpPr/>
            <p:nvPr/>
          </p:nvSpPr>
          <p:spPr>
            <a:xfrm rot="16404600">
              <a:off x="6012000" y="3987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3"/>
            <p:cNvSpPr/>
            <p:nvPr/>
          </p:nvSpPr>
          <p:spPr>
            <a:xfrm rot="16404600">
              <a:off x="5961600" y="3897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Бокал - Ответ"/>
          <p:cNvPicPr/>
          <p:nvPr/>
        </p:nvPicPr>
        <p:blipFill>
          <a:blip r:embed="rId5"/>
          <a:srcRect l="16677" t="13413" r="43351" b="57124"/>
          <a:stretch/>
        </p:blipFill>
        <p:spPr>
          <a:xfrm>
            <a:off x="6715080" y="3643200"/>
            <a:ext cx="857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1"/>
          <p:cNvGrpSpPr/>
          <p:nvPr/>
        </p:nvGrpSpPr>
        <p:grpSpPr>
          <a:xfrm>
            <a:off x="5286600" y="3366720"/>
            <a:ext cx="1284120" cy="1230840"/>
            <a:chOff x="5286600" y="3366720"/>
            <a:chExt cx="1284120" cy="1230840"/>
          </a:xfrm>
        </p:grpSpPr>
        <p:sp>
          <p:nvSpPr>
            <p:cNvPr id="582" name="AutoShape 12"/>
            <p:cNvSpPr/>
            <p:nvPr/>
          </p:nvSpPr>
          <p:spPr>
            <a:xfrm rot="11226600">
              <a:off x="5430600" y="34286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 rot="11226600">
              <a:off x="5294520" y="4394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1"/>
          <p:cNvGrpSpPr/>
          <p:nvPr/>
        </p:nvGrpSpPr>
        <p:grpSpPr>
          <a:xfrm>
            <a:off x="7143840" y="4409280"/>
            <a:ext cx="1643040" cy="1542960"/>
            <a:chOff x="7143840" y="4409280"/>
            <a:chExt cx="1643040" cy="1542960"/>
          </a:xfrm>
        </p:grpSpPr>
        <p:sp>
          <p:nvSpPr>
            <p:cNvPr id="585" name="AutoShape 12"/>
            <p:cNvSpPr/>
            <p:nvPr/>
          </p:nvSpPr>
          <p:spPr>
            <a:xfrm rot="13522200">
              <a:off x="7477200" y="4627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3"/>
            <p:cNvSpPr/>
            <p:nvPr/>
          </p:nvSpPr>
          <p:spPr>
            <a:xfrm rot="13522200">
              <a:off x="7172640" y="5114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928800" y="35712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ереложив четыре спички, превратить топор  в три равных треуголь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11"/>
          <p:cNvPicPr/>
          <p:nvPr/>
        </p:nvPicPr>
        <p:blipFill>
          <a:blip r:embed="rId2"/>
          <a:stretch/>
        </p:blipFill>
        <p:spPr>
          <a:xfrm>
            <a:off x="6286680" y="214200"/>
            <a:ext cx="2857320" cy="386424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1"/>
          <p:cNvGrpSpPr/>
          <p:nvPr/>
        </p:nvGrpSpPr>
        <p:grpSpPr>
          <a:xfrm>
            <a:off x="2214360" y="1122840"/>
            <a:ext cx="1715040" cy="1610640"/>
            <a:chOff x="2214360" y="1122840"/>
            <a:chExt cx="1715040" cy="1610640"/>
          </a:xfrm>
        </p:grpSpPr>
        <p:sp>
          <p:nvSpPr>
            <p:cNvPr id="593" name="AutoShape 12"/>
            <p:cNvSpPr/>
            <p:nvPr/>
          </p:nvSpPr>
          <p:spPr>
            <a:xfrm rot="2643000">
              <a:off x="2448000" y="1360440"/>
              <a:ext cx="1143000" cy="11350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3"/>
            <p:cNvSpPr/>
            <p:nvPr/>
          </p:nvSpPr>
          <p:spPr>
            <a:xfrm rot="2643000">
              <a:off x="3756240" y="184932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1"/>
          <p:cNvGrpSpPr/>
          <p:nvPr/>
        </p:nvGrpSpPr>
        <p:grpSpPr>
          <a:xfrm>
            <a:off x="2214000" y="2694240"/>
            <a:ext cx="1715040" cy="1610280"/>
            <a:chOff x="2214000" y="2694240"/>
            <a:chExt cx="1715040" cy="1610280"/>
          </a:xfrm>
        </p:grpSpPr>
        <p:sp>
          <p:nvSpPr>
            <p:cNvPr id="596" name="AutoShape 12"/>
            <p:cNvSpPr/>
            <p:nvPr/>
          </p:nvSpPr>
          <p:spPr>
            <a:xfrm rot="2643000">
              <a:off x="2447640" y="2931840"/>
              <a:ext cx="1143000" cy="11347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"/>
            <p:cNvSpPr/>
            <p:nvPr/>
          </p:nvSpPr>
          <p:spPr>
            <a:xfrm rot="2643000">
              <a:off x="3755880" y="342108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3051360" y="1857240"/>
            <a:ext cx="1609200" cy="1713960"/>
            <a:chOff x="3051360" y="1857240"/>
            <a:chExt cx="1609200" cy="1713960"/>
          </a:xfrm>
        </p:grpSpPr>
        <p:sp>
          <p:nvSpPr>
            <p:cNvPr id="599" name="AutoShape 12"/>
            <p:cNvSpPr/>
            <p:nvPr/>
          </p:nvSpPr>
          <p:spPr>
            <a:xfrm rot="18819600">
              <a:off x="3284280" y="2199600"/>
              <a:ext cx="114300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"/>
            <p:cNvSpPr/>
            <p:nvPr/>
          </p:nvSpPr>
          <p:spPr>
            <a:xfrm rot="18819600">
              <a:off x="3771720" y="1887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3051360" y="3429720"/>
            <a:ext cx="1610640" cy="1714680"/>
            <a:chOff x="3051360" y="3429720"/>
            <a:chExt cx="1610640" cy="1714680"/>
          </a:xfrm>
        </p:grpSpPr>
        <p:sp>
          <p:nvSpPr>
            <p:cNvPr id="602" name="AutoShape 12"/>
            <p:cNvSpPr/>
            <p:nvPr/>
          </p:nvSpPr>
          <p:spPr>
            <a:xfrm rot="18876000">
              <a:off x="3284280" y="37720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"/>
            <p:cNvSpPr/>
            <p:nvPr/>
          </p:nvSpPr>
          <p:spPr>
            <a:xfrm rot="18876000">
              <a:off x="3785760" y="34596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3052800" y="5001480"/>
            <a:ext cx="1608840" cy="1713240"/>
            <a:chOff x="3052800" y="5001480"/>
            <a:chExt cx="1608840" cy="1713240"/>
          </a:xfrm>
        </p:grpSpPr>
        <p:sp>
          <p:nvSpPr>
            <p:cNvPr id="605" name="AutoShape 12"/>
            <p:cNvSpPr/>
            <p:nvPr/>
          </p:nvSpPr>
          <p:spPr>
            <a:xfrm rot="18822000">
              <a:off x="3285720" y="5342760"/>
              <a:ext cx="11426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 rot="18822000">
              <a:off x="3773160" y="5031360"/>
              <a:ext cx="14328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1"/>
          <p:cNvGrpSpPr/>
          <p:nvPr/>
        </p:nvGrpSpPr>
        <p:grpSpPr>
          <a:xfrm>
            <a:off x="1101600" y="743400"/>
            <a:ext cx="1174680" cy="1186920"/>
            <a:chOff x="1101600" y="743400"/>
            <a:chExt cx="1174680" cy="1186920"/>
          </a:xfrm>
        </p:grpSpPr>
        <p:sp>
          <p:nvSpPr>
            <p:cNvPr id="608" name="AutoShape 12"/>
            <p:cNvSpPr/>
            <p:nvPr/>
          </p:nvSpPr>
          <p:spPr>
            <a:xfrm rot="16200000">
              <a:off x="1137600" y="791640"/>
              <a:ext cx="114372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3"/>
            <p:cNvSpPr/>
            <p:nvPr/>
          </p:nvSpPr>
          <p:spPr>
            <a:xfrm rot="16200000">
              <a:off x="1100520" y="744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1"/>
          <p:cNvGrpSpPr/>
          <p:nvPr/>
        </p:nvGrpSpPr>
        <p:grpSpPr>
          <a:xfrm>
            <a:off x="194400" y="714600"/>
            <a:ext cx="1610640" cy="1715040"/>
            <a:chOff x="194400" y="714600"/>
            <a:chExt cx="1610640" cy="1715040"/>
          </a:xfrm>
        </p:grpSpPr>
        <p:sp>
          <p:nvSpPr>
            <p:cNvPr id="611" name="AutoShape 12"/>
            <p:cNvSpPr/>
            <p:nvPr/>
          </p:nvSpPr>
          <p:spPr>
            <a:xfrm rot="18854400">
              <a:off x="427320" y="105732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 rot="18854400">
              <a:off x="923760" y="74448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194400" y="2500560"/>
            <a:ext cx="1610640" cy="1715040"/>
            <a:chOff x="194400" y="2500560"/>
            <a:chExt cx="1610640" cy="1715040"/>
          </a:xfrm>
        </p:grpSpPr>
        <p:sp>
          <p:nvSpPr>
            <p:cNvPr id="614" name="AutoShape 12"/>
            <p:cNvSpPr/>
            <p:nvPr/>
          </p:nvSpPr>
          <p:spPr>
            <a:xfrm rot="18854400">
              <a:off x="427320" y="28432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 rot="18854400">
              <a:off x="923760" y="253044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970560" y="3254400"/>
            <a:ext cx="1444320" cy="1346400"/>
            <a:chOff x="970560" y="3254400"/>
            <a:chExt cx="1444320" cy="1346400"/>
          </a:xfrm>
        </p:grpSpPr>
        <p:sp>
          <p:nvSpPr>
            <p:cNvPr id="617" name="AutoShape 12"/>
            <p:cNvSpPr/>
            <p:nvPr/>
          </p:nvSpPr>
          <p:spPr>
            <a:xfrm rot="718800">
              <a:off x="1075680" y="336060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3"/>
            <p:cNvSpPr/>
            <p:nvPr/>
          </p:nvSpPr>
          <p:spPr>
            <a:xfrm rot="718800">
              <a:off x="2257920" y="34218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1"/>
          <p:cNvGrpSpPr/>
          <p:nvPr/>
        </p:nvGrpSpPr>
        <p:grpSpPr>
          <a:xfrm>
            <a:off x="2357280" y="2000160"/>
            <a:ext cx="1428480" cy="1428480"/>
            <a:chOff x="2357280" y="2000160"/>
            <a:chExt cx="1428480" cy="1428480"/>
          </a:xfrm>
        </p:grpSpPr>
        <p:sp>
          <p:nvSpPr>
            <p:cNvPr id="620" name="AutoShape 12"/>
            <p:cNvSpPr/>
            <p:nvPr/>
          </p:nvSpPr>
          <p:spPr>
            <a:xfrm rot="16200000">
              <a:off x="2408400" y="2051280"/>
              <a:ext cx="1376280" cy="13784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16200000">
              <a:off x="2357280" y="2000160"/>
              <a:ext cx="172800" cy="1728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428920" y="3572280"/>
            <a:ext cx="1356840" cy="1356840"/>
            <a:chOff x="2428920" y="3572280"/>
            <a:chExt cx="1356840" cy="1356840"/>
          </a:xfrm>
        </p:grpSpPr>
        <p:sp>
          <p:nvSpPr>
            <p:cNvPr id="623" name="AutoShape 12"/>
            <p:cNvSpPr/>
            <p:nvPr/>
          </p:nvSpPr>
          <p:spPr>
            <a:xfrm rot="16200000">
              <a:off x="2477160" y="3620520"/>
              <a:ext cx="1307520" cy="13093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3"/>
            <p:cNvSpPr/>
            <p:nvPr/>
          </p:nvSpPr>
          <p:spPr>
            <a:xfrm rot="16200000">
              <a:off x="2428920" y="357228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2285640" y="4384440"/>
            <a:ext cx="1527840" cy="1473480"/>
            <a:chOff x="2285640" y="4384440"/>
            <a:chExt cx="1527840" cy="1473480"/>
          </a:xfrm>
        </p:grpSpPr>
        <p:sp>
          <p:nvSpPr>
            <p:cNvPr id="626" name="AutoShape 12"/>
            <p:cNvSpPr/>
            <p:nvPr/>
          </p:nvSpPr>
          <p:spPr>
            <a:xfrm rot="2623800">
              <a:off x="2502360" y="4598640"/>
              <a:ext cx="1039680" cy="10443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 rot="2623800">
              <a:off x="3655800" y="5039280"/>
              <a:ext cx="130320" cy="1306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1"/>
          <p:cNvGrpSpPr/>
          <p:nvPr/>
        </p:nvGrpSpPr>
        <p:grpSpPr>
          <a:xfrm>
            <a:off x="2357280" y="5215320"/>
            <a:ext cx="1357200" cy="1356840"/>
            <a:chOff x="2357280" y="5215320"/>
            <a:chExt cx="1357200" cy="1356840"/>
          </a:xfrm>
        </p:grpSpPr>
        <p:sp>
          <p:nvSpPr>
            <p:cNvPr id="629" name="AutoShape 12"/>
            <p:cNvSpPr/>
            <p:nvPr/>
          </p:nvSpPr>
          <p:spPr>
            <a:xfrm rot="16200000">
              <a:off x="2405880" y="5263560"/>
              <a:ext cx="1307520" cy="1309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 rot="16200000">
              <a:off x="2357280" y="521532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Стрелка вправо 4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1214280" y="35712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 лампе, составленной из двенадцати спичек,  переложить три спички так, чтобы получилось пять равных тре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12"/>
          <p:cNvPicPr/>
          <p:nvPr/>
        </p:nvPicPr>
        <p:blipFill>
          <a:blip r:embed="rId2"/>
          <a:stretch/>
        </p:blipFill>
        <p:spPr>
          <a:xfrm>
            <a:off x="7072200" y="285840"/>
            <a:ext cx="1866960" cy="4083120"/>
          </a:xfrm>
          <a:prstGeom prst="rect">
            <a:avLst/>
          </a:prstGeom>
          <a:ln w="0">
            <a:noFill/>
          </a:ln>
        </p:spPr>
      </p:pic>
      <p:sp>
        <p:nvSpPr>
          <p:cNvPr id="636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285920" y="2894760"/>
            <a:ext cx="1274760" cy="1197360"/>
            <a:chOff x="1285920" y="2894760"/>
            <a:chExt cx="1274760" cy="1197360"/>
          </a:xfrm>
        </p:grpSpPr>
        <p:sp>
          <p:nvSpPr>
            <p:cNvPr id="638" name="AutoShape 12"/>
            <p:cNvSpPr/>
            <p:nvPr/>
          </p:nvSpPr>
          <p:spPr>
            <a:xfrm rot="2681400">
              <a:off x="145800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rot="2681400">
              <a:off x="243216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1"/>
          <p:cNvGrpSpPr/>
          <p:nvPr/>
        </p:nvGrpSpPr>
        <p:grpSpPr>
          <a:xfrm>
            <a:off x="2571840" y="2894760"/>
            <a:ext cx="1274760" cy="1197360"/>
            <a:chOff x="2571840" y="2894760"/>
            <a:chExt cx="1274760" cy="1197360"/>
          </a:xfrm>
        </p:grpSpPr>
        <p:sp>
          <p:nvSpPr>
            <p:cNvPr id="641" name="AutoShape 12"/>
            <p:cNvSpPr/>
            <p:nvPr/>
          </p:nvSpPr>
          <p:spPr>
            <a:xfrm rot="2681400">
              <a:off x="274392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3"/>
            <p:cNvSpPr/>
            <p:nvPr/>
          </p:nvSpPr>
          <p:spPr>
            <a:xfrm rot="2681400">
              <a:off x="371808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1"/>
          <p:cNvGrpSpPr/>
          <p:nvPr/>
        </p:nvGrpSpPr>
        <p:grpSpPr>
          <a:xfrm>
            <a:off x="2000160" y="1894680"/>
            <a:ext cx="1274760" cy="1197360"/>
            <a:chOff x="2000160" y="1894680"/>
            <a:chExt cx="1274760" cy="1197360"/>
          </a:xfrm>
        </p:grpSpPr>
        <p:sp>
          <p:nvSpPr>
            <p:cNvPr id="644" name="AutoShape 12"/>
            <p:cNvSpPr/>
            <p:nvPr/>
          </p:nvSpPr>
          <p:spPr>
            <a:xfrm rot="2681400">
              <a:off x="2172240" y="2072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3"/>
            <p:cNvSpPr/>
            <p:nvPr/>
          </p:nvSpPr>
          <p:spPr>
            <a:xfrm rot="2681400">
              <a:off x="3146400" y="2444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1"/>
          <p:cNvGrpSpPr/>
          <p:nvPr/>
        </p:nvGrpSpPr>
        <p:grpSpPr>
          <a:xfrm>
            <a:off x="1148760" y="2500200"/>
            <a:ext cx="933840" cy="982440"/>
            <a:chOff x="1148760" y="2500200"/>
            <a:chExt cx="933840" cy="982440"/>
          </a:xfrm>
        </p:grpSpPr>
        <p:sp>
          <p:nvSpPr>
            <p:cNvPr id="647" name="AutoShape 12"/>
            <p:cNvSpPr/>
            <p:nvPr/>
          </p:nvSpPr>
          <p:spPr>
            <a:xfrm rot="21243000">
              <a:off x="1189800" y="2600280"/>
              <a:ext cx="85140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3"/>
            <p:cNvSpPr/>
            <p:nvPr/>
          </p:nvSpPr>
          <p:spPr>
            <a:xfrm rot="21243000">
              <a:off x="194544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124080" y="2501280"/>
            <a:ext cx="924120" cy="995400"/>
            <a:chOff x="3124080" y="2501280"/>
            <a:chExt cx="924120" cy="995400"/>
          </a:xfrm>
        </p:grpSpPr>
        <p:sp>
          <p:nvSpPr>
            <p:cNvPr id="650" name="AutoShape 12"/>
            <p:cNvSpPr/>
            <p:nvPr/>
          </p:nvSpPr>
          <p:spPr>
            <a:xfrm rot="16554600">
              <a:off x="3160440" y="26092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16554600">
              <a:off x="3158640" y="2506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1806840" y="3541320"/>
            <a:ext cx="990720" cy="1065600"/>
            <a:chOff x="1806840" y="3541320"/>
            <a:chExt cx="990720" cy="1065600"/>
          </a:xfrm>
        </p:grpSpPr>
        <p:sp>
          <p:nvSpPr>
            <p:cNvPr id="653" name="AutoShape 12"/>
            <p:cNvSpPr/>
            <p:nvPr/>
          </p:nvSpPr>
          <p:spPr>
            <a:xfrm rot="16874400">
              <a:off x="1875600" y="36864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 rot="16874400">
              <a:off x="1919880" y="3551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036880" y="4572000"/>
            <a:ext cx="1197720" cy="1274760"/>
            <a:chOff x="2036880" y="4572000"/>
            <a:chExt cx="1197720" cy="1274760"/>
          </a:xfrm>
        </p:grpSpPr>
        <p:sp>
          <p:nvSpPr>
            <p:cNvPr id="656" name="AutoShape 12"/>
            <p:cNvSpPr/>
            <p:nvPr/>
          </p:nvSpPr>
          <p:spPr>
            <a:xfrm rot="18933000">
              <a:off x="2209320" y="4827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3"/>
            <p:cNvSpPr/>
            <p:nvPr/>
          </p:nvSpPr>
          <p:spPr>
            <a:xfrm rot="18933000">
              <a:off x="2594520" y="4594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1714680" y="5786280"/>
            <a:ext cx="909000" cy="893520"/>
            <a:chOff x="1714680" y="5786280"/>
            <a:chExt cx="909000" cy="893520"/>
          </a:xfrm>
        </p:grpSpPr>
        <p:sp>
          <p:nvSpPr>
            <p:cNvPr id="659" name="AutoShape 12"/>
            <p:cNvSpPr/>
            <p:nvPr/>
          </p:nvSpPr>
          <p:spPr>
            <a:xfrm>
              <a:off x="1714680" y="58388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2516760" y="5786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1"/>
          <p:cNvGrpSpPr/>
          <p:nvPr/>
        </p:nvGrpSpPr>
        <p:grpSpPr>
          <a:xfrm>
            <a:off x="2553120" y="5714640"/>
            <a:ext cx="926280" cy="998640"/>
            <a:chOff x="2553120" y="5714640"/>
            <a:chExt cx="926280" cy="998640"/>
          </a:xfrm>
        </p:grpSpPr>
        <p:sp>
          <p:nvSpPr>
            <p:cNvPr id="662" name="AutoShape 12"/>
            <p:cNvSpPr/>
            <p:nvPr/>
          </p:nvSpPr>
          <p:spPr>
            <a:xfrm rot="16563600">
              <a:off x="2589840" y="582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3"/>
            <p:cNvSpPr/>
            <p:nvPr/>
          </p:nvSpPr>
          <p:spPr>
            <a:xfrm rot="16563600">
              <a:off x="2589840" y="5720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1"/>
          <p:cNvGrpSpPr/>
          <p:nvPr/>
        </p:nvGrpSpPr>
        <p:grpSpPr>
          <a:xfrm>
            <a:off x="2442600" y="3500280"/>
            <a:ext cx="1035720" cy="1093680"/>
            <a:chOff x="2442600" y="3500280"/>
            <a:chExt cx="1035720" cy="1093680"/>
          </a:xfrm>
        </p:grpSpPr>
        <p:sp>
          <p:nvSpPr>
            <p:cNvPr id="665" name="AutoShape 12"/>
            <p:cNvSpPr/>
            <p:nvPr/>
          </p:nvSpPr>
          <p:spPr>
            <a:xfrm rot="20724600">
              <a:off x="2534760" y="3659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3"/>
            <p:cNvSpPr/>
            <p:nvPr/>
          </p:nvSpPr>
          <p:spPr>
            <a:xfrm rot="20724600">
              <a:off x="3216240" y="3511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1"/>
          <p:cNvGrpSpPr/>
          <p:nvPr/>
        </p:nvGrpSpPr>
        <p:grpSpPr>
          <a:xfrm>
            <a:off x="2323800" y="1215000"/>
            <a:ext cx="1197000" cy="1274400"/>
            <a:chOff x="2323800" y="1215000"/>
            <a:chExt cx="1197000" cy="1274400"/>
          </a:xfrm>
        </p:grpSpPr>
        <p:sp>
          <p:nvSpPr>
            <p:cNvPr id="668" name="AutoShape 12"/>
            <p:cNvSpPr/>
            <p:nvPr/>
          </p:nvSpPr>
          <p:spPr>
            <a:xfrm rot="18828000">
              <a:off x="2495880" y="1469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rot="18828000">
              <a:off x="2862720" y="1236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1"/>
          <p:cNvGrpSpPr/>
          <p:nvPr/>
        </p:nvGrpSpPr>
        <p:grpSpPr>
          <a:xfrm>
            <a:off x="1753200" y="1215000"/>
            <a:ext cx="1196280" cy="1273680"/>
            <a:chOff x="1753200" y="1215000"/>
            <a:chExt cx="1196280" cy="1273680"/>
          </a:xfrm>
        </p:grpSpPr>
        <p:sp>
          <p:nvSpPr>
            <p:cNvPr id="671" name="AutoShape 12"/>
            <p:cNvSpPr/>
            <p:nvPr/>
          </p:nvSpPr>
          <p:spPr>
            <a:xfrm rot="18795600">
              <a:off x="1924920" y="14698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 rot="18795600">
              <a:off x="2286000" y="1236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"/>
          <p:cNvGrpSpPr/>
          <p:nvPr/>
        </p:nvGrpSpPr>
        <p:grpSpPr>
          <a:xfrm>
            <a:off x="2363400" y="2500200"/>
            <a:ext cx="933480" cy="982440"/>
            <a:chOff x="2363400" y="2500200"/>
            <a:chExt cx="933480" cy="982440"/>
          </a:xfrm>
        </p:grpSpPr>
        <p:sp>
          <p:nvSpPr>
            <p:cNvPr id="674" name="AutoShape 12"/>
            <p:cNvSpPr/>
            <p:nvPr/>
          </p:nvSpPr>
          <p:spPr>
            <a:xfrm rot="21243000">
              <a:off x="2404440" y="260028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3"/>
            <p:cNvSpPr/>
            <p:nvPr/>
          </p:nvSpPr>
          <p:spPr>
            <a:xfrm rot="21243000">
              <a:off x="315972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1847520" y="2500200"/>
            <a:ext cx="908640" cy="1000440"/>
            <a:chOff x="1847520" y="2500200"/>
            <a:chExt cx="908640" cy="1000440"/>
          </a:xfrm>
        </p:grpSpPr>
        <p:sp>
          <p:nvSpPr>
            <p:cNvPr id="677" name="AutoShape 12"/>
            <p:cNvSpPr/>
            <p:nvPr/>
          </p:nvSpPr>
          <p:spPr>
            <a:xfrm rot="17013000">
              <a:off x="1908720" y="2658600"/>
              <a:ext cx="785880" cy="74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 rot="17013000">
              <a:off x="1982520" y="2512080"/>
              <a:ext cx="98640" cy="932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1785600" y="5892840"/>
            <a:ext cx="1572840" cy="1476720"/>
            <a:chOff x="1785600" y="5892840"/>
            <a:chExt cx="1572840" cy="1476720"/>
          </a:xfrm>
        </p:grpSpPr>
        <p:sp>
          <p:nvSpPr>
            <p:cNvPr id="680" name="AutoShape 12"/>
            <p:cNvSpPr/>
            <p:nvPr/>
          </p:nvSpPr>
          <p:spPr>
            <a:xfrm rot="2755200">
              <a:off x="2004120" y="6106680"/>
              <a:ext cx="1040040" cy="1048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3"/>
            <p:cNvSpPr/>
            <p:nvPr/>
          </p:nvSpPr>
          <p:spPr>
            <a:xfrm rot="2755200">
              <a:off x="3200040" y="6576840"/>
              <a:ext cx="130680" cy="1314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"/>
          <p:cNvSpPr/>
          <p:nvPr/>
        </p:nvSpPr>
        <p:spPr>
          <a:xfrm>
            <a:off x="-2160" y="-984600"/>
            <a:ext cx="2925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11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Корова на лугу"/>
          <p:cNvPicPr/>
          <p:nvPr/>
        </p:nvPicPr>
        <p:blipFill>
          <a:blip r:embed="rId2"/>
          <a:stretch/>
        </p:blipFill>
        <p:spPr>
          <a:xfrm>
            <a:off x="6292800" y="642960"/>
            <a:ext cx="2851200" cy="207180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4"/>
          <p:cNvSpPr/>
          <p:nvPr/>
        </p:nvSpPr>
        <p:spPr>
          <a:xfrm>
            <a:off x="214200" y="857160"/>
            <a:ext cx="628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рисунке вы видите корову, у которой есть все, что полагается: голова, туловище, ноги, рога и хвост. Корова на рисунке смотрит влево.   Переложите ровно две спички так, чтобы она смотрела вправо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83000" y="-1098720"/>
            <a:ext cx="28630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6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7"/>
          <p:cNvSpPr/>
          <p:nvPr/>
        </p:nvSpPr>
        <p:spPr>
          <a:xfrm>
            <a:off x="3143520" y="31431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от теперь корова смотрит впра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1"/>
          <p:cNvGrpSpPr/>
          <p:nvPr/>
        </p:nvGrpSpPr>
        <p:grpSpPr>
          <a:xfrm>
            <a:off x="1032480" y="3368160"/>
            <a:ext cx="1074960" cy="1000800"/>
            <a:chOff x="1032480" y="3368160"/>
            <a:chExt cx="1074960" cy="1000800"/>
          </a:xfrm>
        </p:grpSpPr>
        <p:sp>
          <p:nvSpPr>
            <p:cNvPr id="690" name="AutoShape 12"/>
            <p:cNvSpPr/>
            <p:nvPr/>
          </p:nvSpPr>
          <p:spPr>
            <a:xfrm rot="727200">
              <a:off x="1110960" y="34480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3"/>
            <p:cNvSpPr/>
            <p:nvPr/>
          </p:nvSpPr>
          <p:spPr>
            <a:xfrm rot="727200">
              <a:off x="1990440" y="3494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"/>
          <p:cNvGrpSpPr/>
          <p:nvPr/>
        </p:nvGrpSpPr>
        <p:grpSpPr>
          <a:xfrm>
            <a:off x="1070640" y="4080240"/>
            <a:ext cx="1017000" cy="963720"/>
            <a:chOff x="1070640" y="4080240"/>
            <a:chExt cx="1017000" cy="963720"/>
          </a:xfrm>
        </p:grpSpPr>
        <p:sp>
          <p:nvSpPr>
            <p:cNvPr id="693" name="AutoShape 12"/>
            <p:cNvSpPr/>
            <p:nvPr/>
          </p:nvSpPr>
          <p:spPr>
            <a:xfrm rot="4902000">
              <a:off x="1122840" y="4140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3"/>
            <p:cNvSpPr/>
            <p:nvPr/>
          </p:nvSpPr>
          <p:spPr>
            <a:xfrm rot="4902000">
              <a:off x="1973880" y="4872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"/>
          <p:cNvGrpSpPr/>
          <p:nvPr/>
        </p:nvGrpSpPr>
        <p:grpSpPr>
          <a:xfrm>
            <a:off x="1465560" y="3571560"/>
            <a:ext cx="1197720" cy="1275120"/>
            <a:chOff x="1465560" y="3571560"/>
            <a:chExt cx="1197720" cy="1275120"/>
          </a:xfrm>
        </p:grpSpPr>
        <p:sp>
          <p:nvSpPr>
            <p:cNvPr id="696" name="AutoShape 12"/>
            <p:cNvSpPr/>
            <p:nvPr/>
          </p:nvSpPr>
          <p:spPr>
            <a:xfrm rot="18916800">
              <a:off x="163800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 rot="18916800">
              <a:off x="202032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1802160" y="2429280"/>
            <a:ext cx="1071000" cy="1130760"/>
            <a:chOff x="1802160" y="2429280"/>
            <a:chExt cx="1071000" cy="1130760"/>
          </a:xfrm>
        </p:grpSpPr>
        <p:sp>
          <p:nvSpPr>
            <p:cNvPr id="699" name="AutoShape 12"/>
            <p:cNvSpPr/>
            <p:nvPr/>
          </p:nvSpPr>
          <p:spPr>
            <a:xfrm rot="20518200">
              <a:off x="1911240" y="2608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 rot="20518200">
              <a:off x="2562120" y="2442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1"/>
          <p:cNvGrpSpPr/>
          <p:nvPr/>
        </p:nvGrpSpPr>
        <p:grpSpPr>
          <a:xfrm>
            <a:off x="1264320" y="2428920"/>
            <a:ext cx="1058040" cy="1134720"/>
            <a:chOff x="1264320" y="2428920"/>
            <a:chExt cx="1058040" cy="1134720"/>
          </a:xfrm>
        </p:grpSpPr>
        <p:sp>
          <p:nvSpPr>
            <p:cNvPr id="702" name="AutoShape 12"/>
            <p:cNvSpPr/>
            <p:nvPr/>
          </p:nvSpPr>
          <p:spPr>
            <a:xfrm rot="17239200">
              <a:off x="1366920" y="260964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 rot="17239200">
              <a:off x="1465200" y="2442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1"/>
          <p:cNvGrpSpPr/>
          <p:nvPr/>
        </p:nvGrpSpPr>
        <p:grpSpPr>
          <a:xfrm>
            <a:off x="1230120" y="4857480"/>
            <a:ext cx="1059840" cy="1121400"/>
            <a:chOff x="1230120" y="4857480"/>
            <a:chExt cx="1059840" cy="1121400"/>
          </a:xfrm>
        </p:grpSpPr>
        <p:sp>
          <p:nvSpPr>
            <p:cNvPr id="705" name="AutoShape 12"/>
            <p:cNvSpPr/>
            <p:nvPr/>
          </p:nvSpPr>
          <p:spPr>
            <a:xfrm rot="20581800">
              <a:off x="1334520" y="50306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 rot="20581800">
              <a:off x="1993680" y="4870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1763280" y="4858920"/>
            <a:ext cx="1107360" cy="1185480"/>
            <a:chOff x="1763280" y="4858920"/>
            <a:chExt cx="1107360" cy="1185480"/>
          </a:xfrm>
        </p:grpSpPr>
        <p:sp>
          <p:nvSpPr>
            <p:cNvPr id="708" name="AutoShape 12"/>
            <p:cNvSpPr/>
            <p:nvPr/>
          </p:nvSpPr>
          <p:spPr>
            <a:xfrm rot="17584800">
              <a:off x="1891080" y="506736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"/>
            <p:cNvSpPr/>
            <p:nvPr/>
          </p:nvSpPr>
          <p:spPr>
            <a:xfrm rot="17584800">
              <a:off x="2044800" y="4875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2072160" y="3036240"/>
            <a:ext cx="1273680" cy="1197360"/>
            <a:chOff x="2072160" y="3036240"/>
            <a:chExt cx="1273680" cy="1197360"/>
          </a:xfrm>
        </p:grpSpPr>
        <p:sp>
          <p:nvSpPr>
            <p:cNvPr id="711" name="AutoShape 12"/>
            <p:cNvSpPr/>
            <p:nvPr/>
          </p:nvSpPr>
          <p:spPr>
            <a:xfrm rot="2811600">
              <a:off x="2243880" y="321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3"/>
            <p:cNvSpPr/>
            <p:nvPr/>
          </p:nvSpPr>
          <p:spPr>
            <a:xfrm rot="2811600">
              <a:off x="3217320" y="3607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"/>
          <p:cNvGrpSpPr/>
          <p:nvPr/>
        </p:nvGrpSpPr>
        <p:grpSpPr>
          <a:xfrm>
            <a:off x="3286080" y="3036600"/>
            <a:ext cx="1274760" cy="1197720"/>
            <a:chOff x="3286080" y="3036600"/>
            <a:chExt cx="1274760" cy="1197720"/>
          </a:xfrm>
        </p:grpSpPr>
        <p:sp>
          <p:nvSpPr>
            <p:cNvPr id="714" name="AutoShape 12"/>
            <p:cNvSpPr/>
            <p:nvPr/>
          </p:nvSpPr>
          <p:spPr>
            <a:xfrm rot="2740800">
              <a:off x="3458160" y="32148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 rot="2740800">
              <a:off x="4431960" y="3596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1"/>
          <p:cNvGrpSpPr/>
          <p:nvPr/>
        </p:nvGrpSpPr>
        <p:grpSpPr>
          <a:xfrm>
            <a:off x="2071800" y="4251240"/>
            <a:ext cx="1274760" cy="1197720"/>
            <a:chOff x="2071800" y="4251240"/>
            <a:chExt cx="1274760" cy="1197720"/>
          </a:xfrm>
        </p:grpSpPr>
        <p:sp>
          <p:nvSpPr>
            <p:cNvPr id="717" name="AutoShape 12"/>
            <p:cNvSpPr/>
            <p:nvPr/>
          </p:nvSpPr>
          <p:spPr>
            <a:xfrm rot="2740800">
              <a:off x="224388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3"/>
            <p:cNvSpPr/>
            <p:nvPr/>
          </p:nvSpPr>
          <p:spPr>
            <a:xfrm rot="2740800">
              <a:off x="321768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1"/>
          <p:cNvGrpSpPr/>
          <p:nvPr/>
        </p:nvGrpSpPr>
        <p:grpSpPr>
          <a:xfrm>
            <a:off x="3286080" y="4251240"/>
            <a:ext cx="1274760" cy="1197720"/>
            <a:chOff x="3286080" y="4251240"/>
            <a:chExt cx="1274760" cy="1197720"/>
          </a:xfrm>
        </p:grpSpPr>
        <p:sp>
          <p:nvSpPr>
            <p:cNvPr id="720" name="AutoShape 12"/>
            <p:cNvSpPr/>
            <p:nvPr/>
          </p:nvSpPr>
          <p:spPr>
            <a:xfrm rot="2740800">
              <a:off x="345816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3"/>
            <p:cNvSpPr/>
            <p:nvPr/>
          </p:nvSpPr>
          <p:spPr>
            <a:xfrm rot="2740800">
              <a:off x="443196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11"/>
          <p:cNvGrpSpPr/>
          <p:nvPr/>
        </p:nvGrpSpPr>
        <p:grpSpPr>
          <a:xfrm>
            <a:off x="3898080" y="3643200"/>
            <a:ext cx="1197720" cy="1274400"/>
            <a:chOff x="3898080" y="3643200"/>
            <a:chExt cx="1197720" cy="1274400"/>
          </a:xfrm>
        </p:grpSpPr>
        <p:sp>
          <p:nvSpPr>
            <p:cNvPr id="723" name="AutoShape 12"/>
            <p:cNvSpPr/>
            <p:nvPr/>
          </p:nvSpPr>
          <p:spPr>
            <a:xfrm rot="8172600">
              <a:off x="4070520" y="38210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 rot="8172600">
              <a:off x="4424040" y="478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1"/>
          <p:cNvGrpSpPr/>
          <p:nvPr/>
        </p:nvGrpSpPr>
        <p:grpSpPr>
          <a:xfrm>
            <a:off x="4500360" y="3372480"/>
            <a:ext cx="1111680" cy="1050840"/>
            <a:chOff x="4500360" y="3372480"/>
            <a:chExt cx="1111680" cy="1050840"/>
          </a:xfrm>
        </p:grpSpPr>
        <p:sp>
          <p:nvSpPr>
            <p:cNvPr id="726" name="AutoShape 12"/>
            <p:cNvSpPr/>
            <p:nvPr/>
          </p:nvSpPr>
          <p:spPr>
            <a:xfrm rot="4437000">
              <a:off x="4597200" y="3476520"/>
              <a:ext cx="851040" cy="8427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 rot="4437000">
              <a:off x="5492880" y="414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4366440" y="4857840"/>
            <a:ext cx="962280" cy="1036080"/>
            <a:chOff x="4366440" y="4857840"/>
            <a:chExt cx="962280" cy="1036080"/>
          </a:xfrm>
        </p:grpSpPr>
        <p:sp>
          <p:nvSpPr>
            <p:cNvPr id="729" name="AutoShape 12"/>
            <p:cNvSpPr/>
            <p:nvPr/>
          </p:nvSpPr>
          <p:spPr>
            <a:xfrm rot="5931600">
              <a:off x="4420800" y="49233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 rot="5931600">
              <a:off x="5142960" y="5780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1"/>
          <p:cNvGrpSpPr/>
          <p:nvPr/>
        </p:nvGrpSpPr>
        <p:grpSpPr>
          <a:xfrm>
            <a:off x="3655800" y="4858200"/>
            <a:ext cx="1020600" cy="1076760"/>
            <a:chOff x="3655800" y="4858200"/>
            <a:chExt cx="1020600" cy="1076760"/>
          </a:xfrm>
        </p:grpSpPr>
        <p:sp>
          <p:nvSpPr>
            <p:cNvPr id="732" name="AutoShape 12"/>
            <p:cNvSpPr/>
            <p:nvPr/>
          </p:nvSpPr>
          <p:spPr>
            <a:xfrm rot="20808000">
              <a:off x="3740400" y="500832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 rot="20808000">
              <a:off x="4434120" y="48690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1"/>
          <p:cNvGrpSpPr/>
          <p:nvPr/>
        </p:nvGrpSpPr>
        <p:grpSpPr>
          <a:xfrm>
            <a:off x="2112120" y="3412080"/>
            <a:ext cx="1073520" cy="1015920"/>
            <a:chOff x="2112120" y="3412080"/>
            <a:chExt cx="1073520" cy="1015920"/>
          </a:xfrm>
        </p:grpSpPr>
        <p:sp>
          <p:nvSpPr>
            <p:cNvPr id="735" name="AutoShape 12"/>
            <p:cNvSpPr/>
            <p:nvPr/>
          </p:nvSpPr>
          <p:spPr>
            <a:xfrm rot="4636800">
              <a:off x="2190960" y="34988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3"/>
            <p:cNvSpPr/>
            <p:nvPr/>
          </p:nvSpPr>
          <p:spPr>
            <a:xfrm rot="4636800">
              <a:off x="3069000" y="4192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2000520" y="4051080"/>
            <a:ext cx="1143720" cy="1065600"/>
            <a:chOff x="2000520" y="4051080"/>
            <a:chExt cx="1143720" cy="1065600"/>
          </a:xfrm>
        </p:grpSpPr>
        <p:sp>
          <p:nvSpPr>
            <p:cNvPr id="738" name="AutoShape 12"/>
            <p:cNvSpPr/>
            <p:nvPr/>
          </p:nvSpPr>
          <p:spPr>
            <a:xfrm rot="1097400">
              <a:off x="2110680" y="416340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 rot="1097400">
              <a:off x="3023280" y="4267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9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9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9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9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9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1143000" y="2257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Спичечный рак ползет вверх. Переложить три спички так, чтобы он ополз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" descr="5"/>
          <p:cNvPicPr/>
          <p:nvPr/>
        </p:nvPicPr>
        <p:blipFill>
          <a:blip r:embed="rId2"/>
          <a:stretch/>
        </p:blipFill>
        <p:spPr>
          <a:xfrm>
            <a:off x="5786280" y="500040"/>
            <a:ext cx="3178440" cy="2928960"/>
          </a:xfrm>
          <a:prstGeom prst="rect">
            <a:avLst/>
          </a:prstGeom>
          <a:ln w="0">
            <a:noFill/>
          </a:ln>
        </p:spPr>
      </p:pic>
      <p:sp>
        <p:nvSpPr>
          <p:cNvPr id="744" name="Стрелка вправо 5"/>
          <p:cNvSpPr/>
          <p:nvPr/>
        </p:nvSpPr>
        <p:spPr>
          <a:xfrm>
            <a:off x="14292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3006720" y="3000240"/>
            <a:ext cx="942840" cy="994320"/>
            <a:chOff x="3006720" y="3000240"/>
            <a:chExt cx="942840" cy="994320"/>
          </a:xfrm>
        </p:grpSpPr>
        <p:sp>
          <p:nvSpPr>
            <p:cNvPr id="746" name="AutoShape 12"/>
            <p:cNvSpPr/>
            <p:nvPr/>
          </p:nvSpPr>
          <p:spPr>
            <a:xfrm rot="21200400">
              <a:off x="3052440" y="3105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 rot="21200400">
              <a:off x="3801600" y="300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3747600" y="3052800"/>
            <a:ext cx="1008720" cy="1083600"/>
            <a:chOff x="3747600" y="3052800"/>
            <a:chExt cx="1008720" cy="1083600"/>
          </a:xfrm>
        </p:grpSpPr>
        <p:sp>
          <p:nvSpPr>
            <p:cNvPr id="749" name="AutoShape 12"/>
            <p:cNvSpPr/>
            <p:nvPr/>
          </p:nvSpPr>
          <p:spPr>
            <a:xfrm rot="16958400">
              <a:off x="3825360" y="320688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 rot="16958400">
              <a:off x="3881160" y="3063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1"/>
          <p:cNvGrpSpPr/>
          <p:nvPr/>
        </p:nvGrpSpPr>
        <p:grpSpPr>
          <a:xfrm>
            <a:off x="5078520" y="4143240"/>
            <a:ext cx="942840" cy="994320"/>
            <a:chOff x="5078520" y="4143240"/>
            <a:chExt cx="942840" cy="994320"/>
          </a:xfrm>
        </p:grpSpPr>
        <p:sp>
          <p:nvSpPr>
            <p:cNvPr id="752" name="AutoShape 12"/>
            <p:cNvSpPr/>
            <p:nvPr/>
          </p:nvSpPr>
          <p:spPr>
            <a:xfrm rot="21200400">
              <a:off x="512424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 rot="21200400">
              <a:off x="587340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1"/>
          <p:cNvGrpSpPr/>
          <p:nvPr/>
        </p:nvGrpSpPr>
        <p:grpSpPr>
          <a:xfrm>
            <a:off x="2220840" y="3999960"/>
            <a:ext cx="943200" cy="994680"/>
            <a:chOff x="2220840" y="3999960"/>
            <a:chExt cx="943200" cy="994680"/>
          </a:xfrm>
        </p:grpSpPr>
        <p:sp>
          <p:nvSpPr>
            <p:cNvPr id="755" name="AutoShape 12"/>
            <p:cNvSpPr/>
            <p:nvPr/>
          </p:nvSpPr>
          <p:spPr>
            <a:xfrm rot="21200400">
              <a:off x="2266560" y="4105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 rot="21200400">
              <a:off x="3016080" y="4005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2863800" y="5142960"/>
            <a:ext cx="943200" cy="994680"/>
            <a:chOff x="2863800" y="5142960"/>
            <a:chExt cx="943200" cy="994680"/>
          </a:xfrm>
        </p:grpSpPr>
        <p:sp>
          <p:nvSpPr>
            <p:cNvPr id="758" name="AutoShape 12"/>
            <p:cNvSpPr/>
            <p:nvPr/>
          </p:nvSpPr>
          <p:spPr>
            <a:xfrm rot="21200400">
              <a:off x="2909520" y="5248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 rot="21200400">
              <a:off x="3659040" y="514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1"/>
          <p:cNvGrpSpPr/>
          <p:nvPr/>
        </p:nvGrpSpPr>
        <p:grpSpPr>
          <a:xfrm>
            <a:off x="1479600" y="3929760"/>
            <a:ext cx="1022400" cy="1098720"/>
            <a:chOff x="1479600" y="3929760"/>
            <a:chExt cx="1022400" cy="1098720"/>
          </a:xfrm>
        </p:grpSpPr>
        <p:sp>
          <p:nvSpPr>
            <p:cNvPr id="761" name="AutoShape 12"/>
            <p:cNvSpPr/>
            <p:nvPr/>
          </p:nvSpPr>
          <p:spPr>
            <a:xfrm rot="17043600">
              <a:off x="1564560" y="40924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3"/>
            <p:cNvSpPr/>
            <p:nvPr/>
          </p:nvSpPr>
          <p:spPr>
            <a:xfrm rot="17043600">
              <a:off x="1634040" y="3941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1"/>
          <p:cNvGrpSpPr/>
          <p:nvPr/>
        </p:nvGrpSpPr>
        <p:grpSpPr>
          <a:xfrm>
            <a:off x="2908080" y="4072680"/>
            <a:ext cx="1022760" cy="1099080"/>
            <a:chOff x="2908080" y="4072680"/>
            <a:chExt cx="1022760" cy="1099080"/>
          </a:xfrm>
        </p:grpSpPr>
        <p:sp>
          <p:nvSpPr>
            <p:cNvPr id="764" name="AutoShape 12"/>
            <p:cNvSpPr/>
            <p:nvPr/>
          </p:nvSpPr>
          <p:spPr>
            <a:xfrm rot="17043600">
              <a:off x="2993040" y="42354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 rot="17043600">
              <a:off x="3062520" y="4084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"/>
          <p:cNvGrpSpPr/>
          <p:nvPr/>
        </p:nvGrpSpPr>
        <p:grpSpPr>
          <a:xfrm>
            <a:off x="3551040" y="5143680"/>
            <a:ext cx="1023120" cy="1099440"/>
            <a:chOff x="3551040" y="5143680"/>
            <a:chExt cx="1023120" cy="1099440"/>
          </a:xfrm>
        </p:grpSpPr>
        <p:sp>
          <p:nvSpPr>
            <p:cNvPr id="767" name="AutoShape 12"/>
            <p:cNvSpPr/>
            <p:nvPr/>
          </p:nvSpPr>
          <p:spPr>
            <a:xfrm rot="17043600">
              <a:off x="3636000" y="5306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"/>
            <p:cNvSpPr/>
            <p:nvPr/>
          </p:nvSpPr>
          <p:spPr>
            <a:xfrm rot="17043600">
              <a:off x="3705480" y="5155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1"/>
          <p:cNvGrpSpPr/>
          <p:nvPr/>
        </p:nvGrpSpPr>
        <p:grpSpPr>
          <a:xfrm>
            <a:off x="3649680" y="4143240"/>
            <a:ext cx="942840" cy="994320"/>
            <a:chOff x="3649680" y="4143240"/>
            <a:chExt cx="942840" cy="994320"/>
          </a:xfrm>
        </p:grpSpPr>
        <p:sp>
          <p:nvSpPr>
            <p:cNvPr id="770" name="AutoShape 12"/>
            <p:cNvSpPr/>
            <p:nvPr/>
          </p:nvSpPr>
          <p:spPr>
            <a:xfrm rot="21200400">
              <a:off x="369540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 rot="21200400">
              <a:off x="444456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1"/>
          <p:cNvGrpSpPr/>
          <p:nvPr/>
        </p:nvGrpSpPr>
        <p:grpSpPr>
          <a:xfrm>
            <a:off x="4336560" y="4071600"/>
            <a:ext cx="1052280" cy="1129320"/>
            <a:chOff x="4336560" y="4071600"/>
            <a:chExt cx="1052280" cy="1129320"/>
          </a:xfrm>
        </p:grpSpPr>
        <p:sp>
          <p:nvSpPr>
            <p:cNvPr id="773" name="AutoShape 12"/>
            <p:cNvSpPr/>
            <p:nvPr/>
          </p:nvSpPr>
          <p:spPr>
            <a:xfrm rot="17211600">
              <a:off x="4435920" y="425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 rot="17211600">
              <a:off x="4531320" y="4084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5766480" y="4142520"/>
            <a:ext cx="1027440" cy="1104480"/>
            <a:chOff x="5766480" y="4142520"/>
            <a:chExt cx="1027440" cy="1104480"/>
          </a:xfrm>
        </p:grpSpPr>
        <p:sp>
          <p:nvSpPr>
            <p:cNvPr id="776" name="AutoShape 12"/>
            <p:cNvSpPr/>
            <p:nvPr/>
          </p:nvSpPr>
          <p:spPr>
            <a:xfrm rot="17070000">
              <a:off x="5853600" y="43084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 rot="17070000">
              <a:off x="5927040" y="41547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4435560" y="3071880"/>
            <a:ext cx="942840" cy="994320"/>
            <a:chOff x="4435560" y="3071880"/>
            <a:chExt cx="942840" cy="994320"/>
          </a:xfrm>
        </p:grpSpPr>
        <p:sp>
          <p:nvSpPr>
            <p:cNvPr id="779" name="AutoShape 12"/>
            <p:cNvSpPr/>
            <p:nvPr/>
          </p:nvSpPr>
          <p:spPr>
            <a:xfrm rot="21200400">
              <a:off x="4481280" y="317736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 rot="21200400">
              <a:off x="5230440" y="307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1"/>
          <p:cNvGrpSpPr/>
          <p:nvPr/>
        </p:nvGrpSpPr>
        <p:grpSpPr>
          <a:xfrm>
            <a:off x="4292640" y="5214960"/>
            <a:ext cx="942840" cy="994320"/>
            <a:chOff x="4292640" y="5214960"/>
            <a:chExt cx="942840" cy="994320"/>
          </a:xfrm>
        </p:grpSpPr>
        <p:sp>
          <p:nvSpPr>
            <p:cNvPr id="782" name="AutoShape 12"/>
            <p:cNvSpPr/>
            <p:nvPr/>
          </p:nvSpPr>
          <p:spPr>
            <a:xfrm rot="21200400">
              <a:off x="4338360" y="53204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 rot="21200400">
              <a:off x="5087520" y="522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5" name="Прямоугольник 2"/>
          <p:cNvSpPr/>
          <p:nvPr/>
        </p:nvSpPr>
        <p:spPr>
          <a:xfrm>
            <a:off x="13572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8 квадратов лежат так как показано на рисунк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1) переложите 2 спички так, чтобы получилось 7 одинаковых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2) из полученной фигуры отнимите 2 спички так, чтобы осталось 5 квадрат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" descr="Восемь квадратов"/>
          <p:cNvPicPr/>
          <p:nvPr/>
        </p:nvPicPr>
        <p:blipFill>
          <a:blip r:embed="rId2"/>
          <a:stretch/>
        </p:blipFill>
        <p:spPr>
          <a:xfrm>
            <a:off x="5072040" y="27147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4"/>
          <p:cNvSpPr/>
          <p:nvPr/>
        </p:nvSpPr>
        <p:spPr>
          <a:xfrm>
            <a:off x="571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11"/>
          <p:cNvGrpSpPr/>
          <p:nvPr/>
        </p:nvGrpSpPr>
        <p:grpSpPr>
          <a:xfrm>
            <a:off x="251280" y="5214960"/>
            <a:ext cx="1197720" cy="1274760"/>
            <a:chOff x="251280" y="5214960"/>
            <a:chExt cx="1197720" cy="1274760"/>
          </a:xfrm>
        </p:grpSpPr>
        <p:sp>
          <p:nvSpPr>
            <p:cNvPr id="791" name="AutoShape 12"/>
            <p:cNvSpPr/>
            <p:nvPr/>
          </p:nvSpPr>
          <p:spPr>
            <a:xfrm rot="18879000">
              <a:off x="42336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 rot="18879000">
              <a:off x="79956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251280" y="4000680"/>
            <a:ext cx="1197360" cy="1274760"/>
            <a:chOff x="251280" y="4000680"/>
            <a:chExt cx="1197360" cy="1274760"/>
          </a:xfrm>
        </p:grpSpPr>
        <p:sp>
          <p:nvSpPr>
            <p:cNvPr id="794" name="AutoShape 12"/>
            <p:cNvSpPr/>
            <p:nvPr/>
          </p:nvSpPr>
          <p:spPr>
            <a:xfrm rot="18879000">
              <a:off x="423720" y="4255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 rot="18879000">
              <a:off x="799200" y="402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3894840" y="4071960"/>
            <a:ext cx="1197360" cy="1274400"/>
            <a:chOff x="3894840" y="4071960"/>
            <a:chExt cx="1197360" cy="1274400"/>
          </a:xfrm>
        </p:grpSpPr>
        <p:sp>
          <p:nvSpPr>
            <p:cNvPr id="797" name="AutoShape 12"/>
            <p:cNvSpPr/>
            <p:nvPr/>
          </p:nvSpPr>
          <p:spPr>
            <a:xfrm rot="18879000">
              <a:off x="406692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 rot="18879000">
              <a:off x="444276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856800" y="5823000"/>
            <a:ext cx="1274760" cy="1197360"/>
            <a:chOff x="856800" y="5823000"/>
            <a:chExt cx="1274760" cy="1197360"/>
          </a:xfrm>
        </p:grpSpPr>
        <p:sp>
          <p:nvSpPr>
            <p:cNvPr id="800" name="AutoShape 12"/>
            <p:cNvSpPr/>
            <p:nvPr/>
          </p:nvSpPr>
          <p:spPr>
            <a:xfrm rot="2740200">
              <a:off x="102924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 rot="2740200">
              <a:off x="200268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1"/>
          <p:cNvGrpSpPr/>
          <p:nvPr/>
        </p:nvGrpSpPr>
        <p:grpSpPr>
          <a:xfrm>
            <a:off x="2071440" y="5823000"/>
            <a:ext cx="1274760" cy="1197360"/>
            <a:chOff x="2071440" y="5823000"/>
            <a:chExt cx="1274760" cy="1197360"/>
          </a:xfrm>
        </p:grpSpPr>
        <p:sp>
          <p:nvSpPr>
            <p:cNvPr id="803" name="AutoShape 12"/>
            <p:cNvSpPr/>
            <p:nvPr/>
          </p:nvSpPr>
          <p:spPr>
            <a:xfrm rot="2740200">
              <a:off x="224388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 rot="2740200">
              <a:off x="321732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1"/>
          <p:cNvGrpSpPr/>
          <p:nvPr/>
        </p:nvGrpSpPr>
        <p:grpSpPr>
          <a:xfrm>
            <a:off x="3285720" y="5823000"/>
            <a:ext cx="1274760" cy="1197360"/>
            <a:chOff x="3285720" y="5823000"/>
            <a:chExt cx="1274760" cy="1197360"/>
          </a:xfrm>
        </p:grpSpPr>
        <p:sp>
          <p:nvSpPr>
            <p:cNvPr id="806" name="AutoShape 12"/>
            <p:cNvSpPr/>
            <p:nvPr/>
          </p:nvSpPr>
          <p:spPr>
            <a:xfrm rot="2740200">
              <a:off x="345816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 rot="2740200">
              <a:off x="443160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856800" y="4680000"/>
            <a:ext cx="1274760" cy="1197360"/>
            <a:chOff x="856800" y="4680000"/>
            <a:chExt cx="1274760" cy="1197360"/>
          </a:xfrm>
        </p:grpSpPr>
        <p:sp>
          <p:nvSpPr>
            <p:cNvPr id="809" name="AutoShape 12"/>
            <p:cNvSpPr/>
            <p:nvPr/>
          </p:nvSpPr>
          <p:spPr>
            <a:xfrm rot="2740200">
              <a:off x="102924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 rot="2740200">
              <a:off x="200268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1"/>
          <p:cNvGrpSpPr/>
          <p:nvPr/>
        </p:nvGrpSpPr>
        <p:grpSpPr>
          <a:xfrm>
            <a:off x="2071440" y="4680000"/>
            <a:ext cx="1274760" cy="1197360"/>
            <a:chOff x="2071440" y="4680000"/>
            <a:chExt cx="1274760" cy="1197360"/>
          </a:xfrm>
        </p:grpSpPr>
        <p:sp>
          <p:nvSpPr>
            <p:cNvPr id="812" name="AutoShape 12"/>
            <p:cNvSpPr/>
            <p:nvPr/>
          </p:nvSpPr>
          <p:spPr>
            <a:xfrm rot="2740200">
              <a:off x="224388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3"/>
            <p:cNvSpPr/>
            <p:nvPr/>
          </p:nvSpPr>
          <p:spPr>
            <a:xfrm rot="2740200">
              <a:off x="321732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1"/>
          <p:cNvGrpSpPr/>
          <p:nvPr/>
        </p:nvGrpSpPr>
        <p:grpSpPr>
          <a:xfrm>
            <a:off x="3285720" y="4680000"/>
            <a:ext cx="1274760" cy="1197360"/>
            <a:chOff x="3285720" y="4680000"/>
            <a:chExt cx="1274760" cy="1197360"/>
          </a:xfrm>
        </p:grpSpPr>
        <p:sp>
          <p:nvSpPr>
            <p:cNvPr id="815" name="AutoShape 12"/>
            <p:cNvSpPr/>
            <p:nvPr/>
          </p:nvSpPr>
          <p:spPr>
            <a:xfrm rot="2740200">
              <a:off x="345816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"/>
            <p:cNvSpPr/>
            <p:nvPr/>
          </p:nvSpPr>
          <p:spPr>
            <a:xfrm rot="2740200">
              <a:off x="443160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1"/>
          <p:cNvGrpSpPr/>
          <p:nvPr/>
        </p:nvGrpSpPr>
        <p:grpSpPr>
          <a:xfrm>
            <a:off x="856800" y="3465360"/>
            <a:ext cx="1275120" cy="1197720"/>
            <a:chOff x="856800" y="3465360"/>
            <a:chExt cx="1275120" cy="1197720"/>
          </a:xfrm>
        </p:grpSpPr>
        <p:sp>
          <p:nvSpPr>
            <p:cNvPr id="818" name="AutoShape 12"/>
            <p:cNvSpPr/>
            <p:nvPr/>
          </p:nvSpPr>
          <p:spPr>
            <a:xfrm rot="2740200">
              <a:off x="102924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 rot="2740200">
              <a:off x="200304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1"/>
          <p:cNvGrpSpPr/>
          <p:nvPr/>
        </p:nvGrpSpPr>
        <p:grpSpPr>
          <a:xfrm>
            <a:off x="2071440" y="3465360"/>
            <a:ext cx="1275120" cy="1197720"/>
            <a:chOff x="2071440" y="3465360"/>
            <a:chExt cx="1275120" cy="1197720"/>
          </a:xfrm>
        </p:grpSpPr>
        <p:sp>
          <p:nvSpPr>
            <p:cNvPr id="821" name="AutoShape 12"/>
            <p:cNvSpPr/>
            <p:nvPr/>
          </p:nvSpPr>
          <p:spPr>
            <a:xfrm rot="2740200">
              <a:off x="224388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 rot="2740200">
              <a:off x="321768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1"/>
          <p:cNvGrpSpPr/>
          <p:nvPr/>
        </p:nvGrpSpPr>
        <p:grpSpPr>
          <a:xfrm>
            <a:off x="3285720" y="3465360"/>
            <a:ext cx="1275120" cy="1197720"/>
            <a:chOff x="3285720" y="3465360"/>
            <a:chExt cx="1275120" cy="1197720"/>
          </a:xfrm>
        </p:grpSpPr>
        <p:sp>
          <p:nvSpPr>
            <p:cNvPr id="824" name="AutoShape 12"/>
            <p:cNvSpPr/>
            <p:nvPr/>
          </p:nvSpPr>
          <p:spPr>
            <a:xfrm rot="2740200">
              <a:off x="345816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 rot="2740200">
              <a:off x="443196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56800" y="2251080"/>
            <a:ext cx="1274760" cy="1197360"/>
            <a:chOff x="856800" y="2251080"/>
            <a:chExt cx="1274760" cy="1197360"/>
          </a:xfrm>
        </p:grpSpPr>
        <p:sp>
          <p:nvSpPr>
            <p:cNvPr id="827" name="AutoShape 12"/>
            <p:cNvSpPr/>
            <p:nvPr/>
          </p:nvSpPr>
          <p:spPr>
            <a:xfrm rot="2740200">
              <a:off x="102924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 rot="2740200">
              <a:off x="200268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11"/>
          <p:cNvGrpSpPr/>
          <p:nvPr/>
        </p:nvGrpSpPr>
        <p:grpSpPr>
          <a:xfrm>
            <a:off x="2071440" y="2251080"/>
            <a:ext cx="1274760" cy="1197360"/>
            <a:chOff x="2071440" y="2251080"/>
            <a:chExt cx="1274760" cy="1197360"/>
          </a:xfrm>
        </p:grpSpPr>
        <p:sp>
          <p:nvSpPr>
            <p:cNvPr id="830" name="AutoShape 12"/>
            <p:cNvSpPr/>
            <p:nvPr/>
          </p:nvSpPr>
          <p:spPr>
            <a:xfrm rot="2740200">
              <a:off x="224388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 rot="2740200">
              <a:off x="321732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1465920" y="2786040"/>
            <a:ext cx="1197720" cy="1274760"/>
            <a:chOff x="1465920" y="2786040"/>
            <a:chExt cx="1197720" cy="1274760"/>
          </a:xfrm>
        </p:grpSpPr>
        <p:sp>
          <p:nvSpPr>
            <p:cNvPr id="833" name="AutoShape 12"/>
            <p:cNvSpPr/>
            <p:nvPr/>
          </p:nvSpPr>
          <p:spPr>
            <a:xfrm rot="18879000">
              <a:off x="1638000" y="30412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 rot="18879000">
              <a:off x="2014200" y="2808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11"/>
          <p:cNvGrpSpPr/>
          <p:nvPr/>
        </p:nvGrpSpPr>
        <p:grpSpPr>
          <a:xfrm>
            <a:off x="2680200" y="2857680"/>
            <a:ext cx="1197360" cy="1274760"/>
            <a:chOff x="2680200" y="2857680"/>
            <a:chExt cx="1197360" cy="1274760"/>
          </a:xfrm>
        </p:grpSpPr>
        <p:sp>
          <p:nvSpPr>
            <p:cNvPr id="836" name="AutoShape 12"/>
            <p:cNvSpPr/>
            <p:nvPr/>
          </p:nvSpPr>
          <p:spPr>
            <a:xfrm rot="18879000">
              <a:off x="285264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3"/>
            <p:cNvSpPr/>
            <p:nvPr/>
          </p:nvSpPr>
          <p:spPr>
            <a:xfrm rot="18879000">
              <a:off x="322812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11"/>
          <p:cNvGrpSpPr/>
          <p:nvPr/>
        </p:nvGrpSpPr>
        <p:grpSpPr>
          <a:xfrm>
            <a:off x="1465920" y="4071960"/>
            <a:ext cx="1197720" cy="1274760"/>
            <a:chOff x="1465920" y="4071960"/>
            <a:chExt cx="1197720" cy="1274760"/>
          </a:xfrm>
        </p:grpSpPr>
        <p:sp>
          <p:nvSpPr>
            <p:cNvPr id="839" name="AutoShape 12"/>
            <p:cNvSpPr/>
            <p:nvPr/>
          </p:nvSpPr>
          <p:spPr>
            <a:xfrm rot="18879000">
              <a:off x="163800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 rot="18879000">
              <a:off x="201420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1"/>
          <p:cNvGrpSpPr/>
          <p:nvPr/>
        </p:nvGrpSpPr>
        <p:grpSpPr>
          <a:xfrm>
            <a:off x="2680200" y="4071960"/>
            <a:ext cx="1197720" cy="1274760"/>
            <a:chOff x="2680200" y="4071960"/>
            <a:chExt cx="1197720" cy="1274760"/>
          </a:xfrm>
        </p:grpSpPr>
        <p:sp>
          <p:nvSpPr>
            <p:cNvPr id="842" name="AutoShape 12"/>
            <p:cNvSpPr/>
            <p:nvPr/>
          </p:nvSpPr>
          <p:spPr>
            <a:xfrm rot="18879000">
              <a:off x="28522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 rot="18879000">
              <a:off x="32284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1"/>
          <p:cNvGrpSpPr/>
          <p:nvPr/>
        </p:nvGrpSpPr>
        <p:grpSpPr>
          <a:xfrm>
            <a:off x="251280" y="2857680"/>
            <a:ext cx="1197360" cy="1274760"/>
            <a:chOff x="251280" y="2857680"/>
            <a:chExt cx="1197360" cy="1274760"/>
          </a:xfrm>
        </p:grpSpPr>
        <p:sp>
          <p:nvSpPr>
            <p:cNvPr id="845" name="AutoShape 12"/>
            <p:cNvSpPr/>
            <p:nvPr/>
          </p:nvSpPr>
          <p:spPr>
            <a:xfrm rot="18879000">
              <a:off x="42372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rot="18879000">
              <a:off x="79920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1"/>
          <p:cNvGrpSpPr/>
          <p:nvPr/>
        </p:nvGrpSpPr>
        <p:grpSpPr>
          <a:xfrm>
            <a:off x="1465920" y="5214960"/>
            <a:ext cx="1197720" cy="1274760"/>
            <a:chOff x="1465920" y="5214960"/>
            <a:chExt cx="1197720" cy="1274760"/>
          </a:xfrm>
        </p:grpSpPr>
        <p:sp>
          <p:nvSpPr>
            <p:cNvPr id="848" name="AutoShape 12"/>
            <p:cNvSpPr/>
            <p:nvPr/>
          </p:nvSpPr>
          <p:spPr>
            <a:xfrm rot="18879000">
              <a:off x="163800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3"/>
            <p:cNvSpPr/>
            <p:nvPr/>
          </p:nvSpPr>
          <p:spPr>
            <a:xfrm rot="18879000">
              <a:off x="201420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1"/>
          <p:cNvGrpSpPr/>
          <p:nvPr/>
        </p:nvGrpSpPr>
        <p:grpSpPr>
          <a:xfrm>
            <a:off x="2680200" y="5214960"/>
            <a:ext cx="1197720" cy="1274760"/>
            <a:chOff x="2680200" y="5214960"/>
            <a:chExt cx="1197720" cy="1274760"/>
          </a:xfrm>
        </p:grpSpPr>
        <p:sp>
          <p:nvSpPr>
            <p:cNvPr id="851" name="AutoShape 12"/>
            <p:cNvSpPr/>
            <p:nvPr/>
          </p:nvSpPr>
          <p:spPr>
            <a:xfrm rot="18879000">
              <a:off x="285228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 rot="18879000">
              <a:off x="322848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1"/>
          <p:cNvGrpSpPr/>
          <p:nvPr/>
        </p:nvGrpSpPr>
        <p:grpSpPr>
          <a:xfrm>
            <a:off x="3894840" y="5214960"/>
            <a:ext cx="1197360" cy="1274400"/>
            <a:chOff x="3894840" y="5214960"/>
            <a:chExt cx="1197360" cy="1274400"/>
          </a:xfrm>
        </p:grpSpPr>
        <p:sp>
          <p:nvSpPr>
            <p:cNvPr id="854" name="AutoShape 12"/>
            <p:cNvSpPr/>
            <p:nvPr/>
          </p:nvSpPr>
          <p:spPr>
            <a:xfrm rot="18879000">
              <a:off x="4066920" y="5470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3"/>
            <p:cNvSpPr/>
            <p:nvPr/>
          </p:nvSpPr>
          <p:spPr>
            <a:xfrm rot="18879000">
              <a:off x="4442760" y="5236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1"/>
          <p:cNvGrpSpPr/>
          <p:nvPr/>
        </p:nvGrpSpPr>
        <p:grpSpPr>
          <a:xfrm>
            <a:off x="3894840" y="2857680"/>
            <a:ext cx="1197000" cy="1274400"/>
            <a:chOff x="3894840" y="2857680"/>
            <a:chExt cx="1197000" cy="1274400"/>
          </a:xfrm>
        </p:grpSpPr>
        <p:sp>
          <p:nvSpPr>
            <p:cNvPr id="857" name="AutoShape 12"/>
            <p:cNvSpPr/>
            <p:nvPr/>
          </p:nvSpPr>
          <p:spPr>
            <a:xfrm rot="18879000">
              <a:off x="4066920" y="311292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3"/>
            <p:cNvSpPr/>
            <p:nvPr/>
          </p:nvSpPr>
          <p:spPr>
            <a:xfrm rot="18879000">
              <a:off x="4442400" y="2879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1"/>
          <p:cNvGrpSpPr/>
          <p:nvPr/>
        </p:nvGrpSpPr>
        <p:grpSpPr>
          <a:xfrm>
            <a:off x="3286080" y="2251080"/>
            <a:ext cx="1274400" cy="1197360"/>
            <a:chOff x="3286080" y="2251080"/>
            <a:chExt cx="1274400" cy="1197360"/>
          </a:xfrm>
        </p:grpSpPr>
        <p:sp>
          <p:nvSpPr>
            <p:cNvPr id="860" name="AutoShape 12"/>
            <p:cNvSpPr/>
            <p:nvPr/>
          </p:nvSpPr>
          <p:spPr>
            <a:xfrm rot="2736600">
              <a:off x="345816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 rot="2736600">
              <a:off x="4431600" y="280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0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143000" y="35712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Есть 13 спичек по 5 см длиной каждая. Нужно ухитриться выложить из них мет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«Метр» - Ответ"/>
          <p:cNvPicPr/>
          <p:nvPr/>
        </p:nvPicPr>
        <p:blipFill>
          <a:blip r:embed="rId2"/>
          <a:stretch/>
        </p:blipFill>
        <p:spPr>
          <a:xfrm>
            <a:off x="500040" y="2500200"/>
            <a:ext cx="8215200" cy="204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3" name="Прямоугольник 2" descr=""/>
          <p:cNvPicPr/>
          <p:nvPr/>
        </p:nvPicPr>
        <p:blipFill>
          <a:blip r:embed="rId2"/>
          <a:stretch/>
        </p:blipFill>
        <p:spPr>
          <a:xfrm>
            <a:off x="152280" y="1017720"/>
            <a:ext cx="9156960" cy="6059520"/>
          </a:xfrm>
          <a:prstGeom prst="rect">
            <a:avLst/>
          </a:prstGeom>
          <a:ln w="0">
            <a:noFill/>
          </a:ln>
        </p:spPr>
      </p:pic>
      <p:pic>
        <p:nvPicPr>
          <p:cNvPr id="864" name="Прямоугольник 5" descr=""/>
          <p:cNvPicPr/>
          <p:nvPr/>
        </p:nvPicPr>
        <p:blipFill>
          <a:blip r:embed="rId3"/>
          <a:stretch/>
        </p:blipFill>
        <p:spPr>
          <a:xfrm>
            <a:off x="-347760" y="-249120"/>
            <a:ext cx="8163000" cy="121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" descr="Кубик Рубика (вид сверху)"/>
          <p:cNvPicPr/>
          <p:nvPr/>
        </p:nvPicPr>
        <p:blipFill>
          <a:blip r:embed="rId4"/>
          <a:stretch/>
        </p:blipFill>
        <p:spPr>
          <a:xfrm>
            <a:off x="6357960" y="785880"/>
            <a:ext cx="2589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7" name="Прямоугольник 6" descr=""/>
          <p:cNvPicPr/>
          <p:nvPr/>
        </p:nvPicPr>
        <p:blipFill>
          <a:blip r:embed="rId2"/>
          <a:stretch/>
        </p:blipFill>
        <p:spPr>
          <a:xfrm>
            <a:off x="798480" y="506520"/>
            <a:ext cx="7712280" cy="27972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добрые друзья"/>
          <p:cNvPicPr/>
          <p:nvPr/>
        </p:nvPicPr>
        <p:blipFill>
          <a:blip r:embed="rId3"/>
          <a:stretch/>
        </p:blipFill>
        <p:spPr>
          <a:xfrm>
            <a:off x="3643200" y="2143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Стрелка"/>
          <p:cNvPicPr/>
          <p:nvPr/>
        </p:nvPicPr>
        <p:blipFill>
          <a:blip r:embed="rId2"/>
          <a:stretch/>
        </p:blipFill>
        <p:spPr>
          <a:xfrm>
            <a:off x="642960" y="1928880"/>
            <a:ext cx="342900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357200" y="357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ереложите 3 спички, чтобы стрела поменяла своё направление на противополож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1640" y="-396000"/>
            <a:ext cx="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5001120" y="3264480"/>
            <a:ext cx="1642680" cy="1543320"/>
            <a:chOff x="5001120" y="3264480"/>
            <a:chExt cx="1642680" cy="1543320"/>
          </a:xfrm>
        </p:grpSpPr>
        <p:sp>
          <p:nvSpPr>
            <p:cNvPr id="56" name="AutoShape 12"/>
            <p:cNvSpPr/>
            <p:nvPr/>
          </p:nvSpPr>
          <p:spPr>
            <a:xfrm rot="2643000">
              <a:off x="5234400" y="3482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 rot="2643000">
              <a:off x="6479280" y="3945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000760" y="2996640"/>
            <a:ext cx="1404720" cy="1339560"/>
            <a:chOff x="5000760" y="2996640"/>
            <a:chExt cx="1404720" cy="1339560"/>
          </a:xfrm>
        </p:grpSpPr>
        <p:sp>
          <p:nvSpPr>
            <p:cNvPr id="59" name="AutoShape 12"/>
            <p:cNvSpPr/>
            <p:nvPr/>
          </p:nvSpPr>
          <p:spPr>
            <a:xfrm rot="869400">
              <a:off x="5121720" y="311328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 rot="869400">
              <a:off x="6255000" y="3197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571440" y="2999520"/>
            <a:ext cx="1419480" cy="1352880"/>
            <a:chOff x="6571440" y="2999520"/>
            <a:chExt cx="1419480" cy="1352880"/>
          </a:xfrm>
        </p:grpSpPr>
        <p:sp>
          <p:nvSpPr>
            <p:cNvPr id="62" name="AutoShape 12"/>
            <p:cNvSpPr/>
            <p:nvPr/>
          </p:nvSpPr>
          <p:spPr>
            <a:xfrm rot="923400">
              <a:off x="6698880" y="3122280"/>
              <a:ext cx="1076400" cy="1107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"/>
            <p:cNvSpPr/>
            <p:nvPr/>
          </p:nvSpPr>
          <p:spPr>
            <a:xfrm rot="923400">
              <a:off x="7839720" y="328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5000760" y="3937320"/>
            <a:ext cx="1301040" cy="1198080"/>
            <a:chOff x="5000760" y="3937320"/>
            <a:chExt cx="1301040" cy="1198080"/>
          </a:xfrm>
        </p:grpSpPr>
        <p:sp>
          <p:nvSpPr>
            <p:cNvPr id="65" name="AutoShape 12"/>
            <p:cNvSpPr/>
            <p:nvPr/>
          </p:nvSpPr>
          <p:spPr>
            <a:xfrm rot="4995600">
              <a:off x="5074560" y="398340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 rot="4995600">
              <a:off x="6157440" y="49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6572520" y="4000680"/>
            <a:ext cx="1176120" cy="1147320"/>
            <a:chOff x="6572520" y="4000680"/>
            <a:chExt cx="1176120" cy="1147320"/>
          </a:xfrm>
        </p:grpSpPr>
        <p:sp>
          <p:nvSpPr>
            <p:cNvPr id="68" name="AutoShape 12"/>
            <p:cNvSpPr/>
            <p:nvPr/>
          </p:nvSpPr>
          <p:spPr>
            <a:xfrm rot="5400000">
              <a:off x="6588000" y="39852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 rot="5400000">
              <a:off x="7611840" y="5011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6286680" y="2478600"/>
            <a:ext cx="1642680" cy="1543680"/>
            <a:chOff x="6286680" y="2478600"/>
            <a:chExt cx="1642680" cy="1543680"/>
          </a:xfrm>
        </p:grpSpPr>
        <p:sp>
          <p:nvSpPr>
            <p:cNvPr id="71" name="AutoShape 12"/>
            <p:cNvSpPr/>
            <p:nvPr/>
          </p:nvSpPr>
          <p:spPr>
            <a:xfrm rot="2643000">
              <a:off x="6519600" y="269676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3"/>
            <p:cNvSpPr/>
            <p:nvPr/>
          </p:nvSpPr>
          <p:spPr>
            <a:xfrm rot="2643000">
              <a:off x="7764840" y="316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6715440" y="2079720"/>
            <a:ext cx="1301040" cy="1198440"/>
            <a:chOff x="6715440" y="2079720"/>
            <a:chExt cx="1301040" cy="1198440"/>
          </a:xfrm>
        </p:grpSpPr>
        <p:sp>
          <p:nvSpPr>
            <p:cNvPr id="74" name="AutoShape 12"/>
            <p:cNvSpPr/>
            <p:nvPr/>
          </p:nvSpPr>
          <p:spPr>
            <a:xfrm rot="4995600">
              <a:off x="6789240" y="2126160"/>
              <a:ext cx="107604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 rot="4995600">
              <a:off x="7872120" y="308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215320" y="2143080"/>
            <a:ext cx="1176120" cy="1147320"/>
            <a:chOff x="5215320" y="2143080"/>
            <a:chExt cx="1176120" cy="1147320"/>
          </a:xfrm>
        </p:grpSpPr>
        <p:sp>
          <p:nvSpPr>
            <p:cNvPr id="77" name="AutoShape 12"/>
            <p:cNvSpPr/>
            <p:nvPr/>
          </p:nvSpPr>
          <p:spPr>
            <a:xfrm rot="5400000">
              <a:off x="5230800" y="2127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 rot="5400000">
              <a:off x="6254640" y="3153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214280" y="357120"/>
            <a:ext cx="72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з четырех спичек легко сложить один квадрат. Добавим еще две — сломанные попола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Поломанный квадрат - Ответ"/>
          <p:cNvPicPr/>
          <p:nvPr/>
        </p:nvPicPr>
        <p:blipFill>
          <a:blip r:embed="rId2"/>
          <a:stretch/>
        </p:blipFill>
        <p:spPr>
          <a:xfrm>
            <a:off x="642960" y="3214800"/>
            <a:ext cx="7858080" cy="271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57120" y="15001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колько квадратов ты сможешь из них сложить? Как — всего два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66400" y="2428920"/>
            <a:ext cx="54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А у нас вышло три..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71760" y="500040"/>
            <a:ext cx="72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Из 9 спичек необходимо собрать 6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Придорожный знак - Ответ"/>
          <p:cNvPicPr/>
          <p:nvPr/>
        </p:nvPicPr>
        <p:blipFill>
          <a:blip r:embed="rId2"/>
          <a:stretch/>
        </p:blipFill>
        <p:spPr>
          <a:xfrm>
            <a:off x="1071720" y="2500200"/>
            <a:ext cx="7429320" cy="4011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5"/>
          <p:cNvSpPr/>
          <p:nvPr/>
        </p:nvSpPr>
        <p:spPr>
          <a:xfrm>
            <a:off x="21420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14280" y="4287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з 10 спичек составьте три квадрата двумя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Три квадрата (вариант 1) - Ответ"/>
          <p:cNvPicPr/>
          <p:nvPr/>
        </p:nvPicPr>
        <p:blipFill>
          <a:blip r:embed="rId2"/>
          <a:stretch/>
        </p:blipFill>
        <p:spPr>
          <a:xfrm>
            <a:off x="428760" y="157176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Три квадрата (вариант 2) - Ответ"/>
          <p:cNvPicPr/>
          <p:nvPr/>
        </p:nvPicPr>
        <p:blipFill>
          <a:blip r:embed="rId3"/>
          <a:stretch/>
        </p:blipFill>
        <p:spPr>
          <a:xfrm>
            <a:off x="4071960" y="2214720"/>
            <a:ext cx="4813200" cy="16808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Квадрат из 12 спичек"/>
          <p:cNvPicPr/>
          <p:nvPr/>
        </p:nvPicPr>
        <p:blipFill>
          <a:blip r:embed="rId1"/>
          <a:stretch/>
        </p:blipFill>
        <p:spPr>
          <a:xfrm>
            <a:off x="5072040" y="27147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Квадрат из 12 спичек"/>
          <p:cNvPicPr/>
          <p:nvPr/>
        </p:nvPicPr>
        <p:blipFill>
          <a:blip r:embed="rId3"/>
          <a:stretch/>
        </p:blipFill>
        <p:spPr>
          <a:xfrm>
            <a:off x="1214280" y="271476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214280" y="142920"/>
            <a:ext cx="792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Сколько здесь квадрат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вадрат из 12 спичек - Ответы на первое задние"/>
          <p:cNvPicPr/>
          <p:nvPr/>
        </p:nvPicPr>
        <p:blipFill>
          <a:blip r:embed="rId4"/>
          <a:stretch/>
        </p:blipFill>
        <p:spPr>
          <a:xfrm>
            <a:off x="5072040" y="2714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044400" y="2786400"/>
            <a:ext cx="1341000" cy="1427760"/>
            <a:chOff x="6044400" y="2786400"/>
            <a:chExt cx="1341000" cy="1427760"/>
          </a:xfrm>
        </p:grpSpPr>
        <p:sp>
          <p:nvSpPr>
            <p:cNvPr id="105" name="AutoShape 12"/>
            <p:cNvSpPr/>
            <p:nvPr/>
          </p:nvSpPr>
          <p:spPr>
            <a:xfrm rot="18907800">
              <a:off x="6253200" y="3056400"/>
              <a:ext cx="922680" cy="9738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 rot="18907800">
              <a:off x="6642720" y="2809440"/>
              <a:ext cx="115920" cy="1220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6787800" y="3581280"/>
            <a:ext cx="1497600" cy="1406880"/>
            <a:chOff x="6787800" y="3581280"/>
            <a:chExt cx="1497600" cy="1406880"/>
          </a:xfrm>
        </p:grpSpPr>
        <p:sp>
          <p:nvSpPr>
            <p:cNvPr id="108" name="AutoShape 12"/>
            <p:cNvSpPr/>
            <p:nvPr/>
          </p:nvSpPr>
          <p:spPr>
            <a:xfrm rot="2737200">
              <a:off x="7000200" y="3780720"/>
              <a:ext cx="982080" cy="1008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 rot="2737200">
              <a:off x="8135640" y="4222440"/>
              <a:ext cx="123120" cy="1263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Стрелка вправо 1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) уберите 2 спички так, чтобы образовалось 2 неравных квад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00040" y="22860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214280" y="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б) переложите 3 спички так, чтобы образовалось 3 равных квадрат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6121080" y="2428920"/>
            <a:ext cx="1542960" cy="1643040"/>
            <a:chOff x="6121080" y="2428920"/>
            <a:chExt cx="1542960" cy="1643040"/>
          </a:xfrm>
        </p:grpSpPr>
        <p:sp>
          <p:nvSpPr>
            <p:cNvPr id="120" name="AutoShape 12"/>
            <p:cNvSpPr/>
            <p:nvPr/>
          </p:nvSpPr>
          <p:spPr>
            <a:xfrm rot="18907800">
              <a:off x="6354720" y="2746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 rot="18907800">
              <a:off x="6818400" y="245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6858000" y="3334680"/>
            <a:ext cx="1643040" cy="1542600"/>
            <a:chOff x="6858000" y="3334680"/>
            <a:chExt cx="1643040" cy="1542600"/>
          </a:xfrm>
        </p:grpSpPr>
        <p:sp>
          <p:nvSpPr>
            <p:cNvPr id="123" name="AutoShape 12"/>
            <p:cNvSpPr/>
            <p:nvPr/>
          </p:nvSpPr>
          <p:spPr>
            <a:xfrm rot="2752800">
              <a:off x="709164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 rot="2752800">
              <a:off x="833652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5286240" y="4906440"/>
            <a:ext cx="1642680" cy="1542240"/>
            <a:chOff x="5286240" y="4906440"/>
            <a:chExt cx="1642680" cy="1542240"/>
          </a:xfrm>
        </p:grpSpPr>
        <p:sp>
          <p:nvSpPr>
            <p:cNvPr id="126" name="AutoShape 12"/>
            <p:cNvSpPr/>
            <p:nvPr/>
          </p:nvSpPr>
          <p:spPr>
            <a:xfrm rot="2752800">
              <a:off x="5519880" y="51242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 rot="2752800">
              <a:off x="6764400" y="5612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929280" y="1691640"/>
            <a:ext cx="1642680" cy="1542240"/>
            <a:chOff x="6929280" y="1691640"/>
            <a:chExt cx="1642680" cy="1542240"/>
          </a:xfrm>
        </p:grpSpPr>
        <p:sp>
          <p:nvSpPr>
            <p:cNvPr id="129" name="AutoShape 12"/>
            <p:cNvSpPr/>
            <p:nvPr/>
          </p:nvSpPr>
          <p:spPr>
            <a:xfrm rot="2752800">
              <a:off x="716292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 rot="2752800">
              <a:off x="840744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7764120" y="2500200"/>
            <a:ext cx="1542960" cy="1643040"/>
            <a:chOff x="7764120" y="2500200"/>
            <a:chExt cx="1542960" cy="1643040"/>
          </a:xfrm>
        </p:grpSpPr>
        <p:sp>
          <p:nvSpPr>
            <p:cNvPr id="132" name="AutoShape 12"/>
            <p:cNvSpPr/>
            <p:nvPr/>
          </p:nvSpPr>
          <p:spPr>
            <a:xfrm rot="18907800">
              <a:off x="799740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 rot="18907800">
              <a:off x="846180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6858000" y="4906440"/>
            <a:ext cx="1643040" cy="1542600"/>
            <a:chOff x="6858000" y="4906440"/>
            <a:chExt cx="1643040" cy="1542600"/>
          </a:xfrm>
        </p:grpSpPr>
        <p:sp>
          <p:nvSpPr>
            <p:cNvPr id="135" name="AutoShape 12"/>
            <p:cNvSpPr/>
            <p:nvPr/>
          </p:nvSpPr>
          <p:spPr>
            <a:xfrm rot="2752800">
              <a:off x="709164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 rot="2752800">
              <a:off x="833652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7764120" y="4071960"/>
            <a:ext cx="1542960" cy="1643040"/>
            <a:chOff x="7764120" y="4071960"/>
            <a:chExt cx="1542960" cy="1643040"/>
          </a:xfrm>
        </p:grpSpPr>
        <p:sp>
          <p:nvSpPr>
            <p:cNvPr id="138" name="AutoShape 12"/>
            <p:cNvSpPr/>
            <p:nvPr/>
          </p:nvSpPr>
          <p:spPr>
            <a:xfrm rot="18907800">
              <a:off x="79977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 rot="18907800">
              <a:off x="84614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6192720" y="4071960"/>
            <a:ext cx="1542960" cy="1643040"/>
            <a:chOff x="6192720" y="4071960"/>
            <a:chExt cx="1542960" cy="1643040"/>
          </a:xfrm>
        </p:grpSpPr>
        <p:sp>
          <p:nvSpPr>
            <p:cNvPr id="141" name="AutoShape 12"/>
            <p:cNvSpPr/>
            <p:nvPr/>
          </p:nvSpPr>
          <p:spPr>
            <a:xfrm rot="18907800">
              <a:off x="64263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 rot="18907800">
              <a:off x="68900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4620960" y="2500200"/>
            <a:ext cx="1542960" cy="1643040"/>
            <a:chOff x="4620960" y="2500200"/>
            <a:chExt cx="1542960" cy="1643040"/>
          </a:xfrm>
        </p:grpSpPr>
        <p:sp>
          <p:nvSpPr>
            <p:cNvPr id="144" name="AutoShape 12"/>
            <p:cNvSpPr/>
            <p:nvPr/>
          </p:nvSpPr>
          <p:spPr>
            <a:xfrm rot="18907800">
              <a:off x="485424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 rot="18907800">
              <a:off x="531864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4620960" y="4000320"/>
            <a:ext cx="1542960" cy="1643040"/>
            <a:chOff x="4620960" y="4000320"/>
            <a:chExt cx="1542960" cy="1643040"/>
          </a:xfrm>
        </p:grpSpPr>
        <p:sp>
          <p:nvSpPr>
            <p:cNvPr id="147" name="AutoShape 12"/>
            <p:cNvSpPr/>
            <p:nvPr/>
          </p:nvSpPr>
          <p:spPr>
            <a:xfrm rot="18907800">
              <a:off x="4854240" y="4318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 rot="18907800">
              <a:off x="5318640" y="4027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5357880" y="3334680"/>
            <a:ext cx="1643040" cy="1542600"/>
            <a:chOff x="5357880" y="3334680"/>
            <a:chExt cx="1643040" cy="1542600"/>
          </a:xfrm>
        </p:grpSpPr>
        <p:sp>
          <p:nvSpPr>
            <p:cNvPr id="150" name="AutoShape 12"/>
            <p:cNvSpPr/>
            <p:nvPr/>
          </p:nvSpPr>
          <p:spPr>
            <a:xfrm rot="2752800">
              <a:off x="559152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 rot="2752800">
              <a:off x="683640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5286240" y="1691640"/>
            <a:ext cx="1642680" cy="1542240"/>
            <a:chOff x="5286240" y="1691640"/>
            <a:chExt cx="1642680" cy="1542240"/>
          </a:xfrm>
        </p:grpSpPr>
        <p:sp>
          <p:nvSpPr>
            <p:cNvPr id="153" name="AutoShape 12"/>
            <p:cNvSpPr/>
            <p:nvPr/>
          </p:nvSpPr>
          <p:spPr>
            <a:xfrm rot="2752800">
              <a:off x="551988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2752800">
              <a:off x="676440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714840" y="3334680"/>
            <a:ext cx="1643040" cy="1542600"/>
            <a:chOff x="3714840" y="3334680"/>
            <a:chExt cx="1643040" cy="1542600"/>
          </a:xfrm>
        </p:grpSpPr>
        <p:sp>
          <p:nvSpPr>
            <p:cNvPr id="156" name="AutoShape 12"/>
            <p:cNvSpPr/>
            <p:nvPr/>
          </p:nvSpPr>
          <p:spPr>
            <a:xfrm rot="2752800">
              <a:off x="394848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 rot="2752800">
              <a:off x="519336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3049200" y="4072680"/>
            <a:ext cx="1542240" cy="1641600"/>
            <a:chOff x="3049200" y="4072680"/>
            <a:chExt cx="1542240" cy="1641600"/>
          </a:xfrm>
        </p:grpSpPr>
        <p:sp>
          <p:nvSpPr>
            <p:cNvPr id="159" name="AutoShape 12"/>
            <p:cNvSpPr/>
            <p:nvPr/>
          </p:nvSpPr>
          <p:spPr>
            <a:xfrm rot="18877200">
              <a:off x="3282120" y="439056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 rot="18877200">
              <a:off x="3740400" y="4100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3786120" y="4906440"/>
            <a:ext cx="1643040" cy="1542600"/>
            <a:chOff x="3786120" y="4906440"/>
            <a:chExt cx="1643040" cy="1542600"/>
          </a:xfrm>
        </p:grpSpPr>
        <p:sp>
          <p:nvSpPr>
            <p:cNvPr id="162" name="AutoShape 12"/>
            <p:cNvSpPr/>
            <p:nvPr/>
          </p:nvSpPr>
          <p:spPr>
            <a:xfrm rot="2752800">
              <a:off x="401976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 rot="2752800">
              <a:off x="526464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500880" y="142920"/>
            <a:ext cx="2643120" cy="2698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1000080" y="0"/>
            <a:ext cx="600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) переложите 4 спички так, чтобы образовалось 3 одинаковых квадра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85840" y="2548800"/>
            <a:ext cx="1643040" cy="1542600"/>
            <a:chOff x="285840" y="2548800"/>
            <a:chExt cx="1643040" cy="1542600"/>
          </a:xfrm>
        </p:grpSpPr>
        <p:sp>
          <p:nvSpPr>
            <p:cNvPr id="174" name="AutoShape 12"/>
            <p:cNvSpPr/>
            <p:nvPr/>
          </p:nvSpPr>
          <p:spPr>
            <a:xfrm rot="2752800">
              <a:off x="51948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 rot="2752800">
              <a:off x="176436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"/>
          <p:cNvGrpSpPr/>
          <p:nvPr/>
        </p:nvGrpSpPr>
        <p:grpSpPr>
          <a:xfrm>
            <a:off x="1785960" y="2548800"/>
            <a:ext cx="1643040" cy="1542600"/>
            <a:chOff x="1785960" y="2548800"/>
            <a:chExt cx="1643040" cy="1542600"/>
          </a:xfrm>
        </p:grpSpPr>
        <p:sp>
          <p:nvSpPr>
            <p:cNvPr id="177" name="AutoShape 12"/>
            <p:cNvSpPr/>
            <p:nvPr/>
          </p:nvSpPr>
          <p:spPr>
            <a:xfrm rot="2752800">
              <a:off x="201960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 rot="2752800">
              <a:off x="326448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285840" y="4120560"/>
            <a:ext cx="1643040" cy="1542600"/>
            <a:chOff x="285840" y="4120560"/>
            <a:chExt cx="1643040" cy="1542600"/>
          </a:xfrm>
        </p:grpSpPr>
        <p:sp>
          <p:nvSpPr>
            <p:cNvPr id="180" name="AutoShape 12"/>
            <p:cNvSpPr/>
            <p:nvPr/>
          </p:nvSpPr>
          <p:spPr>
            <a:xfrm rot="2752800">
              <a:off x="519480" y="4338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 rot="2752800">
              <a:off x="1764360" y="4826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857240" y="4120560"/>
            <a:ext cx="1642680" cy="1542240"/>
            <a:chOff x="1857240" y="4120560"/>
            <a:chExt cx="1642680" cy="1542240"/>
          </a:xfrm>
        </p:grpSpPr>
        <p:sp>
          <p:nvSpPr>
            <p:cNvPr id="183" name="AutoShape 12"/>
            <p:cNvSpPr/>
            <p:nvPr/>
          </p:nvSpPr>
          <p:spPr>
            <a:xfrm rot="2752800">
              <a:off x="2090880" y="43383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 rot="2752800">
              <a:off x="3335400" y="482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285840" y="5620680"/>
            <a:ext cx="1643040" cy="1542600"/>
            <a:chOff x="285840" y="5620680"/>
            <a:chExt cx="1643040" cy="1542600"/>
          </a:xfrm>
        </p:grpSpPr>
        <p:sp>
          <p:nvSpPr>
            <p:cNvPr id="186" name="AutoShape 12"/>
            <p:cNvSpPr/>
            <p:nvPr/>
          </p:nvSpPr>
          <p:spPr>
            <a:xfrm rot="2752800">
              <a:off x="51948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 rot="2752800">
              <a:off x="176436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1785960" y="5620680"/>
            <a:ext cx="1643040" cy="1542600"/>
            <a:chOff x="1785960" y="5620680"/>
            <a:chExt cx="1643040" cy="1542600"/>
          </a:xfrm>
        </p:grpSpPr>
        <p:sp>
          <p:nvSpPr>
            <p:cNvPr id="189" name="AutoShape 12"/>
            <p:cNvSpPr/>
            <p:nvPr/>
          </p:nvSpPr>
          <p:spPr>
            <a:xfrm rot="2752800">
              <a:off x="201960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 rot="2752800">
              <a:off x="326448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-451800" y="3286080"/>
            <a:ext cx="1541880" cy="1643040"/>
            <a:chOff x="-451800" y="3286080"/>
            <a:chExt cx="1541880" cy="1643040"/>
          </a:xfrm>
        </p:grpSpPr>
        <p:sp>
          <p:nvSpPr>
            <p:cNvPr id="192" name="AutoShape 12"/>
            <p:cNvSpPr/>
            <p:nvPr/>
          </p:nvSpPr>
          <p:spPr>
            <a:xfrm rot="18995400">
              <a:off x="-21852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 rot="18995400">
              <a:off x="2646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1048680" y="3286080"/>
            <a:ext cx="1542600" cy="1643040"/>
            <a:chOff x="1048680" y="3286080"/>
            <a:chExt cx="1542600" cy="1643040"/>
          </a:xfrm>
        </p:grpSpPr>
        <p:sp>
          <p:nvSpPr>
            <p:cNvPr id="195" name="AutoShape 12"/>
            <p:cNvSpPr/>
            <p:nvPr/>
          </p:nvSpPr>
          <p:spPr>
            <a:xfrm rot="18939600">
              <a:off x="128196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 rot="18939600">
              <a:off x="17532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2548800" y="3286080"/>
            <a:ext cx="1542600" cy="1643040"/>
            <a:chOff x="2548800" y="3286080"/>
            <a:chExt cx="1542600" cy="1643040"/>
          </a:xfrm>
        </p:grpSpPr>
        <p:sp>
          <p:nvSpPr>
            <p:cNvPr id="198" name="AutoShape 12"/>
            <p:cNvSpPr/>
            <p:nvPr/>
          </p:nvSpPr>
          <p:spPr>
            <a:xfrm rot="18939600">
              <a:off x="278208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 rot="18939600">
              <a:off x="325332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-451080" y="4786560"/>
            <a:ext cx="1542600" cy="1642680"/>
            <a:chOff x="-451080" y="4786560"/>
            <a:chExt cx="1542600" cy="1642680"/>
          </a:xfrm>
        </p:grpSpPr>
        <p:sp>
          <p:nvSpPr>
            <p:cNvPr id="201" name="AutoShape 12"/>
            <p:cNvSpPr/>
            <p:nvPr/>
          </p:nvSpPr>
          <p:spPr>
            <a:xfrm rot="18939600">
              <a:off x="-21744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 rot="18939600">
              <a:off x="25344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1049040" y="4786560"/>
            <a:ext cx="1542600" cy="1642680"/>
            <a:chOff x="1049040" y="4786560"/>
            <a:chExt cx="1542600" cy="1642680"/>
          </a:xfrm>
        </p:grpSpPr>
        <p:sp>
          <p:nvSpPr>
            <p:cNvPr id="204" name="AutoShape 12"/>
            <p:cNvSpPr/>
            <p:nvPr/>
          </p:nvSpPr>
          <p:spPr>
            <a:xfrm rot="18939600">
              <a:off x="128232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 rot="18939600">
              <a:off x="175356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548800" y="4857840"/>
            <a:ext cx="1542600" cy="1643040"/>
            <a:chOff x="2548800" y="4857840"/>
            <a:chExt cx="1542600" cy="1643040"/>
          </a:xfrm>
        </p:grpSpPr>
        <p:sp>
          <p:nvSpPr>
            <p:cNvPr id="207" name="AutoShape 12"/>
            <p:cNvSpPr/>
            <p:nvPr/>
          </p:nvSpPr>
          <p:spPr>
            <a:xfrm rot="18939600">
              <a:off x="2782080" y="5175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 rot="18939600">
              <a:off x="3253320" y="4885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1"/>
          <p:cNvGrpSpPr/>
          <p:nvPr/>
        </p:nvGrpSpPr>
        <p:grpSpPr>
          <a:xfrm>
            <a:off x="2548800" y="1643040"/>
            <a:ext cx="1542600" cy="1643040"/>
            <a:chOff x="2548800" y="1643040"/>
            <a:chExt cx="1542600" cy="1643040"/>
          </a:xfrm>
        </p:grpSpPr>
        <p:sp>
          <p:nvSpPr>
            <p:cNvPr id="210" name="AutoShape 12"/>
            <p:cNvSpPr/>
            <p:nvPr/>
          </p:nvSpPr>
          <p:spPr>
            <a:xfrm rot="18939600">
              <a:off x="2782080" y="1960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"/>
            <p:cNvSpPr/>
            <p:nvPr/>
          </p:nvSpPr>
          <p:spPr>
            <a:xfrm rot="18939600">
              <a:off x="3253320" y="1670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4120920" y="1714680"/>
            <a:ext cx="1542600" cy="1642680"/>
            <a:chOff x="4120920" y="1714680"/>
            <a:chExt cx="1542600" cy="1642680"/>
          </a:xfrm>
        </p:grpSpPr>
        <p:sp>
          <p:nvSpPr>
            <p:cNvPr id="213" name="AutoShape 12"/>
            <p:cNvSpPr/>
            <p:nvPr/>
          </p:nvSpPr>
          <p:spPr>
            <a:xfrm rot="18939600">
              <a:off x="4354200" y="2032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 rot="18939600">
              <a:off x="4825440" y="174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3285720" y="2548800"/>
            <a:ext cx="1642320" cy="1541160"/>
            <a:chOff x="3285720" y="2548800"/>
            <a:chExt cx="1642320" cy="1541160"/>
          </a:xfrm>
        </p:grpSpPr>
        <p:sp>
          <p:nvSpPr>
            <p:cNvPr id="216" name="AutoShape 12"/>
            <p:cNvSpPr/>
            <p:nvPr/>
          </p:nvSpPr>
          <p:spPr>
            <a:xfrm rot="2794800">
              <a:off x="3519000" y="276660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 rot="2794800">
              <a:off x="4763520" y="3263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286080" y="977400"/>
            <a:ext cx="1642680" cy="1542960"/>
            <a:chOff x="3286080" y="977400"/>
            <a:chExt cx="1642680" cy="1542960"/>
          </a:xfrm>
        </p:grpSpPr>
        <p:sp>
          <p:nvSpPr>
            <p:cNvPr id="219" name="AutoShape 12"/>
            <p:cNvSpPr/>
            <p:nvPr/>
          </p:nvSpPr>
          <p:spPr>
            <a:xfrm rot="2721600">
              <a:off x="3519720" y="1195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2721600">
              <a:off x="4764600" y="167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6:31:34Z</dcterms:created>
  <dc:creator>Admin</dc:creator>
  <dc:description/>
  <dc:language>en-US</dc:language>
  <cp:lastModifiedBy>Ёля</cp:lastModifiedBy>
  <dcterms:modified xsi:type="dcterms:W3CDTF">2012-09-02T12:31:42Z</dcterms:modified>
  <cp:revision>31</cp:revision>
  <dc:subject/>
  <dc:title>Слайд 1</dc:title>
</cp:coreProperties>
</file>