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jeopardy-wait%20long.wav" ContentType="audio/x-wav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86AC-AF47-4A55-A7F6-AF7F884839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D0EA-6137-4C59-A7EE-0770D67E5E0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9E1-ACED-4EAA-969D-50C30C65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A24-9AC2-41CD-A5BF-E7E580E0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91A99-E905-481C-857C-EBF2161A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6C803-AD10-4F08-983D-164ABE5F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B559B-D3B7-4A08-BFFC-18153888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7621E-129F-4587-8835-A5ADBDD6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B9201-D1C2-4B97-9CD9-304D16A0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99B6E-51BC-46D7-8EE1-84C2DD4C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A18A6-4F62-4563-B3F3-4D5425E2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10747-B305-4610-A2AB-35074D0B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FE050-1786-4BF7-8471-999AB4F9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A3945-C328-4ED8-8D64-E326AB8F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19F-7880-4E7D-A6B7-A3F35623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F213A-E454-412A-AF66-0F837223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8DB23-0070-44F4-8E21-6FFE780A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4C422-4F8D-40C3-8C33-E98DE7F2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6EAF4-4305-40FD-AAC5-1222913A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DAB10-DA09-4AB6-9654-02EE00C4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5EC51-883B-41F1-AA4F-AC08FAFC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DFFDA-2365-47A3-ACBF-8A48055C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CB4C1-796D-4182-9B4A-D7BAAD2B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3A490-B8D9-45F3-A3B7-1B1012F9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F7DFB-F35C-4FBD-AF4F-B6F1A653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0FF-CF9C-4224-BC04-D9E3B082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89C9D-0A21-4939-93D4-408760D7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EA287-1A7D-4B9A-8E30-01B50786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2510A-2B5E-40F1-8069-307792D1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9C601-317C-4A84-9197-D21D928D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DAD8A-60AC-43A5-9577-8196B5F7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AF307-3882-453B-BDA2-A2121CD9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D1D8A-5CC9-4035-A658-6FDDF07D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1C54C-FDA8-4A4D-8509-30342392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7B0B5-3AF1-4597-AD3A-648B1344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F9A43-1307-44CA-8CB7-079D3E2B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A34A-E43B-41AE-B185-4224505E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33552-203A-469B-A8ED-213161EB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39D03-C89C-412F-A36F-09ADB80F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F044E-F7AB-419A-80AC-CF186ADB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2D73D-83B3-4E9F-9E45-7854C44D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2638B-95A5-4A50-B250-5C8B5B18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17D8A-9387-4948-9193-3B20A09F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B83B6-4E6E-4501-9950-33EF9305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A0EDE-518A-44A1-8369-7DA44CA8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A2387-9FBB-4AD4-852E-8DED9E97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BF455-B799-48FD-BA8A-0964949B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5959-74DA-4272-8DAF-E50CB5A7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470D7-5BB4-4533-B76B-A1779BF4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54E2B-D9B9-412A-B7BA-F5B3F9A3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6D201-DF35-462E-998F-D2B57A2E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217DA-9EC4-4427-BB42-F378F18C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62973-1078-438E-B87D-ACAE0AEF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322FDE-17AE-451E-A611-CAE82A85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83FB3-3821-4882-B085-D155D8BD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88A63-9987-43FA-BE66-71D7DC68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61B293-48CE-44FA-AD4B-930C104C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5536F-CB27-4AF8-9B32-67B00B86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7E32-BBA6-4E2E-9AA4-B442EDD2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729C8-48D2-4190-9347-8CD07B8A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E8CD8-76AD-41E8-A276-E86F23CD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535B8-0771-4E5A-A480-4DA8D822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4233C-ACDA-4E48-BF0F-2F0C80B3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523289-D4F6-494D-A7C8-211BACF5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A8911-575F-4039-B46B-EB23A8CE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0C7A26-4CB6-4673-B70E-026AD668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A09C2-E7FE-47D5-9855-CDD4E654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EE1F1-3D3B-41C2-89EB-F2AB2D36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66407B-E9CD-4919-8DB3-094D3B29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847D-10C3-4075-88FE-BE8AF5C0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AF51FF-70D0-4421-89DC-986D7B53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FE44FB-3D90-4B5A-B77D-AB2318DD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5D46B-EA3E-4727-A20D-9B5E4500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5D5F2E-628C-4F5D-8F23-547E48F7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49501-2E75-411A-8200-C45D30C6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3FEAA-29AC-44BE-BF2C-AE4CB197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E8ECE4-8F5C-4C46-B1C2-B2660016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FEFFF4-BC29-4C4C-A11B-06E4D198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C874D7-9417-4952-9A85-0FEAC9C5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6B73DB-41F2-4391-AD01-C405A6E9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2A59-705B-4093-B771-2033C70F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DD5C52-FEB7-49DB-AF8D-6F965E81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D6F992-D8EB-4086-8DE4-41DF5D84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C06B2E-79EB-40E9-BD33-8B5AD32C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C6C111-6B5F-4A60-8C0D-3AEEB810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524A81-9B45-4212-8A08-7A228A8A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5DDF1A-AA66-4531-BA53-5413152E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ABD4B7-4E12-4BEC-AA0D-FB88FA15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094368-6A6F-408C-A818-DAC912BF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E6A2D1-B9B7-468E-AE29-E7DD07EB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3BD518-F274-41BB-B5BB-77649267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7C00-2186-4FDD-AD57-6814514A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64F594-FC45-48DE-A3CE-854A64A4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35E043-3F55-4525-9226-BBE06B55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B9CAEF-064B-4196-AF93-0091782B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F9F643-29F5-4564-81DC-DA8E7F3C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48D61B-EF5C-4AFA-83F9-894CA227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C4E1FC-6FD5-4413-AA9F-8AD891CC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BC9F44-C5A8-42C1-80E2-3FF93988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4C2BFD-B3FD-4C85-B2FE-4466D80E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66B2E7-A057-44A0-9ED4-8A93E3B7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C6764F-4173-4245-B651-20D275BD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EB64-2C87-4F3D-9CF5-E4BDCE23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B755C9-419B-467E-AB3D-DE7208CB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8FB04F-9DDA-42B1-8E7E-A2DE3B4F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D03E4B-40AB-4089-9752-2EF38E7E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E17993-550A-4EB0-B088-9C0B8301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0829F9-D8EF-41A3-9A8F-C5447C00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FCF67B-6649-4CDD-B3D1-0DEEFCD9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A61FC2-9A70-4A94-8F3F-72BC55C0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34BF63-A5B8-425C-8AB5-D7A1B17D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320390-164D-4A87-8307-AADB0EEF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9E7868-28F5-4360-95D6-E01E06DF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04C9-B9D8-4DBA-8002-E84270DE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8776-B987-416D-8FD6-4DDE2D4F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F66E53-351E-44AB-9C1E-EF4C5757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713577-FA2C-4B43-9198-068DD2DD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641889-ED4D-44A4-82D3-36BB5C5B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F2766B-CAF2-4984-9970-FE9FA63F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8F0389-4E7C-460A-AA21-A42DE6C6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94339F-20CB-4ECB-BB60-24DBED67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C6E6D0-A0F8-41C4-9CD8-06B3AA89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E41FB6-96A1-43D1-8EF5-8F297AB0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8248D6-690D-421C-8644-1399DC1D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A6ED5B-7FBA-4D48-9378-4EF39086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FCFA-5432-4254-ADB2-4713DCEB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3D1494-C1D0-459A-BCA9-4972AC2E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964422-8D29-46B3-BBE4-83E52B04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C0F6B4-1442-4E69-BD6C-EC68D2FC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0BB8F0-821F-49EA-8F52-51087445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80393B-A170-4C39-B84F-588FB902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375252-0E81-4BE2-B35A-A4AC3CB3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473A2D-6440-4834-A91D-E7423116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916447-9EFC-41BB-841C-26E11A9E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F6E879-F9C7-4FB6-875A-5A5D7137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576D7E-D394-4EDB-BE93-8090DC5D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C26E-F908-4832-889A-E698E9E4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38D79C-2F16-4AC7-8EB7-972034E7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6B6419-58B6-4BA6-8F70-18866776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15CC4D-1471-4DF8-9472-254C904B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F26D9D-6E40-413E-A1FA-B298777B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5CDFEB-3FDD-4B49-B1E7-08555BE3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E354EE-A671-48EE-AA4D-81478EDB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FF3B7D-E267-4B88-A8E7-22DBF5E4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2FAD12-5AA1-46CF-A2E2-D9DA98DC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99375E-6E9C-4AA3-B052-1FBB8EA5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08CB3E-E3D6-4B7C-A15C-25F841CD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72B7-1594-4265-BF92-ACB84B58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EA409D-CBFA-4598-9C80-B9D349C0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053D37-C75E-4FEB-BE16-36F924E7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26CC36-1B10-40AA-8513-85053956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B69135-DD2D-45B5-AFE5-4176157E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C34F0F-B058-430A-8421-1DC2077F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10C94C-9707-4771-9E92-B724D6A1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619343-4DDB-4517-8910-5C968BBC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8370FF-FE41-459E-B6D9-E8D88B0D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8E5AE1-6641-4443-A2E9-BED28BEE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DECBB1-D209-44E1-AF80-69C3EF2D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38F5-FB70-44C9-BDBE-018EFF10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E13B76-EEAA-4895-A956-862DFA5F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6E8B49-D4A6-47D9-ACEC-E9FEEE9A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6E19B7-F502-433F-BA97-6E4E4301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FCBD42-6427-4072-9EAC-52B76841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BFB5EE-445B-4F97-83D3-281D6645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47A8F5-DCD2-42A7-84AF-15F13A22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0905F1-1E47-40A8-BB38-339A2311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5FD8CC-1F1A-4A6C-B7DD-3F178C15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A7CA11-C673-4D04-ADD6-C28901ED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93A06D-A43B-4C33-96A6-C8DEAD41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05C30-85C2-4D93-82E5-86478FCD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74ADC8-CB60-4A38-A3E1-0ABA56AB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CF0A92-21D7-46ED-B870-630320DF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417D08-AF11-4355-86D1-911E86D9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81B287-9600-4B37-A582-3C988BE9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01279B-51BD-43BA-AC90-48D18A56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D7BAE7-4006-4681-94F5-9F39DCE0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6B2013-9E63-44BC-9B5C-1F8FC723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E74E51-49F2-426E-8E5C-448C22D9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4DAE49-A239-41FF-BD33-AC82B188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F82779-65AF-4013-910B-AFB9D537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1F3AB-C3B5-440E-9BCE-1D1F805A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B0D2AD-4E6C-4C57-AE92-24F415C0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DA08DC-F19C-4849-B80B-F26829E1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680DD9-768B-4D55-B373-3B486EE8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0CE602-25EC-49CD-9A1B-B2CB5C45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E2ADAB-15D3-42BB-A657-9D7A4B98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E4A133-1D63-4CDD-BEBA-33F6C103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6C712E-A219-4E57-B0E8-0CB05759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7F9F22-0EBD-4EC7-93E1-CB819967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82B0CC-E181-497B-A480-9168DD35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FC7005-F189-44F7-BEEB-F58D45E5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A3E00B-32BA-489E-BB41-01C3AA6E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BFA4A7-4488-47E9-94DE-FA592257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0D5A3C-D42B-4637-A39E-B8FF799F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84A0BB-FFCE-49C2-BCE1-EDC16940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18944E-2194-4421-838B-71E7CB07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282EF9-97E3-47CF-85C9-5BD23298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A44ED0-DA7D-4050-9690-44F7BDD0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8F9D70-1AB4-421D-847C-EF39CEF0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CE1FF2-A8FE-4834-A91E-7ADFFDA7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F14586-B3D0-4B63-9B46-AE18FE54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F2D3EE-8862-4BFE-93EA-78724DE2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7D114-C547-49C2-BDBC-7B0E9677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043127-23ED-40CC-9C42-B6E70D29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9C785C-A1B3-46DD-A6C4-0E60D50F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D7980E-E953-4F15-A7C7-7C832778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DE937D-175E-41F3-BB0C-4CF2D777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F30D0E-E77E-4421-9C5F-42A2DF4C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74CD6F-E845-4B17-A2E2-65A0257A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C67531-BBCA-474A-8BA8-DC7F1E04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D7980A-A2F2-4237-BAE2-38E93936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AF45CB-8F62-476F-A35E-C57A9E4A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8296F-92D6-42C2-8F17-2DC3D732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06C-DF42-47B2-BD07-A102C614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28872-CA74-4482-A97A-6CC0D968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716B0-D99B-4A72-BE6E-2AD38ED1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1EDD2-54A4-4CB1-9D21-D6F56534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ABED43-23B8-46E1-923E-B70E579B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2FD14-B35A-40C4-99D2-D92D25FF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E47C2-4CB4-46E2-8DBA-E51AE597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EC668-7538-4F97-9D94-E4A82A31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E5A65-D319-48CF-985D-F660CDCE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6D078-D522-4660-AA28-48E8382B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15914-DA64-4A2F-B5A5-274E7921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4BD-B17F-4B2A-8B9A-85148E4F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39403-24B1-4CE3-ACE2-3EB2FA7E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04A10-777D-4E10-8BC2-859A26B1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4E11E-24BF-4740-AC02-2BBAE0F9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6EC11-021D-4753-B788-7179B566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4665C-664B-4A09-A98E-645DAA1B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3F068-E44D-4876-A7C9-B2A6E081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8E1F7-05E3-4885-97C2-807DB2AA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7A865-6A3D-4D07-AB48-CC94A26B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14A6C-CA5F-436A-A1B0-EFAC5970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A27F8-705E-41F1-B7EE-85245B66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ECA1-3E0A-4094-9C69-E3171A25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0D091-9DEA-42AD-B5BB-D2B9B265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88E0F-3A97-4E80-8A47-D5C725BA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0AF6F-5ECC-4D33-8EA7-95D53877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68E68-48AF-4C89-B1AF-7EA8CBF6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6F61E-0533-4B24-936B-36252EE7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D2C7D-28DD-4CFD-B5FC-799B0D1A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3FAFC-00E0-4002-9F72-4144D32E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87FEC-8886-4F39-BF94-1328F1D1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CF2DC-B095-4B71-B818-7C695F5B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F8F8C-EC12-430D-897B-7575EE6C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E529-6E2D-401C-9BF5-88F719A7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03548-0CA3-4ED0-9F5D-ABE4C016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1B43B-5398-4A5C-A9CC-136BDFEF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E36B7-195C-4ED3-9936-859F3BB0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5947A-C69A-4BBF-8A13-AF4B2891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4A594-8F23-47EC-AA8C-EEFCC2A9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87943-C4BA-4D7F-B240-D92ED1CC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11694-ED8D-454F-BDCD-489D1071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AFE63-431E-4046-A892-3F0CC15D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B58D2-22D7-44E3-A35D-0DE3DD9A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17B86-DD83-43B3-9904-9F6B9139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398-AFF4-4653-AA2F-C809E2F8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5CE2E-5532-4AFA-8C42-92B7FFF4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25281-476B-47DB-BEA0-DDDF8BB6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CC2D6-1A6C-4D40-9E6F-88AF619E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BA925-ADFA-49D1-B7AF-A22B471A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E9446-66CB-4833-B174-7CAF75D2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D99C1-8063-4420-9D1A-C3B789FB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A9295-64A7-44D3-8EC1-3D5455AE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9AF8E-6E85-4AF9-AAD6-BFE38823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27F51-5EEB-4281-AF72-E496EFD5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E60C5-6929-4BBB-AB6E-18902A3C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30C9-A739-44F6-A537-E904E3CC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04994-8374-4BAA-AE95-F3A21708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BD0A3-F876-4A53-BC0E-A3590182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12CAC-6235-4C9C-83B6-EB3642C4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FA990-818A-4FF1-A849-9EFB5840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51906-50B9-4B38-B6B6-F126CE33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6C671-861A-4A5E-8E1F-573334BA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5EAB7-D689-47EE-9F8E-2DA863C5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DF651-5C24-4397-9212-098D4E87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E22A6-6FFE-4C5C-83C1-6D424F81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BCD6D-C5CC-4F9D-B137-E797AD69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9A2-DBE6-4E1A-8AEA-B84795B5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B1FD5-AF83-4D41-B61E-CD7B4293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5E649-6D8A-4FE9-A81A-11928D48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2132C-783A-460E-9747-5AF6A2E4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94161-74AF-4CFF-A32E-8DB5AB20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60EE1-B60D-4509-8D19-1F1BD8FF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26990-2980-43AB-8DF3-9DBFAC5F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485EC-0E45-4BC1-953A-2E0599E7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845A0-2EAF-436D-9B85-63C51518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21F54-0B74-4B62-82D0-F5B30459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24615-81A7-4746-898A-C6E45DF0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73C8-BEAA-4048-9EEF-9E2CFFEC04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7C15-DA76-4FBD-8628-CF0FF44100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7A4B-AD72-44D8-B8A3-E678A263E8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155D-79F7-4BCC-9206-4C90BA4848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B491-DA19-4E13-B32E-A1F3CC63E6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6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97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98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599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0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1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2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3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4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5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6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9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0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2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3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4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6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7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8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9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0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2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3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4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5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6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7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8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9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0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1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2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7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0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1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4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5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6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7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8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9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0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1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652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3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4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5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6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657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8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9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409D-EBEB-4E0F-ACA4-466BB57700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CB07-9511-4DF8-A7D4-A96ACEAD23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315A-A238-44C9-A48C-29DDE3A255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0C3E-AB7F-4421-941F-842214ED14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F098-F5A5-4A6C-8173-8981752CBB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47A2-14DB-4B36-848B-6D8CE39D00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4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6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7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4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0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3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1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6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8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9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482A-1F98-4216-902E-04237CC443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CE5E-1D8A-4D80-999C-A263DFF142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F5C1-EBB5-44B6-8575-F924B7F58E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8066-9750-4F6F-B5EB-4E08B36E36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C7B2-FC61-4D69-8819-4F53ABC217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0653-4B61-43B7-ADD2-0D5E5E7BC4D1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3890-29CF-4C79-8EB3-621B824A86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7FA2-F43E-4DFF-98BF-96BEA6564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5E77-FA70-495B-A363-F25086548B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493E-25CC-4C41-AB19-2977A6DEB7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3C25-2EE8-48F6-8868-2CB30F2260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C948-F422-4C46-B396-8508FE56C6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77DA-779F-4D35-B393-2BBD503E2F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jeopardy-wait%20long.wav"/><Relationship Id="rId4" Type="http://schemas.openxmlformats.org/officeDocument/2006/relationships/slideLayout" Target="../slideLayouts/slideLayout229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аевое государственное бюджетное специальное (коррекционное) образовательное учреждение для обучающихся, воспитанников с ограниченными возможностями здоровья «Специальная (коррекционная) общеобразовательная школа V вида № 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рода Комсомольска – на – Амуре Хабаровского края»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826920" y="429264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ассный руководитель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мова Наталья Петровна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математики и информати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Какая битва стала началом коренного перелома в ходе ВОВ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748080" y="1773360"/>
            <a:ext cx="742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Text Box 5"/>
          <p:cNvSpPr/>
          <p:nvPr/>
        </p:nvSpPr>
        <p:spPr>
          <a:xfrm>
            <a:off x="539640" y="4797360"/>
            <a:ext cx="77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битва под Москвой</a:t>
            </a: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AutoShape 7"/>
          <p:cNvSpPr/>
          <p:nvPr/>
        </p:nvSpPr>
        <p:spPr>
          <a:xfrm>
            <a:off x="7885080" y="566100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В честь каких городов Москва впервые салютовала победителям в 1943 г. ?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9" name="Rectangle 4"/>
          <p:cNvSpPr/>
          <p:nvPr/>
        </p:nvSpPr>
        <p:spPr>
          <a:xfrm>
            <a:off x="751320" y="1773360"/>
            <a:ext cx="742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539640" y="494172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Белгород, Орёл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Советский военачальник. С сентября 1942 года командовал 62-й армией, прославившейся героической обороной Сталинграда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3" name="Rectangle 4"/>
          <p:cNvSpPr/>
          <p:nvPr/>
        </p:nvSpPr>
        <p:spPr>
          <a:xfrm>
            <a:off x="179280" y="2060640"/>
            <a:ext cx="86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Советские военачальник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Text Box 5"/>
          <p:cNvSpPr/>
          <p:nvPr/>
        </p:nvSpPr>
        <p:spPr>
          <a:xfrm>
            <a:off x="395280" y="5229360"/>
            <a:ext cx="77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Чуйков Василий Иванович (1900-1982)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AutoShape 7"/>
          <p:cNvSpPr/>
          <p:nvPr/>
        </p:nvSpPr>
        <p:spPr>
          <a:xfrm>
            <a:off x="8028000" y="58053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Генерал Советской армии был захвачен в плен в августе 1941 года. Немцы много раз предлагали перейти на их сторону. Ему сулили свободу и всяческие блага. Он решительно отказался. В нескольких лагерях смерти (Майданек, Освенцим и др.) он продолжал вести антифашистскую работу среди военнопленных. Наконец, в морозный зимний день 1945 года у стены лагеря Маутхаузен, фашисты, поливая его водой из шланга, превратили его в ледяную статую.</a:t>
            </a: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7" name="Rectangle 4"/>
          <p:cNvSpPr/>
          <p:nvPr/>
        </p:nvSpPr>
        <p:spPr>
          <a:xfrm>
            <a:off x="1175760" y="2637000"/>
            <a:ext cx="627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Советски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военачальник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Text Box 5"/>
          <p:cNvSpPr/>
          <p:nvPr/>
        </p:nvSpPr>
        <p:spPr>
          <a:xfrm>
            <a:off x="395280" y="587700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Генерал Карбышев Дмитрий Михайлович</a:t>
            </a: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Советский военачальник. В январе-июле 1941 года – начальник Генштаба Вооруженных сил, заместитель наркома обороны СССР. Сыграл выдающуюся роль в Московской битве. С августа 1942 года – первый заместитель наркома обороны СССР и заместитель Верховного Главнокомандующего, координировал действия фронтов в Сталинградской битве, по прорыву блокады Ленинграда, в битвах под Курском и за Днепр, в Белорусской и других операциях. 9 мая 1945 года принял в Берлине капитуляцию вооруженных сил Германии.</a:t>
            </a: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1" name="Rectangle 4"/>
          <p:cNvSpPr/>
          <p:nvPr/>
        </p:nvSpPr>
        <p:spPr>
          <a:xfrm>
            <a:off x="888480" y="2708280"/>
            <a:ext cx="627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Советски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военачальник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AutoShape 7"/>
          <p:cNvSpPr/>
          <p:nvPr/>
        </p:nvSpPr>
        <p:spPr>
          <a:xfrm>
            <a:off x="7885080" y="573408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Rectangle 9"/>
          <p:cNvSpPr/>
          <p:nvPr/>
        </p:nvSpPr>
        <p:spPr>
          <a:xfrm>
            <a:off x="880920" y="566064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Жуков Георгий Константинович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Советский военачальник. Участник Первой мировой и гражданский войн. В 1939 году необоснованно репрессирован, восстановлен на службе в 1940 году. В Великой Отечественной войне войска под его командованием успешно действовали в Смоленском сражении 1941 го, в Московской, Сталинградской и Курской битвах, Берлинской операции. С 1944 года Маршал Советского Союза. Командовал Парадом Победы в Москве 24 июня 1945 г.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5" name="Rectangle 4"/>
          <p:cNvSpPr/>
          <p:nvPr/>
        </p:nvSpPr>
        <p:spPr>
          <a:xfrm>
            <a:off x="1104480" y="2637000"/>
            <a:ext cx="627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Советски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военачальник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Rectangle 8"/>
          <p:cNvSpPr/>
          <p:nvPr/>
        </p:nvSpPr>
        <p:spPr>
          <a:xfrm>
            <a:off x="108000" y="5231160"/>
            <a:ext cx="734544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онстантин Константинович Рокоссовский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4"/>
          <p:cNvSpPr/>
          <p:nvPr/>
        </p:nvSpPr>
        <p:spPr>
          <a:xfrm>
            <a:off x="1436760" y="1773360"/>
            <a:ext cx="6230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Военная техник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и вооружение ВОВ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Text Box 5"/>
          <p:cNvSpPr/>
          <p:nvPr/>
        </p:nvSpPr>
        <p:spPr>
          <a:xfrm>
            <a:off x="0" y="580536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Михаил Тимофеевич Калашников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Кто из советских конструкторов стрелкового оружия создал новый тип автомата и автоматические пулеметы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1" name="AutoShape 15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Лучшим танком </a:t>
            </a: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II</a:t>
            </a: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 мировой войны считается легендарная машина, созданная в 1940 году коллективом под руководством М.И. Кошкина, Н.А. Кучеренко и А.А. Морозова. Один экземпляр стоит на берегу озера Балхаш.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3" name="Rectangle 4"/>
          <p:cNvSpPr/>
          <p:nvPr/>
        </p:nvSpPr>
        <p:spPr>
          <a:xfrm>
            <a:off x="1478160" y="1484280"/>
            <a:ext cx="658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ая техник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и вооружение ВОВ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Text Box 5"/>
          <p:cNvSpPr/>
          <p:nvPr/>
        </p:nvSpPr>
        <p:spPr>
          <a:xfrm>
            <a:off x="468360" y="5445000"/>
            <a:ext cx="63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Танк Т-34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8534520" cy="18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Грозное оружие ВОВ или языком официальных документов «мобильная установка залпового огня», ей устанавливали монументы и памятники, ей посвящали свои произведения писатели поэты. 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7" name="Rectangle 4"/>
          <p:cNvSpPr/>
          <p:nvPr/>
        </p:nvSpPr>
        <p:spPr>
          <a:xfrm>
            <a:off x="1621080" y="2492280"/>
            <a:ext cx="658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ая техник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и вооружение ВОВ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Text Box 5"/>
          <p:cNvSpPr/>
          <p:nvPr/>
        </p:nvSpPr>
        <p:spPr>
          <a:xfrm>
            <a:off x="900000" y="57340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Катюш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09120" y="620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ак назывались танки до того, как появился танк Т-34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1" name="Rectangle 4"/>
          <p:cNvSpPr/>
          <p:nvPr/>
        </p:nvSpPr>
        <p:spPr>
          <a:xfrm>
            <a:off x="1441800" y="1773360"/>
            <a:ext cx="658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ая техник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и вооружение ВОВ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Text Box 5"/>
          <p:cNvSpPr/>
          <p:nvPr/>
        </p:nvSpPr>
        <p:spPr>
          <a:xfrm>
            <a:off x="1763640" y="58053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Танкетки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WordArt 4"/>
          <p:cNvSpPr txBox="1"/>
          <p:nvPr/>
        </p:nvSpPr>
        <p:spPr>
          <a:xfrm>
            <a:off x="1835280" y="4365720"/>
            <a:ext cx="532908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135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Impact"/>
              </a:rPr>
              <a:t>Своя   игра</a:t>
            </a:r>
            <a:endParaRPr b="1" lang="en-US" sz="4800" spc="1" strike="noStrike">
              <a:ln w="176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13500000"/>
              </a:gradFill>
              <a:effectLst>
                <a:outerShdw dist="0" dir="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1" name="Rectangle 6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199360" cy="1311120"/>
          </a:xfrm>
          <a:prstGeom prst="rect">
            <a:avLst/>
          </a:prstGeom>
          <a:ln w="0">
            <a:noFill/>
          </a:ln>
        </p:spPr>
      </p:pic>
      <p:pic>
        <p:nvPicPr>
          <p:cNvPr id="1122" name="Прямоугольник 6" descr=""/>
          <p:cNvPicPr/>
          <p:nvPr/>
        </p:nvPicPr>
        <p:blipFill>
          <a:blip r:embed="rId2"/>
          <a:stretch/>
        </p:blipFill>
        <p:spPr>
          <a:xfrm>
            <a:off x="1438200" y="1500120"/>
            <a:ext cx="6224760" cy="19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opardy-wait%20l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" nodeType="after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1000" autoRev="1" fill="hold"/>
                                        <p:tgtEl>
                                          <p:spTgt spid="1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000" autoRev="1" fill="hold"/>
                                        <p:tgtEl>
                                          <p:spTgt spid="1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1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850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Этот Орден назван по имени выдающегося русского полководца, героя Ледового побоища 1242 г. этим орденом награждали офицеров Сов. Армии за личную храбрость и умение воевать малыми силами против значительно превосходящих сил противника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1182960" y="2924280"/>
            <a:ext cx="673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рдена и медал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Text Box 5"/>
          <p:cNvSpPr/>
          <p:nvPr/>
        </p:nvSpPr>
        <p:spPr>
          <a:xfrm>
            <a:off x="684360" y="5516640"/>
            <a:ext cx="57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рден Александра Невского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AutoShape 8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09120" y="1052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В каком году были вручены первые награды – медали «За оборону Ленинграда», «За оборону Одессы», </a:t>
            </a:r>
            <a:br>
              <a:rPr sz="2800"/>
            </a:b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«За оборону Севастополя»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9" name="Rectangle 4"/>
          <p:cNvSpPr/>
          <p:nvPr/>
        </p:nvSpPr>
        <p:spPr>
          <a:xfrm>
            <a:off x="1095840" y="2349360"/>
            <a:ext cx="673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рдена и медал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Text Box 5"/>
          <p:cNvSpPr/>
          <p:nvPr/>
        </p:nvSpPr>
        <p:spPr>
          <a:xfrm>
            <a:off x="1258920" y="544500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b0601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1941-1942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Этот орденский знак сияет золотыми лучами, которые исходят от красной звезды, а сама звезда прикрывает собою кавалерийскую шашку и винтовку пехотинца.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3" name="Rectangle 4"/>
          <p:cNvSpPr/>
          <p:nvPr/>
        </p:nvSpPr>
        <p:spPr>
          <a:xfrm>
            <a:off x="1024200" y="2349360"/>
            <a:ext cx="673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рдена и медал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Text Box 5"/>
          <p:cNvSpPr/>
          <p:nvPr/>
        </p:nvSpPr>
        <p:spPr>
          <a:xfrm>
            <a:off x="900000" y="5445000"/>
            <a:ext cx="60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рден Отечественной войны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09120" y="404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Что написано на медали «За победу над Германией в ВОВ 1941-45 гг.»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7" name="Rectangle 4"/>
          <p:cNvSpPr/>
          <p:nvPr/>
        </p:nvSpPr>
        <p:spPr>
          <a:xfrm>
            <a:off x="1095840" y="2060640"/>
            <a:ext cx="673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рдена и медал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Text Box 5"/>
          <p:cNvSpPr/>
          <p:nvPr/>
        </p:nvSpPr>
        <p:spPr>
          <a:xfrm>
            <a:off x="468360" y="4941720"/>
            <a:ext cx="67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Наше дело правое мы победили!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нимание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ыбор категории производите на 3 слайде. Когда на 2 слайде появятся категории со стоимостью вопросов, просто перейдите на 3 слайд, сделав щелчок мышью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Группа 29"/>
          <p:cNvGrpSpPr/>
          <p:nvPr/>
        </p:nvGrpSpPr>
        <p:grpSpPr>
          <a:xfrm>
            <a:off x="324000" y="620640"/>
            <a:ext cx="8493120" cy="5662800"/>
            <a:chOff x="324000" y="620640"/>
            <a:chExt cx="8493120" cy="5662800"/>
          </a:xfrm>
        </p:grpSpPr>
        <p:sp>
          <p:nvSpPr>
            <p:cNvPr id="1124" name="Rectangle 4">
              <a:hlinkClick r:id="" action="ppaction://hlinkshowjump?jump=nextslide"/>
            </p:cNvPr>
            <p:cNvSpPr/>
            <p:nvPr/>
          </p:nvSpPr>
          <p:spPr>
            <a:xfrm>
              <a:off x="324000" y="622080"/>
              <a:ext cx="1584360" cy="9889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ahoma"/>
                </a:rPr>
                <a:t>  </a:t>
              </a: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Герои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     </a:t>
              </a: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йны</a:t>
              </a:r>
              <a:r>
                <a:rPr b="0" lang="ru-RU" sz="4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5" name="Rectangle 5">
              <a:hlinkClick r:id="" action="ppaction://hlinkshowjump?jump=nextslide"/>
            </p:cNvPr>
            <p:cNvSpPr/>
            <p:nvPr/>
          </p:nvSpPr>
          <p:spPr>
            <a:xfrm>
              <a:off x="2050920" y="622080"/>
              <a:ext cx="1655640" cy="10065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енные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операции</a:t>
              </a:r>
              <a:r>
                <a:rPr b="0" lang="ru-RU" sz="4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6" name="Rectangle 7">
              <a:hlinkClick r:id="" action="ppaction://hlinkshowjump?jump=nextslide"/>
            </p:cNvPr>
            <p:cNvSpPr/>
            <p:nvPr/>
          </p:nvSpPr>
          <p:spPr>
            <a:xfrm>
              <a:off x="7236000" y="622080"/>
              <a:ext cx="1581120" cy="10206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Ордена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и медали</a:t>
              </a: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7" name="Rectangle 8"/>
            <p:cNvSpPr/>
            <p:nvPr/>
          </p:nvSpPr>
          <p:spPr>
            <a:xfrm>
              <a:off x="39528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8" name="Rectangle 9"/>
            <p:cNvSpPr/>
            <p:nvPr/>
          </p:nvSpPr>
          <p:spPr>
            <a:xfrm>
              <a:off x="212400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Rectangle 10"/>
            <p:cNvSpPr/>
            <p:nvPr/>
          </p:nvSpPr>
          <p:spPr>
            <a:xfrm>
              <a:off x="385128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0" name="Rectangle 11"/>
            <p:cNvSpPr/>
            <p:nvPr/>
          </p:nvSpPr>
          <p:spPr>
            <a:xfrm>
              <a:off x="723600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1" name="Rectangle 12"/>
            <p:cNvSpPr/>
            <p:nvPr/>
          </p:nvSpPr>
          <p:spPr>
            <a:xfrm>
              <a:off x="39528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2" name="Rectangle 14"/>
            <p:cNvSpPr/>
            <p:nvPr/>
          </p:nvSpPr>
          <p:spPr>
            <a:xfrm>
              <a:off x="212400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3" name="Rectangle 15"/>
            <p:cNvSpPr/>
            <p:nvPr/>
          </p:nvSpPr>
          <p:spPr>
            <a:xfrm>
              <a:off x="385128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4" name="Rectangle 16"/>
            <p:cNvSpPr/>
            <p:nvPr/>
          </p:nvSpPr>
          <p:spPr>
            <a:xfrm>
              <a:off x="723600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5" name="Rectangle 17"/>
            <p:cNvSpPr/>
            <p:nvPr/>
          </p:nvSpPr>
          <p:spPr>
            <a:xfrm>
              <a:off x="39528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6" name="Rectangle 18"/>
            <p:cNvSpPr/>
            <p:nvPr/>
          </p:nvSpPr>
          <p:spPr>
            <a:xfrm>
              <a:off x="212400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7" name="Rectangle 19"/>
            <p:cNvSpPr/>
            <p:nvPr/>
          </p:nvSpPr>
          <p:spPr>
            <a:xfrm>
              <a:off x="385128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8" name="Rectangle 20"/>
            <p:cNvSpPr/>
            <p:nvPr/>
          </p:nvSpPr>
          <p:spPr>
            <a:xfrm>
              <a:off x="723600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9" name="Rectangle 21"/>
            <p:cNvSpPr/>
            <p:nvPr/>
          </p:nvSpPr>
          <p:spPr>
            <a:xfrm>
              <a:off x="39528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0" name="Rectangle 22"/>
            <p:cNvSpPr/>
            <p:nvPr/>
          </p:nvSpPr>
          <p:spPr>
            <a:xfrm>
              <a:off x="212400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1" name="Rectangle 23"/>
            <p:cNvSpPr/>
            <p:nvPr/>
          </p:nvSpPr>
          <p:spPr>
            <a:xfrm>
              <a:off x="385128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2" name="Rectangle 24"/>
            <p:cNvSpPr/>
            <p:nvPr/>
          </p:nvSpPr>
          <p:spPr>
            <a:xfrm>
              <a:off x="723600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3" name="Rectangle 25">
              <a:hlinkClick r:id="" action="ppaction://hlinkshowjump?jump=nextslide"/>
            </p:cNvPr>
            <p:cNvSpPr/>
            <p:nvPr/>
          </p:nvSpPr>
          <p:spPr>
            <a:xfrm>
              <a:off x="5508720" y="620640"/>
              <a:ext cx="1511280" cy="100944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" spc="-1" strike="noStrike">
                  <a:solidFill>
                    <a:srgbClr val="ffcc00"/>
                  </a:solidFill>
                  <a:latin typeface="Arial"/>
                </a:rPr>
                <a:t>  </a:t>
              </a:r>
              <a:endParaRPr b="0" lang="en-US" sz="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4" name="Rectangle 26">
              <a:hlinkClick r:id="" action="ppaction://hlinkshowjump?jump=nextslide"/>
            </p:cNvPr>
            <p:cNvSpPr/>
            <p:nvPr/>
          </p:nvSpPr>
          <p:spPr>
            <a:xfrm>
              <a:off x="3851280" y="622080"/>
              <a:ext cx="1584360" cy="10206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Советские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  </a:t>
              </a: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еначальники</a:t>
              </a:r>
              <a:r>
                <a:rPr b="0" lang="ru-RU" sz="4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5" name="Rectangle 27"/>
            <p:cNvSpPr/>
            <p:nvPr/>
          </p:nvSpPr>
          <p:spPr>
            <a:xfrm>
              <a:off x="550872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6" name="Rectangle 28"/>
            <p:cNvSpPr/>
            <p:nvPr/>
          </p:nvSpPr>
          <p:spPr>
            <a:xfrm>
              <a:off x="550872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7" name="Rectangle 29"/>
            <p:cNvSpPr/>
            <p:nvPr/>
          </p:nvSpPr>
          <p:spPr>
            <a:xfrm>
              <a:off x="550872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8" name="Rectangle 30"/>
            <p:cNvSpPr/>
            <p:nvPr/>
          </p:nvSpPr>
          <p:spPr>
            <a:xfrm>
              <a:off x="550872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9" name="Rectangle 32"/>
            <p:cNvSpPr/>
            <p:nvPr/>
          </p:nvSpPr>
          <p:spPr>
            <a:xfrm>
              <a:off x="5508720" y="695160"/>
              <a:ext cx="1584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енная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техника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и вооружени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09120" y="836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27 января 1942 года в газете «Правда» был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опубликован очерк Петра Лидова «Таня».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Назовите подлинное имя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героини этого очерка, героини-партизанки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1" name="AutoShape 5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Rectangle 7"/>
          <p:cNvSpPr/>
          <p:nvPr/>
        </p:nvSpPr>
        <p:spPr>
          <a:xfrm>
            <a:off x="1784160" y="2205000"/>
            <a:ext cx="527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Герои войн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Text Box 8"/>
          <p:cNvSpPr/>
          <p:nvPr/>
        </p:nvSpPr>
        <p:spPr>
          <a:xfrm>
            <a:off x="611280" y="4797360"/>
            <a:ext cx="7488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Зоя Космодемьянская (1923-41) – партизанка, Герой Советского Союза</a:t>
            </a: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На весь мир прозвучало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имя московского парня, в прошлом рабочего мясокомбината, а теперь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летчика. В ночном воздушном бою он таранил фашистский бомбардировщик. Это был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первый в мире ночной таран! После этого летчик сбил еще 5 вражеских самолетов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5" name="Rectangle 4"/>
          <p:cNvSpPr/>
          <p:nvPr/>
        </p:nvSpPr>
        <p:spPr>
          <a:xfrm>
            <a:off x="1498320" y="2997360"/>
            <a:ext cx="527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Герои войн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Text Box 5"/>
          <p:cNvSpPr/>
          <p:nvPr/>
        </p:nvSpPr>
        <p:spPr>
          <a:xfrm>
            <a:off x="250920" y="530064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Талалихин Виктор Васильевич</a:t>
            </a: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AutoShape 7"/>
          <p:cNvSpPr/>
          <p:nvPr/>
        </p:nvSpPr>
        <p:spPr>
          <a:xfrm>
            <a:off x="7524720" y="568944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79280" y="1628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Отважный летчик, в марте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1942 года его самолет был подбит и ему пришлось приземлиться в тылу врага.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18 суток он пробирался к своим. После ампутации обеих ног освоил протезы и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вернулся в строй. Назовите имя героя, как сложилась его судьба?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9" name="Rectangle 4"/>
          <p:cNvSpPr/>
          <p:nvPr/>
        </p:nvSpPr>
        <p:spPr>
          <a:xfrm>
            <a:off x="1857240" y="3357720"/>
            <a:ext cx="527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Герои войн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Text Box 5"/>
          <p:cNvSpPr/>
          <p:nvPr/>
        </p:nvSpPr>
        <p:spPr>
          <a:xfrm>
            <a:off x="179280" y="580536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аресьев Алексей Петрович (1916-2001)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1" name="AutoShape 7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79280" y="1773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Рядовой гвардейского стрелкового полка 23.02.1943 года в бою за деревню Чернушки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(Псковская обл.) закрыл телом амбразуру пулеметного дзота гитлеровцев, препятствовавшего продвижению подразделения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3" name="Rectangle 4"/>
          <p:cNvSpPr/>
          <p:nvPr/>
        </p:nvSpPr>
        <p:spPr>
          <a:xfrm>
            <a:off x="1714320" y="3141720"/>
            <a:ext cx="527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Герои войн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Text Box 5"/>
          <p:cNvSpPr/>
          <p:nvPr/>
        </p:nvSpPr>
        <p:spPr>
          <a:xfrm>
            <a:off x="324000" y="573408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атросов Александр Матвеевич (1924-43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Немецкий план ведения войны против СССР назывался…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7" name="Rectangle 4"/>
          <p:cNvSpPr/>
          <p:nvPr/>
        </p:nvSpPr>
        <p:spPr>
          <a:xfrm>
            <a:off x="748080" y="1773360"/>
            <a:ext cx="742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Text Box 5"/>
          <p:cNvSpPr/>
          <p:nvPr/>
        </p:nvSpPr>
        <p:spPr>
          <a:xfrm>
            <a:off x="826920" y="515772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План Барбаросс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AutoShape 7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061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Назовите кодовое название операции немецких войск под Москвой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1" name="Rectangle 4"/>
          <p:cNvSpPr/>
          <p:nvPr/>
        </p:nvSpPr>
        <p:spPr>
          <a:xfrm>
            <a:off x="752760" y="1773360"/>
            <a:ext cx="742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Text Box 5"/>
          <p:cNvSpPr/>
          <p:nvPr/>
        </p:nvSpPr>
        <p:spPr>
          <a:xfrm>
            <a:off x="2556000" y="4653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Тайфун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AutoShape 9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30:49Z</dcterms:created>
  <dc:creator>ученик</dc:creator>
  <dc:description/>
  <dc:language>en-US</dc:language>
  <cp:lastModifiedBy>Ёля</cp:lastModifiedBy>
  <dcterms:modified xsi:type="dcterms:W3CDTF">2012-10-08T15:35:30Z</dcterms:modified>
  <cp:revision>47</cp:revision>
  <dc:subject/>
  <dc:title>Презентация PowerPoint</dc:title>
</cp:coreProperties>
</file>