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E2B-C990-430D-ACCE-2A9765D8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1C7-AA34-4B80-BF4C-AF70C950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7F0-9A59-4992-ADEC-E5A8E551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932-5BFE-42A3-A79E-3B58E18A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29F-DA44-4FD7-B68A-0F01472F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820-6DF6-4F5C-8EC0-846ED0CD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1C5-D907-4D02-B21B-5E9359E1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D67-290D-439C-A993-F16F6916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503-A589-4C18-9D27-AADB46E6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1F2-465F-4E96-AC34-103222DB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EEC-936B-4E2E-8AAE-65E47C95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EC4-50EF-4676-B4EB-7BC0E579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3FE7-329D-4982-B65D-05F69BFA24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D735-2FB2-4C66-94AD-7F9E7FF1D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61инкора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542880" y="3706920"/>
            <a:ext cx="6004080" cy="1315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304920" y="308160"/>
            <a:ext cx="6248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Управление образования администрации города  Прокопьев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Муниципальное казенное образовательное учреждение для детей-сирот и детей, оставшихся без попечения родителей </a:t>
            </a:r>
            <a:r>
              <a:rPr b="0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(законных представителей) «Специальный (коррекционный) детский дом № 6 для детей-сирот и детей, оставшихся без попечения родителей (законных представителей), с ограниченными возможностями здоровья»</a:t>
            </a:r>
            <a:r>
              <a:rPr b="0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(МКОУ «Детский дом № 6»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750400" y="929628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копьевск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1" descr="1.gif"/>
          <p:cNvPicPr/>
          <p:nvPr/>
        </p:nvPicPr>
        <p:blipFill>
          <a:blip r:embed="rId3"/>
          <a:stretch/>
        </p:blipFill>
        <p:spPr>
          <a:xfrm>
            <a:off x="304920" y="5943600"/>
            <a:ext cx="3514680" cy="3063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3822840" y="5943600"/>
            <a:ext cx="277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-состав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ванова Елена Василь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57200" y="304920"/>
            <a:ext cx="59436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коррекционно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ое занятие имеет логически законченную, целостную ограниченную временными рамками систему. В коррекционном занятии представлены почти все основные элементы коррекционно-образовательного процесса: задачи, содержание, средства, методы организации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Качество занятия зависит от правильного определения каждого из этих компонентов и их рационального сочетания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При построении коррекционного занятия, необходимо определить на каком уровне ребенок будет усваивать  предлагаемый матери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заимодействия в процессе сопряжённых (совместных) с педагогом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заимодействия с помощью полусопряжённых  (частично совместных) с педагогом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осприятия (работа после обучающего эксперимен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применения знаний по образц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речевой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ременное содержание специального образования детей с особыми образовательными потребностями определяют ряд обязательных требований к коррекционному занятию, которые необходимо учитывать при построении структуры за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занятия имеют гибкую структуру, разработанную с учетом возрастных особенностей детей и степени выраженности деф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6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E722-C08D-44B1-A85D-9187ED854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251760" y="9296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533520" y="57600"/>
            <a:ext cx="59436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ятия строятся на основе принципов интегрирования (включение элементов музо-, изо-, песко-, водо-, кукло-, танцевально-двигательной терап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анятиях должна прослеживаться системность и преемст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тематики занятий должен определяться характером нарушения развития детей с особыми образовательными потребностями и подбором наиболее адекватной тактики коррекционной 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работы должны определяться задачами занятия, для которых характерно сочетание как традиционных приемов и методов (фронтальные и индивидуальные занятия), так и инновацио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 инновационным приемам относятся следующие виды работ на занят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 ребенка в процесс взаимодействия с педагогом, группой детей или сверстником с использованием метода «аттракции» (называние по имени, активное включение в процесс рассматривания себя в зеркале, телесный контакт с ребенком с целью расслабления, успокоение, вселение уверенности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сование под музыку, используя различные методики рисования – ладошкой, пальчиком, губкой, тампоном и т.д. (из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песком (песк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водой (вод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куклами (куклотерапия)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5658-1DB9-4558-A2F6-E001944B8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81885ffaaae5.png"/>
          <p:cNvPicPr/>
          <p:nvPr/>
        </p:nvPicPr>
        <p:blipFill>
          <a:blip r:embed="rId2"/>
          <a:stretch/>
        </p:blipFill>
        <p:spPr>
          <a:xfrm>
            <a:off x="4114800" y="7184880"/>
            <a:ext cx="2430360" cy="2721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248520" y="929628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80880" y="457200"/>
            <a:ext cx="6172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 традиционным приёмам относятся следующие виды работ на занят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ятие должно включать как познавательный материал, так и различные релаксационные упражнения, которые способствуют развитию у детей коммуникативных умений, обогащают эмоциональный опыт, формируют личност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 в структуру занятий заданий, способствующих развитию поисковых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ложение материала на занятии должно быть вариативным по своей струк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дних случаях предъявляется готовая информация в форме практического объяснения, сопровождающегося показом, демонстрацией определённых действий с простой речевой инструк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ругих случаях используется частичная инструкция, регламентирующая частичное выполнение действия, задания с последующими усложнениями. Используются варианты  сопряжённых и полусопряжённых действий с педаг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4e96c18fed68.png"/>
          <p:cNvPicPr/>
          <p:nvPr/>
        </p:nvPicPr>
        <p:blipFill>
          <a:blip r:embed="rId2"/>
          <a:stretch/>
        </p:blipFill>
        <p:spPr>
          <a:xfrm>
            <a:off x="2133720" y="6472080"/>
            <a:ext cx="3124080" cy="287352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C9B1-2EBB-4030-B0DF-797E0CD4E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60994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AFC9-A40D-48E0-9793-F118D223D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5" descr=""/>
          <p:cNvPicPr/>
          <p:nvPr/>
        </p:nvPicPr>
        <p:blipFill>
          <a:blip r:embed="rId2"/>
          <a:stretch/>
        </p:blipFill>
        <p:spPr>
          <a:xfrm>
            <a:off x="1109520" y="585720"/>
            <a:ext cx="4761000" cy="24624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2" descr="dosk126.png"/>
          <p:cNvPicPr/>
          <p:nvPr/>
        </p:nvPicPr>
        <p:blipFill>
          <a:blip r:embed="rId3"/>
          <a:stretch/>
        </p:blipFill>
        <p:spPr>
          <a:xfrm>
            <a:off x="1295280" y="3429000"/>
            <a:ext cx="4740480" cy="4040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251760" y="9296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0880" y="1397880"/>
            <a:ext cx="6248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жде всего, обдумай тему сочинения. Помни: каждое слово в названии темы имеет значение. Определи, о чем следует писать в сочин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думай свой замысел, зачем, кому адресуешь своё сочинение, какова его мысль.  Что и как (в каком стиле и в какой форме) напишешь, чтобы ее раскрыть. Составь, если нужно,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ери круг слов, предложений для отражения темы соч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первый вариант своего сочинения: раскрыты ли в нем тема и основная мысль? Зачеркни то, о чём можно не говорить в сочинении на данную тему (лишнее); дополни те части сочинения, в которых тема и основная мысль раскрыты недостаточно. Соответствует ли заголовок сочинения его содержа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ти внимание на язык сочинения. Насколько удачно выражены мысли и чувства? Внеси ис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1359000" y="914400"/>
            <a:ext cx="38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СОЧИ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6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B79F-FD4F-477D-8F5A-28FAAFF36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9" descr="29244dc814c5.png"/>
          <p:cNvPicPr/>
          <p:nvPr/>
        </p:nvPicPr>
        <p:blipFill>
          <a:blip r:embed="rId2"/>
          <a:stretch/>
        </p:blipFill>
        <p:spPr>
          <a:xfrm>
            <a:off x="2438280" y="7010280"/>
            <a:ext cx="1943280" cy="28958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63280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914400" y="856080"/>
            <a:ext cx="5029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КА К ДИКТАН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нимательно, не торопясь; уясни его содер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ясни правописание выделенных и пропущенных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я текст вторично, останови свое внимание на тех словах, которые не выделены, но правописание которых может вас затруднить. Если сможешь, объясни их право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еще раз. Объясни знаки препинания в известных вам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2C12-AD18-46B3-A681-4285F9677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5" descr="4414d6e477eb.png"/>
          <p:cNvPicPr/>
          <p:nvPr/>
        </p:nvPicPr>
        <p:blipFill>
          <a:blip r:embed="rId2"/>
          <a:stretch/>
        </p:blipFill>
        <p:spPr>
          <a:xfrm>
            <a:off x="1676520" y="5486400"/>
            <a:ext cx="3373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63280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685800" y="731520"/>
            <a:ext cx="5715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ИЗЛО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нимательно, не торопясь; уясни его содер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ясни правописание выделенных и пропущенных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я текст вторично, останови свое внимание на тех словах, которые не выделены, но правописание которых может вас затруднить. Если сможешь, объясни их право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еще раз. Объясни знаки препинания в известных вам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3AA6-2E35-4F91-A53B-B94397AAD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5" descr="199cc7796884.png"/>
          <p:cNvPicPr/>
          <p:nvPr/>
        </p:nvPicPr>
        <p:blipFill>
          <a:blip r:embed="rId2"/>
          <a:stretch/>
        </p:blipFill>
        <p:spPr>
          <a:xfrm>
            <a:off x="2438280" y="6477120"/>
            <a:ext cx="230184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6404040" y="9448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380880" y="417600"/>
            <a:ext cx="6096240" cy="82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ПАРАГРАФОМ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тельно прочитай название параграфа, уясни, и чём в нём говор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весь параграф. Найди в нём главное. Отметь непонятные места, выражения, слова. Попытайся разобраться в них самостоятельно. В случае необходимости обратись к предыдущим параграфам, к своим товарищам, а если нужно, к воспитате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леди, из каких частей состоит правило, какие признаки изучаемого материала в нём отличаются. Найди эти признаки в приме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оставь изучаемый параграф с параграфом, в котором излагается похожий материал, изученный ранее. Найди в них сходное и различн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и, что ты узнал из нового параграф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содержание параграф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ытайся запомнить вывод из параграфа, а правило выучи наизу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леди по учебнику, как применяется данное правило. Сделай то же на своем примере. Если ты выполнял задание письменно, проверь написанное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8017-3F5F-4797-80E3-48E7FB9D4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5" descr="0c119f17d7bc.png"/>
          <p:cNvPicPr/>
          <p:nvPr/>
        </p:nvPicPr>
        <p:blipFill>
          <a:blip r:embed="rId2"/>
          <a:stretch/>
        </p:blipFill>
        <p:spPr>
          <a:xfrm>
            <a:off x="4495680" y="7763040"/>
            <a:ext cx="2057400" cy="2143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6251760" y="92203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304920" y="696960"/>
            <a:ext cx="601956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О 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меть порядок выполнения проверки: сначала проверь по смыслу, потом проверь по напис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проверить предложение по смысл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предложение вслу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, подходят ли слова друг д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ли пропуска слов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чём говорится в предложении, бывает ли т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проверить предложение по написанию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й каждое слово по порядку по слогам и выделяй каждый с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, подходят ли буквы к сло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ли пропуска бук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064B-CD37-4457-9A13-ED2CF9D85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6" descr="f5d620e07ee2.png"/>
          <p:cNvPicPr/>
          <p:nvPr/>
        </p:nvPicPr>
        <p:blipFill>
          <a:blip r:embed="rId2"/>
          <a:stretch/>
        </p:blipFill>
        <p:spPr>
          <a:xfrm>
            <a:off x="1981080" y="6429240"/>
            <a:ext cx="2863800" cy="34768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1219320" y="6094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57200" y="1361520"/>
            <a:ext cx="586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 медленном темп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меть слова, которые тебе непоня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арайся ответить на главны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ком говорится в рассказ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действующие лица (персонажи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чем говорится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сни у воспитателя значения новых или  незнакомых 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 в тексте слова, которыми автор характеризует главного героя, либо описывает природу (дерево, цветок, животное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ти рассказ еще раз, выделяя смысловые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ждой части выдели важные мысли (2-3 предло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текст по частям (при затруднении можно заглядывать в книг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6" descr="1.gif"/>
          <p:cNvPicPr/>
          <p:nvPr/>
        </p:nvPicPr>
        <p:blipFill>
          <a:blip r:embed="rId2"/>
          <a:stretch/>
        </p:blipFill>
        <p:spPr>
          <a:xfrm>
            <a:off x="3886200" y="6640560"/>
            <a:ext cx="1828800" cy="3265560"/>
          </a:xfrm>
          <a:prstGeom prst="rect">
            <a:avLst/>
          </a:prstGeom>
          <a:ln w="0">
            <a:noFill/>
          </a:ln>
        </p:spPr>
      </p:pic>
      <p:sp>
        <p:nvSpPr>
          <p:cNvPr id="150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A2B9-BD11-4AD3-8149-C1FFD817C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617544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1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5EBA-0794-4246-97F3-EB3F7E626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533520" y="457200"/>
            <a:ext cx="601956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  Коррекционный уголок………………………………………………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    Содержание коррекционно-развивающего уголка………………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коррекционного занятия………………………………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    Список используемой литературы…………………………………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  Приложения…………………………………………………………... 14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533520" y="228600"/>
            <a:ext cx="586728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 ПО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ни, над какой темой работали на   уроке. Творчество и произведения какого автора изуч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тельно прочти опорные записи в тетр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статью или теоретический   материал по заданной 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прочита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хрестоматии по литературе нет художественного произведения, которое задали прочитать, возьми его в библиот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ься с текстом целиком или с отдельно взятыми частями, в зависимости от полученного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 на вопросы учебника и выполни, если задано, индивидуальное задание устно или письменно в тетради по лит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01C8-1502-457B-8E8F-3B280B09D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6" descr="4414d6e477eb.png"/>
          <p:cNvPicPr/>
          <p:nvPr/>
        </p:nvPicPr>
        <p:blipFill>
          <a:blip r:embed="rId2"/>
          <a:stretch/>
        </p:blipFill>
        <p:spPr>
          <a:xfrm>
            <a:off x="533520" y="6580080"/>
            <a:ext cx="2886120" cy="33260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7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457200" y="402840"/>
            <a:ext cx="59436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 ПО МАТЕМА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ни, что изучали на уроке, просмотри записи в тетр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и усвой материал учеб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задания, изучи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, какие правила и приёмы следует применять для их выполнения, пользуясь, если нужно, предыдущей письменной работой, общими и частными приёмами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нужно, выполни полностью или частично задание на чернов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тем или иным способом решения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ши выполненное задание в тетрадь, соблюдая правила ведения тетради по мате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правильность записей, чертежей,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E0BC-0E9B-4C0D-9929-153BE8F36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6328080" y="92203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 flipV="1" rot="10800000">
            <a:off x="533520" y="385920"/>
            <a:ext cx="586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задачу и представь себе, о чем говорится в зада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ши задачу кратко или выполни чертё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и, что показывает каждое число, повтори вопрос 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, можно ли сразу ответить на вопрос задачи. Если нет, то почему. Что нужно узнать сначала, что пот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 план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 реш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решение и ответь на вопрос 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5" descr="0c119f17d7bc.png"/>
          <p:cNvPicPr/>
          <p:nvPr/>
        </p:nvPicPr>
        <p:blipFill>
          <a:blip r:embed="rId2"/>
          <a:stretch/>
        </p:blipFill>
        <p:spPr>
          <a:xfrm>
            <a:off x="2438280" y="5334120"/>
            <a:ext cx="3654720" cy="342900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E5B8-0873-4F62-BDCC-2B4E95332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17544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1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0D60-60F4-4298-B2ED-8DDEFDEE8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2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1969920" y="45720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80880" y="1600200"/>
            <a:ext cx="6248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жков, М.И. Воспитание трудного ребенка.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 Рожков М.И.-М: ВЛАДОС, 2003-240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лест, Е.Г. Использование игры в работе с детьми.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Шелест Е.Г.-Спб: Речь, 2009-103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   Шевченко, С.Г. Коррекционно-развивающее обучение.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Шевченко Е.Г.- М: ВЛАДОС, 2010-136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828800" y="45720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казано, что на развитие ребенка большое влияние оказывает окружающее его пространство, среда, в которой он находится большую часть времени. В условиях детского дома такой средой является групповая комн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80880" y="2666880"/>
            <a:ext cx="6096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ями организуются индивидуальные и подгрупповые коррекционно-ориентированные формы взаимодействия с детьми. Предметно-развивающая среда позволяет обогатить опыт эмоционально-практического взаимодействия ребенка со сверстниками и педагогом, включить в активную познавательную деятельность всех детей группы. Среда стимулирует развитие самостоятельности, инициативности. В ней дети реализуют свои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c28c59bf13bc.png"/>
          <p:cNvPicPr/>
          <p:nvPr/>
        </p:nvPicPr>
        <p:blipFill>
          <a:blip r:embed="rId2"/>
          <a:stretch/>
        </p:blipFill>
        <p:spPr>
          <a:xfrm>
            <a:off x="304920" y="533520"/>
            <a:ext cx="1582560" cy="195408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8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08D3-D9EE-453A-B968-DAF4F6429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11"/>
          <p:cNvSpPr/>
          <p:nvPr/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2" descr="e513ec98b236.png"/>
          <p:cNvPicPr/>
          <p:nvPr/>
        </p:nvPicPr>
        <p:blipFill>
          <a:blip r:embed="rId3"/>
          <a:stretch/>
        </p:blipFill>
        <p:spPr>
          <a:xfrm>
            <a:off x="1905120" y="6019920"/>
            <a:ext cx="315108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3"/>
          <p:cNvSpPr/>
          <p:nvPr/>
        </p:nvSpPr>
        <p:spPr>
          <a:xfrm>
            <a:off x="6558840" y="9536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Группа 8"/>
          <p:cNvGrpSpPr/>
          <p:nvPr/>
        </p:nvGrpSpPr>
        <p:grpSpPr>
          <a:xfrm>
            <a:off x="0" y="0"/>
            <a:ext cx="6858000" cy="9906120"/>
            <a:chOff x="0" y="0"/>
            <a:chExt cx="6858000" cy="9906120"/>
          </a:xfrm>
        </p:grpSpPr>
        <p:pic>
          <p:nvPicPr>
            <p:cNvPr id="59" name="Рисунок 3" descr="4ccca622295c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5"/>
            <p:cNvSpPr/>
            <p:nvPr/>
          </p:nvSpPr>
          <p:spPr>
            <a:xfrm>
              <a:off x="1828800" y="380880"/>
              <a:ext cx="4800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 состав предметно-развивающей среды входит коррекционный уголок. В его оборудование входят стеллажи, расположенные на разном уровне, игровой, дидактический и наглядный материа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Рисунок 9" descr="0_86ab5_e49c6ace_orig.png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15238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0"/>
            <p:cNvSpPr/>
            <p:nvPr/>
          </p:nvSpPr>
          <p:spPr>
            <a:xfrm>
              <a:off x="380880" y="2286000"/>
              <a:ext cx="6172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 их помощью воспитатели создают условия для коррекции отклонений в развитии детей, стимуляции речевой деятельности и речевого общения</a:t>
              </a:r>
              <a:r>
                <a:rPr b="0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4"/>
            <p:cNvSpPr/>
            <p:nvPr/>
          </p:nvSpPr>
          <p:spPr>
            <a:xfrm>
              <a:off x="380880" y="3505320"/>
              <a:ext cx="33526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и подборе дидактического материала нужно учитывать: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наполняемость уголка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разнообразие материала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соответствие возрасту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доступность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системность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эстетику оформления;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5"/>
            <p:cNvSpPr/>
            <p:nvPr/>
          </p:nvSpPr>
          <p:spPr>
            <a:xfrm>
              <a:off x="304560" y="6324840"/>
              <a:ext cx="62485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дбор игрового и дидактического материала осуществляется на основе рекомендаций логопеда, что делает его взаимодействие с воспитателями не формальным, а очень тесным и плодотворным. Дидактическое оснащение должно соответствовать индивидуальным и возрастным особенностям. При случайном, формальном подборе игр объем восприятия детей оказывается перегруженным и обучаемость резко снижаетс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Рисунок 11" descr="4414d6e477eb.png"/>
          <p:cNvPicPr/>
          <p:nvPr/>
        </p:nvPicPr>
        <p:blipFill>
          <a:blip r:embed="rId3"/>
          <a:stretch/>
        </p:blipFill>
        <p:spPr>
          <a:xfrm>
            <a:off x="3809880" y="3505320"/>
            <a:ext cx="2662200" cy="3066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2"/>
          <p:cNvSpPr/>
          <p:nvPr/>
        </p:nvSpPr>
        <p:spPr>
          <a:xfrm>
            <a:off x="6558840" y="9536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380880" y="38088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, содержащийся в коррекционном уголке, имеет многофункциональный характер. Игры должны быть подобраны в порядке нарастающей слож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80880" y="160020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ообразить деятельность детей в коррекционном уголке.              Дидактическое оснащение должно удовлетворять потребности актуального, ближайшего развития ребенка и его саморазвития. Пуст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80880" y="4038480"/>
            <a:ext cx="601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одержанию предметное пространство утомляет, побуждает к безделью и агрессии. В то же время не следует перегружать уголок оборудованием, так как это затрудняет выб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80880" y="525780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ь материал должен соответствовать возрасту детей. Например: опора на игру, как на ведущий вид деятельности дошкольников, обеспечивает педагогам значительный положительный эффект в коррекционной рабо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3352680" y="6705720"/>
            <a:ext cx="3200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создает условия для неформального общения ребенка со сверстниками и взрослым, предоставляет ему полную свободу действий. Поэтому игровой материал должен быть доступным для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10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716D-3436-4604-BCCD-B4B654FB6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1" descr="f5d620e07ee2.png"/>
          <p:cNvPicPr/>
          <p:nvPr/>
        </p:nvPicPr>
        <p:blipFill>
          <a:blip r:embed="rId2"/>
          <a:stretch/>
        </p:blipFill>
        <p:spPr>
          <a:xfrm>
            <a:off x="533520" y="6924600"/>
            <a:ext cx="2514600" cy="2560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199cc7796884.png"/>
          <p:cNvPicPr/>
          <p:nvPr/>
        </p:nvPicPr>
        <p:blipFill>
          <a:blip r:embed="rId3"/>
          <a:stretch/>
        </p:blipFill>
        <p:spPr>
          <a:xfrm>
            <a:off x="4876920" y="1828800"/>
            <a:ext cx="1725480" cy="2057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6251040" y="92203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380880" y="114120"/>
            <a:ext cx="6019920" cy="89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положительно влияет на развитие речи и интеллектуальное развитие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ый уголок дошкольников будет отличаться от коррекционного уголка детей 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коррекционного уголка дошкольников должно способствовать развитию психологических процессов, мелкой моторики. Обучение осуществляется через игровую деятельность. Поэтому в коррекционном уголке преобладает наличие игр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младших школьников ведущим видом деятельности остается игра. Поэтому развитие познавательных процессов проходит через различ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ий школьный возраст - приоритетным направлением является самоподготовка к занятиям, развитие социальных навыков (игра «Магазин», «Поход в театр» и т.п), самообслуживание (штопка и чистка одеж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школьный возраст – приоритетным направлением является профориентационная деятельность, направленная на самоопределение воспита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</a:t>
            </a:r>
            <a:fld id="{7A8249C5-C153-42CA-BB04-0D2D2064B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6251760" y="9448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57200" y="30492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вая развивающую среду группы, очень важно, чтобы окружающая детей обстановка была комфортной и эстетичной. Красота формирует ребенка. Поэтому нужно уделять большое внимание эстетике коррекционного уголка. Его оформление должно быть привлекательным для детей и вызывать у них стремление к самостоятельной деятельности. В то же время необходимо научить детей поддерживать порядок в уголке и воспитывать бережное отношение 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7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3D20-F6D6-4B55-A5DC-6D7B365D9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f7f44873e759.png"/>
          <p:cNvPicPr/>
          <p:nvPr/>
        </p:nvPicPr>
        <p:blipFill>
          <a:blip r:embed="rId2"/>
          <a:stretch/>
        </p:blipFill>
        <p:spPr>
          <a:xfrm>
            <a:off x="1371600" y="3276720"/>
            <a:ext cx="4500720" cy="4162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640332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80880" y="754200"/>
          <a:ext cx="6019920" cy="8269200"/>
        </p:xfrm>
        <a:graphic>
          <a:graphicData uri="http://schemas.openxmlformats.org/drawingml/2006/table">
            <a:tbl>
              <a:tblPr/>
              <a:tblGrid>
                <a:gridCol w="381240"/>
                <a:gridCol w="1525320"/>
                <a:gridCol w="2284560"/>
                <a:gridCol w="825480"/>
                <a:gridCol w="1003320"/>
              </a:tblGrid>
              <a:tr h="3124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огопед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кран звукопроизнош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 артикуляционной  гимнасти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 упражнений (речевой материал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глядный материал и др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ы на развитие мелкой моторики и графических навыко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ы на развитие крупной мотори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л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огопед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фект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дактические материалы на развитие психологических процессов (память, внимание, мышление и т.д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тодические пособия для восполнения пробелов в знаниях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фектолог, 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лаксационные упражн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с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ические игр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ксты сказок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ита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оно и видеотека с релаксационными материала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подгот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рточки-зада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равочные материал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 с технологиями подготовки изложения, сочинения, рассказа и др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разцы заполнения деловых бумаг (объяснительная, заявление и т.п.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, библиотека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ы упражнений для глаз, для формирования правильной осанки и т.п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паузы во время выполнения домашних зада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вижные игр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укле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ециальная литература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д.служба, руководитель по ФВ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ЗО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6"/>
          <p:cNvSpPr/>
          <p:nvPr/>
        </p:nvSpPr>
        <p:spPr>
          <a:xfrm>
            <a:off x="914400" y="1522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коррекционно-развивающего уг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8D3C-0323-42AC-B85C-D180B3096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47964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380880" y="304920"/>
          <a:ext cx="6172200" cy="8764560"/>
        </p:xfrm>
        <a:graphic>
          <a:graphicData uri="http://schemas.openxmlformats.org/drawingml/2006/table">
            <a:tbl>
              <a:tblPr/>
              <a:tblGrid>
                <a:gridCol w="390600"/>
                <a:gridCol w="1563840"/>
                <a:gridCol w="2263680"/>
                <a:gridCol w="925560"/>
                <a:gridCol w="1028520"/>
              </a:tblGrid>
              <a:tr h="14097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рудов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хнологические карты (самообслуживание, ремонт одежды, книг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собия по вязанию, вышиванию, бисероплетению и т.д.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торы по труду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дагог д/о, 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1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циально-бытовая ориен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горитмы действий в определенных  жизненных ситуациях (поход в магазин, оплата коммунальных услуг, вызов скорой помощи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семейному воспитанию), инструкторы по труду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дагоги д/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опасность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ции, памятки, буклеты по действиям в чрезвычайных ситуациях, по правилам дорожного движения и т.п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ЗО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льтура поведения и реч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 («Говори правильно!», «В театре», «В гостях»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духовно-нравственному воспитанию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фориен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ции (составление резюме, собеседование при приеме на работу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стовые зада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равочник «Куда пойти учиться»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духовно-нравственному воспитанию)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циальные педаго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8E90-6C1A-407A-9ED5-4E4F2A158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47964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5:23:17Z</dcterms:created>
  <dc:creator>1</dc:creator>
  <dc:description/>
  <dc:language>en-US</dc:language>
  <cp:lastModifiedBy>Metod-kopilka.ru</cp:lastModifiedBy>
  <dcterms:modified xsi:type="dcterms:W3CDTF">2013-03-06T07:38:43Z</dcterms:modified>
  <cp:revision>80</cp:revision>
  <dc:subject/>
  <dc:title>Слайд 1</dc:title>
</cp:coreProperties>
</file>