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1125-5E2C-4A2E-9480-DC6BB7FB4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D8A7-5BBC-4780-9130-7D5A72E45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E575-B225-4C36-8640-5EA8511D1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CE02-92D9-4636-8B31-DC2E0B3A6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A696F-CF3C-4AC1-9CA0-E1234BB73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B4695-098D-44C0-9A4F-D4E1A8B1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13292-A6A8-4ADA-A049-27ED66C6A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1DC9F-E7B7-4B05-94C2-A4FCF0061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C6456-B61E-4651-A8E2-C0AA8C4DD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A42A4-6E3E-476D-898B-66106B7AA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9B390-BCC3-486D-BA1B-3616687B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2125-5E21-4F5D-AAB0-E6CFFAEEE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8E87A-47CA-4C3C-A01F-4973ADD2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3AE2B-8B60-43CE-B482-7A2DE49E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F8304-1985-4FD8-927A-96AF43F76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6D251-2FA1-406B-B17C-4579D4E20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E5AFF-C8DA-4C23-AFBC-502E74105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65EE8-0474-4130-B728-C776A95DB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93FA7-7CDA-4A06-9348-7645DCAA7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004F7-9774-44DA-8882-D2A7945CD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650CE-EC06-48F9-96BD-A029E51A2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D5F7E-6268-450C-B82E-E115D95A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AEC0-D614-4783-B706-7CBCD53C8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18AAF-9E47-45D4-982E-D00B9E461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01122-937B-4CB5-92E3-6008A399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7D288-60D3-48CD-9761-4424F542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89F23-4C13-4672-879C-701E7D20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0768C-49EE-40CF-BCCB-22E099184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29588-157D-434D-822D-B125361CC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CC5B1-CB60-4A72-B4E9-07E5D2D6F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551F8-D0B0-4322-9E4E-818CE7FA5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D1A9E-C0B4-4856-9FB8-DE75E1D6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20272-74C7-485F-8412-C3164E523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5906-9497-4DBB-9FA0-7CD75E4C4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EDA64-C0AB-4A4E-AC04-8C42120DD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B2992-958A-4C85-9705-72FDB7C10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48EF7-1A6F-4C89-909F-0075B4D49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F0D13-ED86-4D03-A6DD-39844C50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B7E30-ED3D-4BAC-BEB7-BA004E33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26E57-66BA-47F9-A71B-4462685C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323D9-EE73-4A24-8D4D-8FDE5B2CF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996F3-1891-4958-8D60-5791F8EA4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67C3A-16D0-44F5-ADFF-D749285F4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F362C-7FFB-460C-82A2-61EB3E69F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0B44-9CBF-405F-B454-C1400CF20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00928-6133-4618-817D-E14C8BB51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463CE-76CA-4945-A449-9C952625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9D22E-9158-4309-B819-A478E51AC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148FE-6D36-46C5-8182-EAB11A876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011B2-2F2D-4FF2-AE74-0E44196D2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A64A1-409A-4936-9E96-C0D04F41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48C08-AFF1-4389-9A80-7914020D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CBBBD-EAE6-4DB8-8D24-147F67AD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435A1-C0AB-4AD2-A5B3-4D68DBEF0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883F4-29D9-4E88-B0B2-F3EA9ED5D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EC7D-611B-4ECA-96DB-B274E4D8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E44E5-B605-4C00-B143-26AEE173C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59EC3-CA8D-4CD8-AD36-A3BD9F55B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58224-E93C-4ADE-9173-857A44C26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49141-CD9D-4033-90CB-8D90AEE5C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94F19-AE2E-41AF-9932-D74080004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658BA-FBB1-4EB5-9C6F-A2C6756A9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558CA2-05AB-4212-9A29-689F965FA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69E317-7ACC-4EFE-A6DC-E7981ED8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024CB-F987-403A-A624-A011A01F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E5C86A-40D9-456C-81BB-71D4E472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A70A-6551-4056-8C87-964CDEDE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F4AE7-30F6-485F-AC95-C7DF23325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B20D2-2F34-4CCF-8394-AE01F39CE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38F95-A240-4CF6-808D-ECAB6BC4B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14D6CA-9AED-46ED-8A76-DF561CB37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DFB1B8-E0D9-4FB5-94E9-5E996E118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61C82-0DE5-467A-B8C7-B5646874C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F0707-B598-4D74-B6BC-A2C3D94C2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2185D7-356A-45C5-A72F-55FD89D2F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ACC9B7-D154-432D-98C7-6F74B4EF7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D77A56-C004-4052-A92C-392FCC76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4167-4D62-4782-AFB6-FFA84A7A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6BEF5D-BA4C-47BE-A389-BB502D12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F008EF-6554-4B14-BB08-0AB8D023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B01E9-ABF9-4843-AAEB-DB2B20F80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4359A9-5009-4181-9274-F559A1A9B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7F676-C7EA-4ED5-AC84-DDC945F87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4BE8A5-D6C6-44A9-8BE8-3D42D9C7B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7C031-51AB-4711-AC5F-DEFED9C99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7CD37D-CF0A-430B-B072-E49E1873E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20883A-B0A7-4839-874A-F82A68E70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6B6C1E-9603-4493-AD81-CECFEAD31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7DF2-517A-4C46-81F7-9CE1F9D5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D2B50C-F8FD-4F0E-9FA3-0CF1B8D3B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CE7AFC-75CC-4D90-8785-170E06BC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F63130-5AC1-414D-B464-84B00023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BA76EF-8B55-4FCF-B4F4-726C9CDF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E69C3-B76F-4138-88A7-3E4ABB4A5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4FB47E-1EAB-4D08-A250-C5ACEEF2A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5523FA-BE30-410C-9A35-30F0ACDE3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E5048-D2A2-4CD8-8065-41F33B4CED0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1BA93-7548-40FC-B59B-F05123C51EBF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1A637-426E-4468-AC9D-CCF4813D2B1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7D54A-6245-4837-9968-7398AC909B8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1B352-B88E-4CBC-BBAB-495122035BE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A1136-B3BB-466F-8D69-D77433A17D9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A3E1A-A08A-4CC2-8631-CD48EFC8640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CB0E5-EDF8-4530-89CB-FC372A10FA43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Рисунок 9" descr="0_8da05_9df99442_XL.png"/>
          <p:cNvPicPr/>
          <p:nvPr/>
        </p:nvPicPr>
        <p:blipFill>
          <a:blip r:embed="rId1"/>
          <a:stretch/>
        </p:blipFill>
        <p:spPr>
          <a:xfrm>
            <a:off x="0" y="365760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6"/>
          <p:cNvSpPr/>
          <p:nvPr/>
        </p:nvSpPr>
        <p:spPr>
          <a:xfrm>
            <a:off x="1523880" y="2819520"/>
            <a:ext cx="6400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cademy"/>
              </a:rPr>
              <a:t>Повторение изученн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cademy"/>
              </a:rPr>
              <a:t>в 5 кла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7"/>
          <p:cNvSpPr/>
          <p:nvPr/>
        </p:nvSpPr>
        <p:spPr>
          <a:xfrm>
            <a:off x="2666880" y="5105520"/>
            <a:ext cx="6477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cademy"/>
              </a:rPr>
              <a:t>Чачкова Анна Валентин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cademy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cademy"/>
              </a:rPr>
              <a:t>МОУ Будинской ООШ Твер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Прямоугольник 8" descr=""/>
          <p:cNvPicPr/>
          <p:nvPr/>
        </p:nvPicPr>
        <p:blipFill>
          <a:blip r:embed="rId2"/>
          <a:stretch/>
        </p:blipFill>
        <p:spPr>
          <a:xfrm>
            <a:off x="0" y="103320"/>
            <a:ext cx="5310360" cy="811080"/>
          </a:xfrm>
          <a:prstGeom prst="rect">
            <a:avLst/>
          </a:prstGeom>
          <a:ln w="0">
            <a:noFill/>
          </a:ln>
        </p:spPr>
      </p:pic>
      <p:pic>
        <p:nvPicPr>
          <p:cNvPr id="374" name="Rectangle 5" descr=""/>
          <p:cNvPicPr/>
          <p:nvPr/>
        </p:nvPicPr>
        <p:blipFill>
          <a:blip r:embed="rId3"/>
          <a:stretch/>
        </p:blipFill>
        <p:spPr>
          <a:xfrm>
            <a:off x="225360" y="1006560"/>
            <a:ext cx="869940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3"/>
          <p:cNvSpPr/>
          <p:nvPr/>
        </p:nvSpPr>
        <p:spPr>
          <a:xfrm>
            <a:off x="152280" y="808200"/>
            <a:ext cx="8991720" cy="25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244440" tIns="342720" bIns="46800" anchor="ctr">
            <a:spAutoFit/>
          </a:bodyPr>
          <a:p>
            <a:pPr marL="611280" indent="12600" algn="ctr">
              <a:lnSpc>
                <a:spcPct val="100000"/>
              </a:lnSpc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a1f28"/>
                </a:solidFill>
                <a:latin typeface="Times New Roman"/>
              </a:rPr>
              <a:t>Домашнее зад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11280" indent="12600"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11280" indent="12600">
              <a:buClr>
                <a:srgbClr val="000000"/>
              </a:buClr>
              <a:buFont typeface="Arial"/>
              <a:buChar char="•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нать правило с. 5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11280" indent="12600"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3"/>
          <p:cNvSpPr/>
          <p:nvPr/>
        </p:nvSpPr>
        <p:spPr>
          <a:xfrm>
            <a:off x="533520" y="107640"/>
            <a:ext cx="83818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da1f28"/>
                </a:solidFill>
                <a:latin typeface="Times New Roman"/>
              </a:rPr>
              <a:t>Цель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крепить понятия о лексикологии как науки о язык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крепить понятие «лексическое» и «грамматическое» значение слов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крепить понятия однозначные и многозначные слова, переносное значение слова; синонимы, антоним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3"/>
          <p:cNvSpPr/>
          <p:nvPr/>
        </p:nvSpPr>
        <p:spPr>
          <a:xfrm>
            <a:off x="304920" y="-2520"/>
            <a:ext cx="86868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a1f28"/>
                </a:solidFill>
                <a:latin typeface="Times New Roman"/>
              </a:rPr>
              <a:t>       </a:t>
            </a:r>
            <a:r>
              <a:rPr b="1" i="1" lang="ru-RU" sz="4400" spc="-1" strike="noStrike">
                <a:solidFill>
                  <a:srgbClr val="da1f28"/>
                </a:solidFill>
                <a:latin typeface="Times New Roman"/>
              </a:rPr>
              <a:t>Словарно-орфографическая работ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Посв..тить стихотворение, пос..деть у говорливого ручья, разр..дить обстановку, разд..дил морковь, дремл..т камыш(?), горячий ключ(?), хороший товарищ(?), ярк..м колоритом, пл..хая погода, верн..го  друг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3"/>
          <p:cNvSpPr/>
          <p:nvPr/>
        </p:nvSpPr>
        <p:spPr>
          <a:xfrm>
            <a:off x="304920" y="-1800"/>
            <a:ext cx="8534160" cy="63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a1f28"/>
                </a:solidFill>
                <a:latin typeface="Times New Roman"/>
              </a:rPr>
              <a:t>Работа по материалам словарного диктан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ите слова, для правильного написания которых необходимо знать их лексическое знач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берите синонимы к прилагатель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ишите антонимы к слову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горяч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ярк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ишите слова, употребленные в переносном значении. Составьте словосочетания, в которых они имели бы прямое знач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3"/>
          <p:cNvSpPr/>
          <p:nvPr/>
        </p:nvSpPr>
        <p:spPr>
          <a:xfrm>
            <a:off x="304920" y="306000"/>
            <a:ext cx="853416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a1f28"/>
                </a:solidFill>
                <a:latin typeface="Times New Roman"/>
              </a:rPr>
              <a:t>Работа по материалам словарного диктан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пишите слово, значение которого можно определить только в контексте (словосочетании или предложении). Как называются такие слов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спользуя толковый словарь учебника, определите, однозначное или многозначное слово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горячий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колорит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3"/>
          <p:cNvSpPr/>
          <p:nvPr/>
        </p:nvSpPr>
        <p:spPr>
          <a:xfrm>
            <a:off x="304920" y="1800"/>
            <a:ext cx="8534160" cy="61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244440" tIns="34272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a1f28"/>
                </a:solidFill>
                <a:latin typeface="Times New Roman"/>
              </a:rPr>
              <a:t>Работаем с текстам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Зябнет осин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Дрожит на ветр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тынет на солнышк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ерзнет в жа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2. Если б дали березке расческ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зменила б березка прическ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речку, как в зеркало, гляд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асчесала б кудрявые пряд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 вошло б у нее в привыч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о утрам заплетать косич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. Токмакова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3"/>
          <p:cNvSpPr/>
          <p:nvPr/>
        </p:nvSpPr>
        <p:spPr>
          <a:xfrm>
            <a:off x="152280" y="-212040"/>
            <a:ext cx="8991720" cy="66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244440" tIns="342720" bIns="46800" anchor="ctr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a1f28"/>
                </a:solidFill>
                <a:latin typeface="Times New Roman"/>
              </a:rPr>
              <a:t>Работаем с текстам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такое метафор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е метафоры использует поэт, чтобы образнее ярче представить картин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ишите из первого отрывка синонимы к слову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ерзну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Какова их роль в текст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ишите из второго отрывка глаголы, которые употребляются в переносном значении. Графически объясните в них правописание гласной в коне с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берите и запишите синонимы к слову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гляде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гда ли возможна синонимическая замена? Например,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мотреть (глядеть) филь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5"/>
          <p:cNvSpPr/>
          <p:nvPr/>
        </p:nvSpPr>
        <p:spPr>
          <a:xfrm>
            <a:off x="152280" y="518760"/>
            <a:ext cx="8991720" cy="51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244440" tIns="342720" bIns="46800" anchor="ctr">
            <a:spAutoFit/>
          </a:bodyPr>
          <a:p>
            <a:pPr marL="611280" indent="-343080" algn="ctr">
              <a:lnSpc>
                <a:spcPct val="100000"/>
              </a:lnSpc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a1f28"/>
                </a:solidFill>
                <a:latin typeface="Times New Roman"/>
              </a:rPr>
              <a:t>Лексический диктан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11280" indent="-343080"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е по лексическому значению слово и запишите 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1280" indent="-343080">
              <a:buClr>
                <a:srgbClr val="000000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се слова язы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1280" indent="-343080">
              <a:buClr>
                <a:srgbClr val="000000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ловарный запас одного чело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1280" indent="-343080">
              <a:buClr>
                <a:srgbClr val="000000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здел лингвистики, изучающий лекси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1280" indent="-343080">
              <a:buClr>
                <a:srgbClr val="000000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лова, имеющие одно лексическое знач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1280" indent="-343080">
              <a:buClr>
                <a:srgbClr val="000000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лова, имеющие несколько лексических значений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1280" indent="-343080">
              <a:buClr>
                <a:srgbClr val="000000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лова одной части речи,  одинаковые по звучанию и написанию, но разные по знач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1280" indent="-343080">
              <a:buClr>
                <a:srgbClr val="000000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лова одной части речи, обозначающие одно и то же, но с разными оттенками знач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152280" y="154080"/>
            <a:ext cx="8991720" cy="53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244440" tIns="342720" bIns="46800" anchor="ctr">
            <a:spAutoFit/>
          </a:bodyPr>
          <a:p>
            <a:pPr marL="611280" indent="12600" algn="ctr">
              <a:lnSpc>
                <a:spcPct val="100000"/>
              </a:lnSpc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a1f28"/>
                </a:solidFill>
                <a:latin typeface="Times New Roman"/>
              </a:rPr>
              <a:t>Проверьте себ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11280" indent="12600"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11280" indent="12600">
              <a:buClr>
                <a:srgbClr val="000000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Лекси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11280" indent="12600">
              <a:buClr>
                <a:srgbClr val="000000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Лексикон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11280" indent="12600">
              <a:buClr>
                <a:srgbClr val="000000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Лексиколог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11280" indent="12600">
              <a:buClr>
                <a:srgbClr val="000000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Однозначны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11280" indent="12600">
              <a:buClr>
                <a:srgbClr val="000000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Многозначные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11280" indent="12600">
              <a:buClr>
                <a:srgbClr val="000000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Омоним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11280" indent="12600">
              <a:buClr>
                <a:srgbClr val="000000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Синони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сольцева Э.М-А.</cp:lastModifiedBy>
  <dcterms:modified xsi:type="dcterms:W3CDTF">2013-09-29T06:28:50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