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DC28-4BF0-4239-93BB-488D0FCA3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698A-EF64-42BB-B678-1FA4E2B8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CE71-2BBE-4684-B2C8-F8DFFD437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E291-7469-4E1C-A60E-2EA2CE02F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A0E8-152C-46DD-B3FB-5C24007E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97D2-B2BB-4ABD-8ACC-C300F2D2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3080-24D3-4F22-81E3-3CCC9E73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A5EF-8D3C-4531-A818-42BFB395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3F58-5610-4665-B8FB-0F58B706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F899-7D76-43A0-9173-A149C934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94DB-CBB8-4BFD-B9C7-200952FD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9F14-B0E1-4795-9ACC-8D8C8422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3B30-1AF4-4706-A058-E5DADF39039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41.xml"/><Relationship Id="rId3" Type="http://schemas.openxmlformats.org/officeDocument/2006/relationships/slide" Target="slide37.xml"/><Relationship Id="rId4" Type="http://schemas.openxmlformats.org/officeDocument/2006/relationships/slide" Target="slide35.xml"/><Relationship Id="rId5" Type="http://schemas.openxmlformats.org/officeDocument/2006/relationships/slide" Target="slide33.xml"/><Relationship Id="rId6" Type="http://schemas.openxmlformats.org/officeDocument/2006/relationships/slide" Target="slide31.xml"/><Relationship Id="rId7" Type="http://schemas.openxmlformats.org/officeDocument/2006/relationships/slide" Target="slide29.xml"/><Relationship Id="rId8" Type="http://schemas.openxmlformats.org/officeDocument/2006/relationships/slide" Target="slide27.xml"/><Relationship Id="rId9" Type="http://schemas.openxmlformats.org/officeDocument/2006/relationships/slide" Target="slide25.xml"/><Relationship Id="rId10" Type="http://schemas.openxmlformats.org/officeDocument/2006/relationships/slide" Target="slide23.xml"/><Relationship Id="rId11" Type="http://schemas.openxmlformats.org/officeDocument/2006/relationships/slide" Target="slide21.xml"/><Relationship Id="rId12" Type="http://schemas.openxmlformats.org/officeDocument/2006/relationships/slide" Target="slide19.xml"/><Relationship Id="rId13" Type="http://schemas.openxmlformats.org/officeDocument/2006/relationships/slide" Target="slide17.xml"/><Relationship Id="rId14" Type="http://schemas.openxmlformats.org/officeDocument/2006/relationships/slide" Target="slide15.xml"/><Relationship Id="rId15" Type="http://schemas.openxmlformats.org/officeDocument/2006/relationships/slide" Target="slide13.xml"/><Relationship Id="rId16" Type="http://schemas.openxmlformats.org/officeDocument/2006/relationships/hyperlink" Target="file:///tmp/home/.config/libreoffice/4/user/gallery/ricochet.wav" TargetMode="External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2"/>
          <p:cNvSpPr/>
          <p:nvPr/>
        </p:nvSpPr>
        <p:spPr>
          <a:xfrm>
            <a:off x="57240" y="7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2" name="Прямоугольник 5" descr=""/>
          <p:cNvPicPr/>
          <p:nvPr/>
        </p:nvPicPr>
        <p:blipFill>
          <a:blip r:embed="rId1"/>
          <a:stretch/>
        </p:blipFill>
        <p:spPr>
          <a:xfrm>
            <a:off x="-1133640" y="-390600"/>
            <a:ext cx="11423880" cy="400536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6" descr="печать-круглая.png"/>
          <p:cNvPicPr/>
          <p:nvPr/>
        </p:nvPicPr>
        <p:blipFill>
          <a:blip r:embed="rId2"/>
          <a:stretch/>
        </p:blipFill>
        <p:spPr>
          <a:xfrm>
            <a:off x="5643720" y="342900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В) Индикатор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AutoShape 3">
            <a:hlinkClick r:id="" action="ppaction://hlinkshowjump?jump=nextslide"/>
          </p:cNvPr>
          <p:cNvSpPr/>
          <p:nvPr/>
        </p:nvSpPr>
        <p:spPr>
          <a:xfrm>
            <a:off x="4267080" y="58672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124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919" h="21600">
                <a:moveTo>
                  <a:pt x="13565" y="14281"/>
                </a:moveTo>
                <a:lnTo>
                  <a:pt x="13565" y="12323"/>
                </a:lnTo>
                <a:cubicBezTo>
                  <a:pt x="13565" y="11496"/>
                  <a:pt x="13896" y="10800"/>
                  <a:pt x="14496" y="10800"/>
                </a:cubicBezTo>
                <a:cubicBezTo>
                  <a:pt x="15628" y="10800"/>
                  <a:pt x="16524" y="9434"/>
                  <a:pt x="16524" y="7849"/>
                </a:cubicBezTo>
                <a:cubicBezTo>
                  <a:pt x="16524" y="5534"/>
                  <a:pt x="14670" y="3794"/>
                  <a:pt x="12459" y="3794"/>
                </a:cubicBezTo>
                <a:cubicBezTo>
                  <a:pt x="10249" y="3794"/>
                  <a:pt x="8578" y="5534"/>
                  <a:pt x="8578" y="7849"/>
                </a:cubicBezTo>
                <a:lnTo>
                  <a:pt x="10431" y="7849"/>
                </a:lnTo>
                <a:cubicBezTo>
                  <a:pt x="10431" y="6709"/>
                  <a:pt x="11354" y="5821"/>
                  <a:pt x="12459" y="5821"/>
                </a:cubicBezTo>
                <a:cubicBezTo>
                  <a:pt x="13565" y="5821"/>
                  <a:pt x="14496" y="6709"/>
                  <a:pt x="14496" y="7849"/>
                </a:cubicBezTo>
                <a:cubicBezTo>
                  <a:pt x="14496" y="8589"/>
                  <a:pt x="14026" y="9320"/>
                  <a:pt x="13565" y="9320"/>
                </a:cubicBezTo>
                <a:cubicBezTo>
                  <a:pt x="12459" y="9320"/>
                  <a:pt x="11354" y="10800"/>
                  <a:pt x="11354" y="12323"/>
                </a:cubicBezTo>
                <a:lnTo>
                  <a:pt x="11354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8229600" y="56386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56" h="21600">
                <a:moveTo>
                  <a:pt x="11778" y="3837"/>
                </a:moveTo>
                <a:lnTo>
                  <a:pt x="14354" y="6448"/>
                </a:lnTo>
                <a:lnTo>
                  <a:pt x="14354" y="4707"/>
                </a:lnTo>
                <a:lnTo>
                  <a:pt x="16130" y="4707"/>
                </a:lnTo>
                <a:lnTo>
                  <a:pt x="16130" y="8224"/>
                </a:lnTo>
                <a:lnTo>
                  <a:pt x="18741" y="10800"/>
                </a:lnTo>
                <a:lnTo>
                  <a:pt x="17087" y="10800"/>
                </a:lnTo>
                <a:lnTo>
                  <a:pt x="17087" y="17989"/>
                </a:lnTo>
                <a:lnTo>
                  <a:pt x="6469" y="17989"/>
                </a:lnTo>
                <a:lnTo>
                  <a:pt x="6469" y="10800"/>
                </a:lnTo>
                <a:lnTo>
                  <a:pt x="4815" y="10800"/>
                </a:lnTo>
                <a:close/>
              </a:path>
              <a:path fill="darkenLess" w="23556" h="21600">
                <a:moveTo>
                  <a:pt x="14354" y="6448"/>
                </a:moveTo>
                <a:lnTo>
                  <a:pt x="14354" y="4707"/>
                </a:lnTo>
                <a:lnTo>
                  <a:pt x="16130" y="4707"/>
                </a:lnTo>
                <a:lnTo>
                  <a:pt x="16130" y="8224"/>
                </a:lnTo>
                <a:close/>
              </a:path>
              <a:path fill="darkenLess" w="23556" h="21600">
                <a:moveTo>
                  <a:pt x="10855" y="14299"/>
                </a:moveTo>
                <a:lnTo>
                  <a:pt x="12701" y="14299"/>
                </a:lnTo>
                <a:lnTo>
                  <a:pt x="12701" y="17989"/>
                </a:lnTo>
                <a:lnTo>
                  <a:pt x="17087" y="17989"/>
                </a:lnTo>
                <a:lnTo>
                  <a:pt x="17087" y="10800"/>
                </a:lnTo>
                <a:lnTo>
                  <a:pt x="6469" y="10800"/>
                </a:lnTo>
                <a:lnTo>
                  <a:pt x="6469" y="17989"/>
                </a:lnTo>
                <a:lnTo>
                  <a:pt x="10855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019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Математика 100  </a:t>
            </a:r>
            <a:br>
              <a:rPr sz="4000"/>
            </a:b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Поблизости один от другого расположены 2 деревни А и В. Все жители А говорят только правду, а жители В все лгут. Жители А и В посещают друг друга. Представьте, что вы находитесь в какой-то из этих деревень. Какой вопрос (только один) следует задать первому встретившемуся в этой деревне, чтобы по ответу на этот вопрос установить, А это или В?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AutoShape 4">
            <a:hlinkClick r:id="" action="ppaction://hlinkshowjump?jump=nextslide"/>
          </p:cNvPr>
          <p:cNvSpPr/>
          <p:nvPr/>
        </p:nvSpPr>
        <p:spPr>
          <a:xfrm>
            <a:off x="4267080" y="58672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124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919" h="21600">
                <a:moveTo>
                  <a:pt x="13565" y="14281"/>
                </a:moveTo>
                <a:lnTo>
                  <a:pt x="13565" y="12323"/>
                </a:lnTo>
                <a:cubicBezTo>
                  <a:pt x="13565" y="11496"/>
                  <a:pt x="13896" y="10800"/>
                  <a:pt x="14496" y="10800"/>
                </a:cubicBezTo>
                <a:cubicBezTo>
                  <a:pt x="15628" y="10800"/>
                  <a:pt x="16524" y="9434"/>
                  <a:pt x="16524" y="7849"/>
                </a:cubicBezTo>
                <a:cubicBezTo>
                  <a:pt x="16524" y="5534"/>
                  <a:pt x="14670" y="3794"/>
                  <a:pt x="12459" y="3794"/>
                </a:cubicBezTo>
                <a:cubicBezTo>
                  <a:pt x="10249" y="3794"/>
                  <a:pt x="8578" y="5534"/>
                  <a:pt x="8578" y="7849"/>
                </a:cubicBezTo>
                <a:lnTo>
                  <a:pt x="10431" y="7849"/>
                </a:lnTo>
                <a:cubicBezTo>
                  <a:pt x="10431" y="6709"/>
                  <a:pt x="11354" y="5821"/>
                  <a:pt x="12459" y="5821"/>
                </a:cubicBezTo>
                <a:cubicBezTo>
                  <a:pt x="13565" y="5821"/>
                  <a:pt x="14496" y="6709"/>
                  <a:pt x="14496" y="7849"/>
                </a:cubicBezTo>
                <a:cubicBezTo>
                  <a:pt x="14496" y="8589"/>
                  <a:pt x="14026" y="9320"/>
                  <a:pt x="13565" y="9320"/>
                </a:cubicBezTo>
                <a:cubicBezTo>
                  <a:pt x="12459" y="9320"/>
                  <a:pt x="11354" y="10800"/>
                  <a:pt x="11354" y="12323"/>
                </a:cubicBezTo>
                <a:lnTo>
                  <a:pt x="11354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6094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«Вы в этой деревне живете?» 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AutoShape 3"/>
          <p:cNvSpPr/>
          <p:nvPr/>
        </p:nvSpPr>
        <p:spPr>
          <a:xfrm>
            <a:off x="7924680" y="5867280"/>
            <a:ext cx="1219320" cy="990720"/>
          </a:xfrm>
          <a:custGeom>
            <a:avLst/>
            <a:gdLst>
              <a:gd name="textAreaLeft" fmla="*/ 64080 w 1219320"/>
              <a:gd name="textAreaRight" fmla="*/ 1155240 w 12193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6582" h="21600">
                <a:moveTo>
                  <a:pt x="0" y="0"/>
                </a:moveTo>
                <a:lnTo>
                  <a:pt x="26582" y="0"/>
                </a:lnTo>
                <a:lnTo>
                  <a:pt x="26582" y="21600"/>
                </a:lnTo>
                <a:lnTo>
                  <a:pt x="0" y="21600"/>
                </a:lnTo>
                <a:close/>
              </a:path>
              <a:path fill="lightenLess" w="26582" h="21600">
                <a:moveTo>
                  <a:pt x="0" y="0"/>
                </a:moveTo>
                <a:lnTo>
                  <a:pt x="26582" y="0"/>
                </a:lnTo>
                <a:lnTo>
                  <a:pt x="25182" y="1400"/>
                </a:lnTo>
                <a:lnTo>
                  <a:pt x="1400" y="1400"/>
                </a:lnTo>
                <a:close/>
              </a:path>
              <a:path fill="darken" w="26582" h="21600">
                <a:moveTo>
                  <a:pt x="26582" y="0"/>
                </a:moveTo>
                <a:lnTo>
                  <a:pt x="26582" y="21600"/>
                </a:lnTo>
                <a:lnTo>
                  <a:pt x="25182" y="20200"/>
                </a:lnTo>
                <a:lnTo>
                  <a:pt x="25182" y="1400"/>
                </a:lnTo>
                <a:close/>
              </a:path>
              <a:path fill="darkenLess" w="26582" h="21600">
                <a:moveTo>
                  <a:pt x="265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2" y="20200"/>
                </a:lnTo>
                <a:close/>
              </a:path>
              <a:path fill="lighten" w="265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2" h="21600">
                <a:moveTo>
                  <a:pt x="13291" y="3837"/>
                </a:moveTo>
                <a:lnTo>
                  <a:pt x="15867" y="6448"/>
                </a:lnTo>
                <a:lnTo>
                  <a:pt x="15867" y="4707"/>
                </a:lnTo>
                <a:lnTo>
                  <a:pt x="17643" y="4707"/>
                </a:lnTo>
                <a:lnTo>
                  <a:pt x="17643" y="8224"/>
                </a:lnTo>
                <a:lnTo>
                  <a:pt x="20254" y="10800"/>
                </a:lnTo>
                <a:lnTo>
                  <a:pt x="18600" y="10800"/>
                </a:lnTo>
                <a:lnTo>
                  <a:pt x="18600" y="17989"/>
                </a:lnTo>
                <a:lnTo>
                  <a:pt x="7982" y="17989"/>
                </a:lnTo>
                <a:lnTo>
                  <a:pt x="7982" y="10800"/>
                </a:lnTo>
                <a:lnTo>
                  <a:pt x="6328" y="10800"/>
                </a:lnTo>
                <a:close/>
              </a:path>
              <a:path fill="darkenLess" w="26582" h="21600">
                <a:moveTo>
                  <a:pt x="15867" y="6448"/>
                </a:moveTo>
                <a:lnTo>
                  <a:pt x="15867" y="4707"/>
                </a:lnTo>
                <a:lnTo>
                  <a:pt x="17643" y="4707"/>
                </a:lnTo>
                <a:lnTo>
                  <a:pt x="17643" y="8224"/>
                </a:lnTo>
                <a:close/>
              </a:path>
              <a:path fill="darkenLess" w="26582" h="21600">
                <a:moveTo>
                  <a:pt x="12369" y="14299"/>
                </a:moveTo>
                <a:lnTo>
                  <a:pt x="14214" y="14299"/>
                </a:lnTo>
                <a:lnTo>
                  <a:pt x="14214" y="17989"/>
                </a:lnTo>
                <a:lnTo>
                  <a:pt x="18600" y="17989"/>
                </a:lnTo>
                <a:lnTo>
                  <a:pt x="18600" y="10800"/>
                </a:lnTo>
                <a:lnTo>
                  <a:pt x="7982" y="10800"/>
                </a:lnTo>
                <a:lnTo>
                  <a:pt x="7982" y="17989"/>
                </a:lnTo>
                <a:lnTo>
                  <a:pt x="1236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609120"/>
            <a:ext cx="7773840" cy="469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Математика 50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Какой русский писатель окончил физико-математический факультет университета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AutoShape 4">
            <a:hlinkClick r:id="" action="ppaction://hlinkshowjump?jump=nextslide"/>
          </p:cNvPr>
          <p:cNvSpPr/>
          <p:nvPr/>
        </p:nvSpPr>
        <p:spPr>
          <a:xfrm>
            <a:off x="4267080" y="58672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124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919" h="21600">
                <a:moveTo>
                  <a:pt x="13565" y="14281"/>
                </a:moveTo>
                <a:lnTo>
                  <a:pt x="13565" y="12323"/>
                </a:lnTo>
                <a:cubicBezTo>
                  <a:pt x="13565" y="11496"/>
                  <a:pt x="13896" y="10800"/>
                  <a:pt x="14496" y="10800"/>
                </a:cubicBezTo>
                <a:cubicBezTo>
                  <a:pt x="15628" y="10800"/>
                  <a:pt x="16524" y="9434"/>
                  <a:pt x="16524" y="7849"/>
                </a:cubicBezTo>
                <a:cubicBezTo>
                  <a:pt x="16524" y="5534"/>
                  <a:pt x="14670" y="3794"/>
                  <a:pt x="12459" y="3794"/>
                </a:cubicBezTo>
                <a:cubicBezTo>
                  <a:pt x="10249" y="3794"/>
                  <a:pt x="8578" y="5534"/>
                  <a:pt x="8578" y="7849"/>
                </a:cubicBezTo>
                <a:lnTo>
                  <a:pt x="10431" y="7849"/>
                </a:lnTo>
                <a:cubicBezTo>
                  <a:pt x="10431" y="6709"/>
                  <a:pt x="11354" y="5821"/>
                  <a:pt x="12459" y="5821"/>
                </a:cubicBezTo>
                <a:cubicBezTo>
                  <a:pt x="13565" y="5821"/>
                  <a:pt x="14496" y="6709"/>
                  <a:pt x="14496" y="7849"/>
                </a:cubicBezTo>
                <a:cubicBezTo>
                  <a:pt x="14496" y="8589"/>
                  <a:pt x="14026" y="9320"/>
                  <a:pt x="13565" y="9320"/>
                </a:cubicBezTo>
                <a:cubicBezTo>
                  <a:pt x="12459" y="9320"/>
                  <a:pt x="11354" y="10800"/>
                  <a:pt x="11354" y="12323"/>
                </a:cubicBezTo>
                <a:lnTo>
                  <a:pt x="11354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: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600200" y="2743200"/>
            <a:ext cx="533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А.С.Грибоедов 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7924680" y="5867280"/>
            <a:ext cx="1219320" cy="990720"/>
          </a:xfrm>
          <a:custGeom>
            <a:avLst/>
            <a:gdLst>
              <a:gd name="textAreaLeft" fmla="*/ 64080 w 1219320"/>
              <a:gd name="textAreaRight" fmla="*/ 1155240 w 12193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6582" h="21600">
                <a:moveTo>
                  <a:pt x="0" y="0"/>
                </a:moveTo>
                <a:lnTo>
                  <a:pt x="26582" y="0"/>
                </a:lnTo>
                <a:lnTo>
                  <a:pt x="26582" y="21600"/>
                </a:lnTo>
                <a:lnTo>
                  <a:pt x="0" y="21600"/>
                </a:lnTo>
                <a:close/>
              </a:path>
              <a:path fill="lightenLess" w="26582" h="21600">
                <a:moveTo>
                  <a:pt x="0" y="0"/>
                </a:moveTo>
                <a:lnTo>
                  <a:pt x="26582" y="0"/>
                </a:lnTo>
                <a:lnTo>
                  <a:pt x="25182" y="1400"/>
                </a:lnTo>
                <a:lnTo>
                  <a:pt x="1400" y="1400"/>
                </a:lnTo>
                <a:close/>
              </a:path>
              <a:path fill="darken" w="26582" h="21600">
                <a:moveTo>
                  <a:pt x="26582" y="0"/>
                </a:moveTo>
                <a:lnTo>
                  <a:pt x="26582" y="21600"/>
                </a:lnTo>
                <a:lnTo>
                  <a:pt x="25182" y="20200"/>
                </a:lnTo>
                <a:lnTo>
                  <a:pt x="25182" y="1400"/>
                </a:lnTo>
                <a:close/>
              </a:path>
              <a:path fill="darkenLess" w="26582" h="21600">
                <a:moveTo>
                  <a:pt x="265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2" y="20200"/>
                </a:lnTo>
                <a:close/>
              </a:path>
              <a:path fill="lighten" w="265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2" h="21600">
                <a:moveTo>
                  <a:pt x="13291" y="3837"/>
                </a:moveTo>
                <a:lnTo>
                  <a:pt x="15867" y="6448"/>
                </a:lnTo>
                <a:lnTo>
                  <a:pt x="15867" y="4707"/>
                </a:lnTo>
                <a:lnTo>
                  <a:pt x="17643" y="4707"/>
                </a:lnTo>
                <a:lnTo>
                  <a:pt x="17643" y="8224"/>
                </a:lnTo>
                <a:lnTo>
                  <a:pt x="20254" y="10800"/>
                </a:lnTo>
                <a:lnTo>
                  <a:pt x="18600" y="10800"/>
                </a:lnTo>
                <a:lnTo>
                  <a:pt x="18600" y="17989"/>
                </a:lnTo>
                <a:lnTo>
                  <a:pt x="7982" y="17989"/>
                </a:lnTo>
                <a:lnTo>
                  <a:pt x="7982" y="10800"/>
                </a:lnTo>
                <a:lnTo>
                  <a:pt x="6328" y="10800"/>
                </a:lnTo>
                <a:close/>
              </a:path>
              <a:path fill="darkenLess" w="26582" h="21600">
                <a:moveTo>
                  <a:pt x="15867" y="6448"/>
                </a:moveTo>
                <a:lnTo>
                  <a:pt x="15867" y="4707"/>
                </a:lnTo>
                <a:lnTo>
                  <a:pt x="17643" y="4707"/>
                </a:lnTo>
                <a:lnTo>
                  <a:pt x="17643" y="8224"/>
                </a:lnTo>
                <a:close/>
              </a:path>
              <a:path fill="darkenLess" w="26582" h="21600">
                <a:moveTo>
                  <a:pt x="12369" y="14299"/>
                </a:moveTo>
                <a:lnTo>
                  <a:pt x="14214" y="14299"/>
                </a:lnTo>
                <a:lnTo>
                  <a:pt x="14214" y="17989"/>
                </a:lnTo>
                <a:lnTo>
                  <a:pt x="18600" y="17989"/>
                </a:lnTo>
                <a:lnTo>
                  <a:pt x="18600" y="10800"/>
                </a:lnTo>
                <a:lnTo>
                  <a:pt x="7982" y="10800"/>
                </a:lnTo>
                <a:lnTo>
                  <a:pt x="7982" y="17989"/>
                </a:lnTo>
                <a:lnTo>
                  <a:pt x="1236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09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Математика 40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Кирпич имеет массу 1,5 кг и еще полкирпича. Какова масса кирпича?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AutoShape 4">
            <a:hlinkClick r:id="" action="ppaction://hlinkshowjump?jump=nextslide"/>
          </p:cNvPr>
          <p:cNvSpPr/>
          <p:nvPr/>
        </p:nvSpPr>
        <p:spPr>
          <a:xfrm>
            <a:off x="4267080" y="58672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124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919" h="21600">
                <a:moveTo>
                  <a:pt x="13565" y="14281"/>
                </a:moveTo>
                <a:lnTo>
                  <a:pt x="13565" y="12323"/>
                </a:lnTo>
                <a:cubicBezTo>
                  <a:pt x="13565" y="11496"/>
                  <a:pt x="13896" y="10800"/>
                  <a:pt x="14496" y="10800"/>
                </a:cubicBezTo>
                <a:cubicBezTo>
                  <a:pt x="15628" y="10800"/>
                  <a:pt x="16524" y="9434"/>
                  <a:pt x="16524" y="7849"/>
                </a:cubicBezTo>
                <a:cubicBezTo>
                  <a:pt x="16524" y="5534"/>
                  <a:pt x="14670" y="3794"/>
                  <a:pt x="12459" y="3794"/>
                </a:cubicBezTo>
                <a:cubicBezTo>
                  <a:pt x="10249" y="3794"/>
                  <a:pt x="8578" y="5534"/>
                  <a:pt x="8578" y="7849"/>
                </a:cubicBezTo>
                <a:lnTo>
                  <a:pt x="10431" y="7849"/>
                </a:lnTo>
                <a:cubicBezTo>
                  <a:pt x="10431" y="6709"/>
                  <a:pt x="11354" y="5821"/>
                  <a:pt x="12459" y="5821"/>
                </a:cubicBezTo>
                <a:cubicBezTo>
                  <a:pt x="13565" y="5821"/>
                  <a:pt x="14496" y="6709"/>
                  <a:pt x="14496" y="7849"/>
                </a:cubicBezTo>
                <a:cubicBezTo>
                  <a:pt x="14496" y="8589"/>
                  <a:pt x="14026" y="9320"/>
                  <a:pt x="13565" y="9320"/>
                </a:cubicBezTo>
                <a:cubicBezTo>
                  <a:pt x="12459" y="9320"/>
                  <a:pt x="11354" y="10800"/>
                  <a:pt x="11354" y="12323"/>
                </a:cubicBezTo>
                <a:lnTo>
                  <a:pt x="11354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: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3кг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AutoShape 3"/>
          <p:cNvSpPr/>
          <p:nvPr/>
        </p:nvSpPr>
        <p:spPr>
          <a:xfrm>
            <a:off x="7924680" y="5867280"/>
            <a:ext cx="1219320" cy="990720"/>
          </a:xfrm>
          <a:custGeom>
            <a:avLst/>
            <a:gdLst>
              <a:gd name="textAreaLeft" fmla="*/ 64080 w 1219320"/>
              <a:gd name="textAreaRight" fmla="*/ 1155240 w 12193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6582" h="21600">
                <a:moveTo>
                  <a:pt x="0" y="0"/>
                </a:moveTo>
                <a:lnTo>
                  <a:pt x="26582" y="0"/>
                </a:lnTo>
                <a:lnTo>
                  <a:pt x="26582" y="21600"/>
                </a:lnTo>
                <a:lnTo>
                  <a:pt x="0" y="21600"/>
                </a:lnTo>
                <a:close/>
              </a:path>
              <a:path fill="lightenLess" w="26582" h="21600">
                <a:moveTo>
                  <a:pt x="0" y="0"/>
                </a:moveTo>
                <a:lnTo>
                  <a:pt x="26582" y="0"/>
                </a:lnTo>
                <a:lnTo>
                  <a:pt x="25182" y="1400"/>
                </a:lnTo>
                <a:lnTo>
                  <a:pt x="1400" y="1400"/>
                </a:lnTo>
                <a:close/>
              </a:path>
              <a:path fill="darken" w="26582" h="21600">
                <a:moveTo>
                  <a:pt x="26582" y="0"/>
                </a:moveTo>
                <a:lnTo>
                  <a:pt x="26582" y="21600"/>
                </a:lnTo>
                <a:lnTo>
                  <a:pt x="25182" y="20200"/>
                </a:lnTo>
                <a:lnTo>
                  <a:pt x="25182" y="1400"/>
                </a:lnTo>
                <a:close/>
              </a:path>
              <a:path fill="darkenLess" w="26582" h="21600">
                <a:moveTo>
                  <a:pt x="265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2" y="20200"/>
                </a:lnTo>
                <a:close/>
              </a:path>
              <a:path fill="lighten" w="265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2" h="21600">
                <a:moveTo>
                  <a:pt x="13291" y="3837"/>
                </a:moveTo>
                <a:lnTo>
                  <a:pt x="15867" y="6448"/>
                </a:lnTo>
                <a:lnTo>
                  <a:pt x="15867" y="4707"/>
                </a:lnTo>
                <a:lnTo>
                  <a:pt x="17643" y="4707"/>
                </a:lnTo>
                <a:lnTo>
                  <a:pt x="17643" y="8224"/>
                </a:lnTo>
                <a:lnTo>
                  <a:pt x="20254" y="10800"/>
                </a:lnTo>
                <a:lnTo>
                  <a:pt x="18600" y="10800"/>
                </a:lnTo>
                <a:lnTo>
                  <a:pt x="18600" y="17989"/>
                </a:lnTo>
                <a:lnTo>
                  <a:pt x="7982" y="17989"/>
                </a:lnTo>
                <a:lnTo>
                  <a:pt x="7982" y="10800"/>
                </a:lnTo>
                <a:lnTo>
                  <a:pt x="6328" y="10800"/>
                </a:lnTo>
                <a:close/>
              </a:path>
              <a:path fill="darkenLess" w="26582" h="21600">
                <a:moveTo>
                  <a:pt x="15867" y="6448"/>
                </a:moveTo>
                <a:lnTo>
                  <a:pt x="15867" y="4707"/>
                </a:lnTo>
                <a:lnTo>
                  <a:pt x="17643" y="4707"/>
                </a:lnTo>
                <a:lnTo>
                  <a:pt x="17643" y="8224"/>
                </a:lnTo>
                <a:close/>
              </a:path>
              <a:path fill="darkenLess" w="26582" h="21600">
                <a:moveTo>
                  <a:pt x="12369" y="14299"/>
                </a:moveTo>
                <a:lnTo>
                  <a:pt x="14214" y="14299"/>
                </a:lnTo>
                <a:lnTo>
                  <a:pt x="14214" y="17989"/>
                </a:lnTo>
                <a:lnTo>
                  <a:pt x="18600" y="17989"/>
                </a:lnTo>
                <a:lnTo>
                  <a:pt x="18600" y="10800"/>
                </a:lnTo>
                <a:lnTo>
                  <a:pt x="7982" y="10800"/>
                </a:lnTo>
                <a:lnTo>
                  <a:pt x="7982" y="17989"/>
                </a:lnTo>
                <a:lnTo>
                  <a:pt x="1236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0920" y="609480"/>
            <a:ext cx="7846920" cy="476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Математика 10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На уроках физкультуры ученики выстроились в линейку на расстоянии 1 м друг от друга. Вся линейка растянулась на 25 м. Сколько было учеников?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AutoShape 4">
            <a:hlinkClick r:id="" action="ppaction://hlinkshowjump?jump=nextslide"/>
          </p:cNvPr>
          <p:cNvSpPr/>
          <p:nvPr/>
        </p:nvSpPr>
        <p:spPr>
          <a:xfrm>
            <a:off x="4267080" y="58672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124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919" h="21600">
                <a:moveTo>
                  <a:pt x="13565" y="14281"/>
                </a:moveTo>
                <a:lnTo>
                  <a:pt x="13565" y="12323"/>
                </a:lnTo>
                <a:cubicBezTo>
                  <a:pt x="13565" y="11496"/>
                  <a:pt x="13896" y="10800"/>
                  <a:pt x="14496" y="10800"/>
                </a:cubicBezTo>
                <a:cubicBezTo>
                  <a:pt x="15628" y="10800"/>
                  <a:pt x="16524" y="9434"/>
                  <a:pt x="16524" y="7849"/>
                </a:cubicBezTo>
                <a:cubicBezTo>
                  <a:pt x="16524" y="5534"/>
                  <a:pt x="14670" y="3794"/>
                  <a:pt x="12459" y="3794"/>
                </a:cubicBezTo>
                <a:cubicBezTo>
                  <a:pt x="10249" y="3794"/>
                  <a:pt x="8578" y="5534"/>
                  <a:pt x="8578" y="7849"/>
                </a:cubicBezTo>
                <a:lnTo>
                  <a:pt x="10431" y="7849"/>
                </a:lnTo>
                <a:cubicBezTo>
                  <a:pt x="10431" y="6709"/>
                  <a:pt x="11354" y="5821"/>
                  <a:pt x="12459" y="5821"/>
                </a:cubicBezTo>
                <a:cubicBezTo>
                  <a:pt x="13565" y="5821"/>
                  <a:pt x="14496" y="6709"/>
                  <a:pt x="14496" y="7849"/>
                </a:cubicBezTo>
                <a:cubicBezTo>
                  <a:pt x="14496" y="8589"/>
                  <a:pt x="14026" y="9320"/>
                  <a:pt x="13565" y="9320"/>
                </a:cubicBezTo>
                <a:cubicBezTo>
                  <a:pt x="12459" y="9320"/>
                  <a:pt x="11354" y="10800"/>
                  <a:pt x="11354" y="12323"/>
                </a:cubicBezTo>
                <a:lnTo>
                  <a:pt x="11354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26 учеников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AutoShape 3"/>
          <p:cNvSpPr/>
          <p:nvPr/>
        </p:nvSpPr>
        <p:spPr>
          <a:xfrm>
            <a:off x="8229600" y="59436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586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итература 100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   Кто этот человек?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Родился в Москве.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Учился в селе.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Умер в Санкт-Петербурге.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Все его знают.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AutoShape 4">
            <a:hlinkClick r:id="" action="ppaction://hlinkshowjump?jump=nextslide"/>
          </p:cNvPr>
          <p:cNvSpPr/>
          <p:nvPr/>
        </p:nvSpPr>
        <p:spPr>
          <a:xfrm>
            <a:off x="4267080" y="58672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124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919" h="21600">
                <a:moveTo>
                  <a:pt x="13565" y="14281"/>
                </a:moveTo>
                <a:lnTo>
                  <a:pt x="13565" y="12323"/>
                </a:lnTo>
                <a:cubicBezTo>
                  <a:pt x="13565" y="11496"/>
                  <a:pt x="13896" y="10800"/>
                  <a:pt x="14496" y="10800"/>
                </a:cubicBezTo>
                <a:cubicBezTo>
                  <a:pt x="15628" y="10800"/>
                  <a:pt x="16524" y="9434"/>
                  <a:pt x="16524" y="7849"/>
                </a:cubicBezTo>
                <a:cubicBezTo>
                  <a:pt x="16524" y="5534"/>
                  <a:pt x="14670" y="3794"/>
                  <a:pt x="12459" y="3794"/>
                </a:cubicBezTo>
                <a:cubicBezTo>
                  <a:pt x="10249" y="3794"/>
                  <a:pt x="8578" y="5534"/>
                  <a:pt x="8578" y="7849"/>
                </a:cubicBezTo>
                <a:lnTo>
                  <a:pt x="10431" y="7849"/>
                </a:lnTo>
                <a:cubicBezTo>
                  <a:pt x="10431" y="6709"/>
                  <a:pt x="11354" y="5821"/>
                  <a:pt x="12459" y="5821"/>
                </a:cubicBezTo>
                <a:cubicBezTo>
                  <a:pt x="13565" y="5821"/>
                  <a:pt x="14496" y="6709"/>
                  <a:pt x="14496" y="7849"/>
                </a:cubicBezTo>
                <a:cubicBezTo>
                  <a:pt x="14496" y="8589"/>
                  <a:pt x="14026" y="9320"/>
                  <a:pt x="13565" y="9320"/>
                </a:cubicBezTo>
                <a:cubicBezTo>
                  <a:pt x="12459" y="9320"/>
                  <a:pt x="11354" y="10800"/>
                  <a:pt x="11354" y="12323"/>
                </a:cubicBezTo>
                <a:lnTo>
                  <a:pt x="11354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/>
        </a:graphic>
      </p:graphicFrame>
      <p:sp>
        <p:nvSpPr>
          <p:cNvPr id="45" name="Rectangle 3"/>
          <p:cNvSpPr/>
          <p:nvPr/>
        </p:nvSpPr>
        <p:spPr>
          <a:xfrm>
            <a:off x="57240" y="7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Rectangle 4">
            <a:hlinkClick r:id="rId1" action="ppaction://hlinksldjump"/>
          </p:cNvPr>
          <p:cNvSpPr/>
          <p:nvPr/>
        </p:nvSpPr>
        <p:spPr>
          <a:xfrm>
            <a:off x="7315200" y="5149800"/>
            <a:ext cx="1828800" cy="117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800000"/>
                </a:solidFill>
                <a:latin typeface="Times New Roman"/>
              </a:rPr>
              <a:t>1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" name="Rectangle 5">
            <a:hlinkClick r:id="rId2" action="ppaction://hlinksldjump"/>
          </p:cNvPr>
          <p:cNvSpPr/>
          <p:nvPr/>
        </p:nvSpPr>
        <p:spPr>
          <a:xfrm>
            <a:off x="5487840" y="5149800"/>
            <a:ext cx="1827360" cy="117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008000"/>
                </a:solidFill>
                <a:latin typeface="Times New Roman"/>
              </a:rPr>
              <a:t>4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" name="Rectangle 6">
            <a:hlinkClick r:id="rId3" action="ppaction://hlinksldjump"/>
          </p:cNvPr>
          <p:cNvSpPr/>
          <p:nvPr/>
        </p:nvSpPr>
        <p:spPr>
          <a:xfrm>
            <a:off x="3656160" y="5149800"/>
            <a:ext cx="1831680" cy="117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333399"/>
                </a:solidFill>
                <a:latin typeface="Times New Roman"/>
              </a:rPr>
              <a:t>5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Rectangle 7">
            <a:hlinkClick r:id="rId4" action="ppaction://hlinksldjump"/>
          </p:cNvPr>
          <p:cNvSpPr/>
          <p:nvPr/>
        </p:nvSpPr>
        <p:spPr>
          <a:xfrm>
            <a:off x="1828800" y="5149800"/>
            <a:ext cx="1827360" cy="117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66"/>
                </a:solidFill>
                <a:latin typeface="Times New Roman"/>
              </a:rPr>
              <a:t>10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0" y="5149800"/>
            <a:ext cx="1828800" cy="117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НФОР-МАТИКА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" name="Rectangle 9">
            <a:hlinkClick r:id="rId5" action="ppaction://hlinksldjump"/>
          </p:cNvPr>
          <p:cNvSpPr/>
          <p:nvPr/>
        </p:nvSpPr>
        <p:spPr>
          <a:xfrm>
            <a:off x="7315200" y="3978360"/>
            <a:ext cx="1828800" cy="11714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800000"/>
                </a:solidFill>
                <a:latin typeface="Times New Roman"/>
              </a:rPr>
              <a:t>1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Rectangle 10">
            <a:hlinkClick r:id="rId6" action="ppaction://hlinksldjump"/>
          </p:cNvPr>
          <p:cNvSpPr/>
          <p:nvPr/>
        </p:nvSpPr>
        <p:spPr>
          <a:xfrm>
            <a:off x="5487840" y="3978360"/>
            <a:ext cx="1827360" cy="11714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008000"/>
                </a:solidFill>
                <a:latin typeface="Times New Roman"/>
              </a:rPr>
              <a:t>4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" name="Rectangle 11">
            <a:hlinkClick r:id="rId7" action="ppaction://hlinksldjump"/>
          </p:cNvPr>
          <p:cNvSpPr/>
          <p:nvPr/>
        </p:nvSpPr>
        <p:spPr>
          <a:xfrm>
            <a:off x="3656160" y="3978360"/>
            <a:ext cx="1831680" cy="11714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333399"/>
                </a:solidFill>
                <a:latin typeface="Times New Roman"/>
              </a:rPr>
              <a:t>5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Rectangle 12">
            <a:hlinkClick r:id="rId8" action="ppaction://hlinksldjump"/>
          </p:cNvPr>
          <p:cNvSpPr/>
          <p:nvPr/>
        </p:nvSpPr>
        <p:spPr>
          <a:xfrm>
            <a:off x="1792440" y="4008600"/>
            <a:ext cx="1828800" cy="11728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66"/>
                </a:solidFill>
                <a:latin typeface="Times New Roman"/>
              </a:rPr>
              <a:t>10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0" y="3978360"/>
            <a:ext cx="1828800" cy="11714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СТО-РИЯ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Rectangle 14">
            <a:hlinkClick r:id="rId9" action="ppaction://hlinksldjump"/>
          </p:cNvPr>
          <p:cNvSpPr/>
          <p:nvPr/>
        </p:nvSpPr>
        <p:spPr>
          <a:xfrm>
            <a:off x="7315200" y="2852640"/>
            <a:ext cx="1828800" cy="11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800000"/>
                </a:solidFill>
                <a:latin typeface="Times New Roman"/>
              </a:rPr>
              <a:t>1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" name="Rectangle 15">
            <a:hlinkClick r:id="rId10" action="ppaction://hlinksldjump"/>
          </p:cNvPr>
          <p:cNvSpPr/>
          <p:nvPr/>
        </p:nvSpPr>
        <p:spPr>
          <a:xfrm>
            <a:off x="5487840" y="2803680"/>
            <a:ext cx="1827360" cy="11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ff3399"/>
                </a:solidFill>
                <a:latin typeface="Times New Roman"/>
              </a:rPr>
              <a:t>4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Rectangle 16">
            <a:hlinkClick r:id="rId11" action="ppaction://hlinksldjump"/>
          </p:cNvPr>
          <p:cNvSpPr/>
          <p:nvPr/>
        </p:nvSpPr>
        <p:spPr>
          <a:xfrm>
            <a:off x="3657600" y="2803680"/>
            <a:ext cx="1830240" cy="11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333399"/>
                </a:solidFill>
                <a:latin typeface="Times New Roman"/>
              </a:rPr>
              <a:t>5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Rectangle 17">
            <a:hlinkClick r:id="rId12" action="ppaction://hlinksldjump"/>
          </p:cNvPr>
          <p:cNvSpPr/>
          <p:nvPr/>
        </p:nvSpPr>
        <p:spPr>
          <a:xfrm>
            <a:off x="1828800" y="2803680"/>
            <a:ext cx="1827360" cy="11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6000" spc="-1" strike="noStrike">
                <a:solidFill>
                  <a:srgbClr val="993366"/>
                </a:solidFill>
                <a:latin typeface="Times New Roman"/>
              </a:rPr>
              <a:t>10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Rectangle 18"/>
          <p:cNvSpPr/>
          <p:nvPr/>
        </p:nvSpPr>
        <p:spPr>
          <a:xfrm>
            <a:off x="0" y="2803680"/>
            <a:ext cx="1828800" cy="11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ЛИТЕРА-ТУРА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Rectangle 19">
            <a:hlinkClick r:id="rId13" action="ppaction://hlinksldjump"/>
          </p:cNvPr>
          <p:cNvSpPr/>
          <p:nvPr/>
        </p:nvSpPr>
        <p:spPr>
          <a:xfrm>
            <a:off x="7315200" y="1631880"/>
            <a:ext cx="1828800" cy="1171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800000"/>
                </a:solidFill>
                <a:latin typeface="Times New Roman"/>
              </a:rPr>
              <a:t>1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Rectangle 20">
            <a:hlinkClick r:id="rId14" action="ppaction://hlinksldjump"/>
          </p:cNvPr>
          <p:cNvSpPr/>
          <p:nvPr/>
        </p:nvSpPr>
        <p:spPr>
          <a:xfrm>
            <a:off x="5487840" y="1631880"/>
            <a:ext cx="1827360" cy="1171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008000"/>
                </a:solidFill>
                <a:latin typeface="Times New Roman"/>
              </a:rPr>
              <a:t>4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Rectangle 21">
            <a:hlinkClick r:id="rId15" action="ppaction://hlinksldjump"/>
          </p:cNvPr>
          <p:cNvSpPr/>
          <p:nvPr/>
        </p:nvSpPr>
        <p:spPr>
          <a:xfrm>
            <a:off x="3656160" y="1631880"/>
            <a:ext cx="1831680" cy="1171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333399"/>
                </a:solidFill>
                <a:latin typeface="Times New Roman"/>
              </a:rPr>
              <a:t>5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Rectangle 22"/>
          <p:cNvSpPr/>
          <p:nvPr/>
        </p:nvSpPr>
        <p:spPr>
          <a:xfrm>
            <a:off x="1828800" y="1631880"/>
            <a:ext cx="1827360" cy="1171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66"/>
                </a:solidFill>
                <a:latin typeface="Times New Roman"/>
              </a:rPr>
              <a:t>10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Rectangle 23"/>
          <p:cNvSpPr/>
          <p:nvPr/>
        </p:nvSpPr>
        <p:spPr>
          <a:xfrm>
            <a:off x="0" y="1631880"/>
            <a:ext cx="1828800" cy="1171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МАТЕ-МАТИКА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" name="Rectangle 24"/>
          <p:cNvSpPr/>
          <p:nvPr/>
        </p:nvSpPr>
        <p:spPr>
          <a:xfrm>
            <a:off x="7315200" y="457200"/>
            <a:ext cx="1828800" cy="11746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800000"/>
                </a:solidFill>
                <a:latin typeface="Times New Roman"/>
              </a:rPr>
              <a:t>1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Rectangle 25"/>
          <p:cNvSpPr/>
          <p:nvPr/>
        </p:nvSpPr>
        <p:spPr>
          <a:xfrm>
            <a:off x="5487840" y="457200"/>
            <a:ext cx="1827360" cy="11746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008000"/>
                </a:solidFill>
                <a:latin typeface="Times New Roman"/>
              </a:rPr>
              <a:t>4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Rectangle 26"/>
          <p:cNvSpPr/>
          <p:nvPr/>
        </p:nvSpPr>
        <p:spPr>
          <a:xfrm>
            <a:off x="3656160" y="457200"/>
            <a:ext cx="1831680" cy="11746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333399"/>
                </a:solidFill>
                <a:latin typeface="Times New Roman"/>
              </a:rPr>
              <a:t>5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Rectangle 27"/>
          <p:cNvSpPr/>
          <p:nvPr/>
        </p:nvSpPr>
        <p:spPr>
          <a:xfrm>
            <a:off x="1828800" y="457200"/>
            <a:ext cx="1827360" cy="10429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66"/>
                </a:solidFill>
                <a:latin typeface="Times New Roman"/>
              </a:rPr>
              <a:t>10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Rectangle 28">
            <a:hlinkClick r:id="rId16"/>
          </p:cNvPr>
          <p:cNvSpPr/>
          <p:nvPr/>
        </p:nvSpPr>
        <p:spPr>
          <a:xfrm>
            <a:off x="0" y="457200"/>
            <a:ext cx="1828800" cy="11746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ФИЗИКА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Line 29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Line 30"/>
          <p:cNvSpPr/>
          <p:nvPr/>
        </p:nvSpPr>
        <p:spPr>
          <a:xfrm>
            <a:off x="0" y="16318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Line 31"/>
          <p:cNvSpPr/>
          <p:nvPr/>
        </p:nvSpPr>
        <p:spPr>
          <a:xfrm>
            <a:off x="0" y="28036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0" y="397836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Line 33"/>
          <p:cNvSpPr/>
          <p:nvPr/>
        </p:nvSpPr>
        <p:spPr>
          <a:xfrm>
            <a:off x="0" y="514980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Line 34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Line 35"/>
          <p:cNvSpPr/>
          <p:nvPr/>
        </p:nvSpPr>
        <p:spPr>
          <a:xfrm>
            <a:off x="0" y="457200"/>
            <a:ext cx="0" cy="58672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Line 36"/>
          <p:cNvSpPr/>
          <p:nvPr/>
        </p:nvSpPr>
        <p:spPr>
          <a:xfrm>
            <a:off x="1981080" y="457200"/>
            <a:ext cx="0" cy="586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Line 37"/>
          <p:cNvSpPr/>
          <p:nvPr/>
        </p:nvSpPr>
        <p:spPr>
          <a:xfrm>
            <a:off x="3656160" y="457200"/>
            <a:ext cx="0" cy="586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Line 38"/>
          <p:cNvSpPr/>
          <p:nvPr/>
        </p:nvSpPr>
        <p:spPr>
          <a:xfrm>
            <a:off x="5487840" y="457200"/>
            <a:ext cx="0" cy="586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Line 39"/>
          <p:cNvSpPr/>
          <p:nvPr/>
        </p:nvSpPr>
        <p:spPr>
          <a:xfrm>
            <a:off x="7315200" y="457200"/>
            <a:ext cx="0" cy="586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Line 40"/>
          <p:cNvSpPr/>
          <p:nvPr/>
        </p:nvSpPr>
        <p:spPr>
          <a:xfrm>
            <a:off x="9144000" y="457200"/>
            <a:ext cx="0" cy="58672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А.С. Пушкин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7772400" y="571500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9" h="21600">
                <a:moveTo>
                  <a:pt x="12959" y="3837"/>
                </a:moveTo>
                <a:lnTo>
                  <a:pt x="15536" y="6448"/>
                </a:lnTo>
                <a:lnTo>
                  <a:pt x="15536" y="4707"/>
                </a:lnTo>
                <a:lnTo>
                  <a:pt x="17311" y="4707"/>
                </a:lnTo>
                <a:lnTo>
                  <a:pt x="17311" y="8224"/>
                </a:lnTo>
                <a:lnTo>
                  <a:pt x="19922" y="10800"/>
                </a:lnTo>
                <a:lnTo>
                  <a:pt x="18269" y="10800"/>
                </a:lnTo>
                <a:lnTo>
                  <a:pt x="18269" y="17989"/>
                </a:lnTo>
                <a:lnTo>
                  <a:pt x="7650" y="17989"/>
                </a:lnTo>
                <a:lnTo>
                  <a:pt x="7650" y="10800"/>
                </a:lnTo>
                <a:lnTo>
                  <a:pt x="5996" y="10800"/>
                </a:lnTo>
                <a:close/>
              </a:path>
              <a:path fill="darkenLess" w="25919" h="21600">
                <a:moveTo>
                  <a:pt x="15536" y="6448"/>
                </a:moveTo>
                <a:lnTo>
                  <a:pt x="15536" y="4707"/>
                </a:lnTo>
                <a:lnTo>
                  <a:pt x="17311" y="4707"/>
                </a:lnTo>
                <a:lnTo>
                  <a:pt x="17311" y="8224"/>
                </a:lnTo>
                <a:close/>
              </a:path>
              <a:path fill="darkenLess" w="25919" h="21600">
                <a:moveTo>
                  <a:pt x="12037" y="14299"/>
                </a:moveTo>
                <a:lnTo>
                  <a:pt x="13882" y="14299"/>
                </a:lnTo>
                <a:lnTo>
                  <a:pt x="13882" y="17989"/>
                </a:lnTo>
                <a:lnTo>
                  <a:pt x="18269" y="17989"/>
                </a:lnTo>
                <a:lnTo>
                  <a:pt x="18269" y="10800"/>
                </a:lnTo>
                <a:lnTo>
                  <a:pt x="7650" y="10800"/>
                </a:lnTo>
                <a:lnTo>
                  <a:pt x="7650" y="17989"/>
                </a:lnTo>
                <a:lnTo>
                  <a:pt x="1203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Литература 50 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Кто этот литературный герой?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Его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 родина — Англия.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Он отличается завидным аппетитом.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Один из его друзей — настоящая свинья.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Он обычно говорит и поёт голосом  Евгения Леонова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AutoShape 4">
            <a:hlinkClick r:id="" action="ppaction://hlinkshowjump?jump=nextslide"/>
          </p:cNvPr>
          <p:cNvSpPr/>
          <p:nvPr/>
        </p:nvSpPr>
        <p:spPr>
          <a:xfrm>
            <a:off x="4267080" y="58672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124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919" h="21600">
                <a:moveTo>
                  <a:pt x="13565" y="14281"/>
                </a:moveTo>
                <a:lnTo>
                  <a:pt x="13565" y="12323"/>
                </a:lnTo>
                <a:cubicBezTo>
                  <a:pt x="13565" y="11496"/>
                  <a:pt x="13896" y="10800"/>
                  <a:pt x="14496" y="10800"/>
                </a:cubicBezTo>
                <a:cubicBezTo>
                  <a:pt x="15628" y="10800"/>
                  <a:pt x="16524" y="9434"/>
                  <a:pt x="16524" y="7849"/>
                </a:cubicBezTo>
                <a:cubicBezTo>
                  <a:pt x="16524" y="5534"/>
                  <a:pt x="14670" y="3794"/>
                  <a:pt x="12459" y="3794"/>
                </a:cubicBezTo>
                <a:cubicBezTo>
                  <a:pt x="10249" y="3794"/>
                  <a:pt x="8578" y="5534"/>
                  <a:pt x="8578" y="7849"/>
                </a:cubicBezTo>
                <a:lnTo>
                  <a:pt x="10431" y="7849"/>
                </a:lnTo>
                <a:cubicBezTo>
                  <a:pt x="10431" y="6709"/>
                  <a:pt x="11354" y="5821"/>
                  <a:pt x="12459" y="5821"/>
                </a:cubicBezTo>
                <a:cubicBezTo>
                  <a:pt x="13565" y="5821"/>
                  <a:pt x="14496" y="6709"/>
                  <a:pt x="14496" y="7849"/>
                </a:cubicBezTo>
                <a:cubicBezTo>
                  <a:pt x="14496" y="8589"/>
                  <a:pt x="14026" y="9320"/>
                  <a:pt x="13565" y="9320"/>
                </a:cubicBezTo>
                <a:cubicBezTo>
                  <a:pt x="12459" y="9320"/>
                  <a:pt x="11354" y="10800"/>
                  <a:pt x="11354" y="12323"/>
                </a:cubicBezTo>
                <a:lnTo>
                  <a:pt x="11354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Вини - Пух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AutoShape 3"/>
          <p:cNvSpPr/>
          <p:nvPr/>
        </p:nvSpPr>
        <p:spPr>
          <a:xfrm>
            <a:off x="7620120" y="5715000"/>
            <a:ext cx="1143000" cy="114300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Литература 40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Назовите настоящую  фамилию  Максима Горького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AutoShape 4">
            <a:hlinkClick r:id="" action="ppaction://hlinkshowjump?jump=nextslide"/>
          </p:cNvPr>
          <p:cNvSpPr/>
          <p:nvPr/>
        </p:nvSpPr>
        <p:spPr>
          <a:xfrm>
            <a:off x="4267080" y="58672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124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919" h="21600">
                <a:moveTo>
                  <a:pt x="13565" y="14281"/>
                </a:moveTo>
                <a:lnTo>
                  <a:pt x="13565" y="12323"/>
                </a:lnTo>
                <a:cubicBezTo>
                  <a:pt x="13565" y="11496"/>
                  <a:pt x="13896" y="10800"/>
                  <a:pt x="14496" y="10800"/>
                </a:cubicBezTo>
                <a:cubicBezTo>
                  <a:pt x="15628" y="10800"/>
                  <a:pt x="16524" y="9434"/>
                  <a:pt x="16524" y="7849"/>
                </a:cubicBezTo>
                <a:cubicBezTo>
                  <a:pt x="16524" y="5534"/>
                  <a:pt x="14670" y="3794"/>
                  <a:pt x="12459" y="3794"/>
                </a:cubicBezTo>
                <a:cubicBezTo>
                  <a:pt x="10249" y="3794"/>
                  <a:pt x="8578" y="5534"/>
                  <a:pt x="8578" y="7849"/>
                </a:cubicBezTo>
                <a:lnTo>
                  <a:pt x="10431" y="7849"/>
                </a:lnTo>
                <a:cubicBezTo>
                  <a:pt x="10431" y="6709"/>
                  <a:pt x="11354" y="5821"/>
                  <a:pt x="12459" y="5821"/>
                </a:cubicBezTo>
                <a:cubicBezTo>
                  <a:pt x="13565" y="5821"/>
                  <a:pt x="14496" y="6709"/>
                  <a:pt x="14496" y="7849"/>
                </a:cubicBezTo>
                <a:cubicBezTo>
                  <a:pt x="14496" y="8589"/>
                  <a:pt x="14026" y="9320"/>
                  <a:pt x="13565" y="9320"/>
                </a:cubicBezTo>
                <a:cubicBezTo>
                  <a:pt x="12459" y="9320"/>
                  <a:pt x="11354" y="10800"/>
                  <a:pt x="11354" y="12323"/>
                </a:cubicBezTo>
                <a:lnTo>
                  <a:pt x="11354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ешков 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7924680" y="5867280"/>
            <a:ext cx="1219320" cy="990720"/>
          </a:xfrm>
          <a:custGeom>
            <a:avLst/>
            <a:gdLst>
              <a:gd name="textAreaLeft" fmla="*/ 64080 w 1219320"/>
              <a:gd name="textAreaRight" fmla="*/ 1155240 w 12193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6582" h="21600">
                <a:moveTo>
                  <a:pt x="0" y="0"/>
                </a:moveTo>
                <a:lnTo>
                  <a:pt x="26582" y="0"/>
                </a:lnTo>
                <a:lnTo>
                  <a:pt x="26582" y="21600"/>
                </a:lnTo>
                <a:lnTo>
                  <a:pt x="0" y="21600"/>
                </a:lnTo>
                <a:close/>
              </a:path>
              <a:path fill="lightenLess" w="26582" h="21600">
                <a:moveTo>
                  <a:pt x="0" y="0"/>
                </a:moveTo>
                <a:lnTo>
                  <a:pt x="26582" y="0"/>
                </a:lnTo>
                <a:lnTo>
                  <a:pt x="25182" y="1400"/>
                </a:lnTo>
                <a:lnTo>
                  <a:pt x="1400" y="1400"/>
                </a:lnTo>
                <a:close/>
              </a:path>
              <a:path fill="darken" w="26582" h="21600">
                <a:moveTo>
                  <a:pt x="26582" y="0"/>
                </a:moveTo>
                <a:lnTo>
                  <a:pt x="26582" y="21600"/>
                </a:lnTo>
                <a:lnTo>
                  <a:pt x="25182" y="20200"/>
                </a:lnTo>
                <a:lnTo>
                  <a:pt x="25182" y="1400"/>
                </a:lnTo>
                <a:close/>
              </a:path>
              <a:path fill="darkenLess" w="26582" h="21600">
                <a:moveTo>
                  <a:pt x="265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2" y="20200"/>
                </a:lnTo>
                <a:close/>
              </a:path>
              <a:path fill="lighten" w="265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2" h="21600">
                <a:moveTo>
                  <a:pt x="13291" y="3837"/>
                </a:moveTo>
                <a:lnTo>
                  <a:pt x="15867" y="6448"/>
                </a:lnTo>
                <a:lnTo>
                  <a:pt x="15867" y="4707"/>
                </a:lnTo>
                <a:lnTo>
                  <a:pt x="17643" y="4707"/>
                </a:lnTo>
                <a:lnTo>
                  <a:pt x="17643" y="8224"/>
                </a:lnTo>
                <a:lnTo>
                  <a:pt x="20254" y="10800"/>
                </a:lnTo>
                <a:lnTo>
                  <a:pt x="18600" y="10800"/>
                </a:lnTo>
                <a:lnTo>
                  <a:pt x="18600" y="17989"/>
                </a:lnTo>
                <a:lnTo>
                  <a:pt x="7982" y="17989"/>
                </a:lnTo>
                <a:lnTo>
                  <a:pt x="7982" y="10800"/>
                </a:lnTo>
                <a:lnTo>
                  <a:pt x="6328" y="10800"/>
                </a:lnTo>
                <a:close/>
              </a:path>
              <a:path fill="darkenLess" w="26582" h="21600">
                <a:moveTo>
                  <a:pt x="15867" y="6448"/>
                </a:moveTo>
                <a:lnTo>
                  <a:pt x="15867" y="4707"/>
                </a:lnTo>
                <a:lnTo>
                  <a:pt x="17643" y="4707"/>
                </a:lnTo>
                <a:lnTo>
                  <a:pt x="17643" y="8224"/>
                </a:lnTo>
                <a:close/>
              </a:path>
              <a:path fill="darkenLess" w="26582" h="21600">
                <a:moveTo>
                  <a:pt x="12369" y="14299"/>
                </a:moveTo>
                <a:lnTo>
                  <a:pt x="14214" y="14299"/>
                </a:lnTo>
                <a:lnTo>
                  <a:pt x="14214" y="17989"/>
                </a:lnTo>
                <a:lnTo>
                  <a:pt x="18600" y="17989"/>
                </a:lnTo>
                <a:lnTo>
                  <a:pt x="18600" y="10800"/>
                </a:lnTo>
                <a:lnTo>
                  <a:pt x="7982" y="10800"/>
                </a:lnTo>
                <a:lnTo>
                  <a:pt x="7982" y="17989"/>
                </a:lnTo>
                <a:lnTo>
                  <a:pt x="1236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Литература 10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«Папа, отзовись!»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Кто был папой А. С. Пушкина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AutoShape 4">
            <a:hlinkClick r:id="" action="ppaction://hlinkshowjump?jump=nextslide"/>
          </p:cNvPr>
          <p:cNvSpPr/>
          <p:nvPr/>
        </p:nvSpPr>
        <p:spPr>
          <a:xfrm>
            <a:off x="4267080" y="58672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124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919" h="21600">
                <a:moveTo>
                  <a:pt x="13565" y="14281"/>
                </a:moveTo>
                <a:lnTo>
                  <a:pt x="13565" y="12323"/>
                </a:lnTo>
                <a:cubicBezTo>
                  <a:pt x="13565" y="11496"/>
                  <a:pt x="13896" y="10800"/>
                  <a:pt x="14496" y="10800"/>
                </a:cubicBezTo>
                <a:cubicBezTo>
                  <a:pt x="15628" y="10800"/>
                  <a:pt x="16524" y="9434"/>
                  <a:pt x="16524" y="7849"/>
                </a:cubicBezTo>
                <a:cubicBezTo>
                  <a:pt x="16524" y="5534"/>
                  <a:pt x="14670" y="3794"/>
                  <a:pt x="12459" y="3794"/>
                </a:cubicBezTo>
                <a:cubicBezTo>
                  <a:pt x="10249" y="3794"/>
                  <a:pt x="8578" y="5534"/>
                  <a:pt x="8578" y="7849"/>
                </a:cubicBezTo>
                <a:lnTo>
                  <a:pt x="10431" y="7849"/>
                </a:lnTo>
                <a:cubicBezTo>
                  <a:pt x="10431" y="6709"/>
                  <a:pt x="11354" y="5821"/>
                  <a:pt x="12459" y="5821"/>
                </a:cubicBezTo>
                <a:cubicBezTo>
                  <a:pt x="13565" y="5821"/>
                  <a:pt x="14496" y="6709"/>
                  <a:pt x="14496" y="7849"/>
                </a:cubicBezTo>
                <a:cubicBezTo>
                  <a:pt x="14496" y="8589"/>
                  <a:pt x="14026" y="9320"/>
                  <a:pt x="13565" y="9320"/>
                </a:cubicBezTo>
                <a:cubicBezTo>
                  <a:pt x="12459" y="9320"/>
                  <a:pt x="11354" y="10800"/>
                  <a:pt x="11354" y="12323"/>
                </a:cubicBezTo>
                <a:lnTo>
                  <a:pt x="11354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Сергей Львович Пушки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7772400" y="5791320"/>
            <a:ext cx="1371600" cy="106668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2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2" y="20200"/>
                </a:lnTo>
                <a:lnTo>
                  <a:pt x="26372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2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2" h="21600">
                <a:moveTo>
                  <a:pt x="13886" y="3837"/>
                </a:moveTo>
                <a:lnTo>
                  <a:pt x="16463" y="6448"/>
                </a:lnTo>
                <a:lnTo>
                  <a:pt x="16463" y="4707"/>
                </a:lnTo>
                <a:lnTo>
                  <a:pt x="18238" y="4707"/>
                </a:lnTo>
                <a:lnTo>
                  <a:pt x="18238" y="8224"/>
                </a:lnTo>
                <a:lnTo>
                  <a:pt x="20849" y="10800"/>
                </a:lnTo>
                <a:lnTo>
                  <a:pt x="19195" y="10800"/>
                </a:lnTo>
                <a:lnTo>
                  <a:pt x="19195" y="17989"/>
                </a:lnTo>
                <a:lnTo>
                  <a:pt x="8577" y="17989"/>
                </a:lnTo>
                <a:lnTo>
                  <a:pt x="8577" y="10800"/>
                </a:lnTo>
                <a:lnTo>
                  <a:pt x="6923" y="10800"/>
                </a:lnTo>
                <a:close/>
              </a:path>
              <a:path fill="darkenLess" w="27772" h="21600">
                <a:moveTo>
                  <a:pt x="16463" y="6448"/>
                </a:moveTo>
                <a:lnTo>
                  <a:pt x="16463" y="4707"/>
                </a:lnTo>
                <a:lnTo>
                  <a:pt x="18238" y="4707"/>
                </a:lnTo>
                <a:lnTo>
                  <a:pt x="18238" y="8224"/>
                </a:lnTo>
                <a:close/>
              </a:path>
              <a:path fill="darkenLess" w="27772" h="21600">
                <a:moveTo>
                  <a:pt x="12964" y="14299"/>
                </a:moveTo>
                <a:lnTo>
                  <a:pt x="14809" y="14299"/>
                </a:lnTo>
                <a:lnTo>
                  <a:pt x="14809" y="17989"/>
                </a:lnTo>
                <a:lnTo>
                  <a:pt x="19195" y="17989"/>
                </a:lnTo>
                <a:lnTo>
                  <a:pt x="19195" y="10800"/>
                </a:lnTo>
                <a:lnTo>
                  <a:pt x="8577" y="10800"/>
                </a:lnTo>
                <a:lnTo>
                  <a:pt x="8577" y="17989"/>
                </a:lnTo>
                <a:lnTo>
                  <a:pt x="12964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История 100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Из-за какой женщины началась Троянская война?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AutoShape 4">
            <a:hlinkClick r:id="" action="ppaction://hlinkshowjump?jump=nextslide"/>
          </p:cNvPr>
          <p:cNvSpPr/>
          <p:nvPr/>
        </p:nvSpPr>
        <p:spPr>
          <a:xfrm>
            <a:off x="4267080" y="58672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124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919" h="21600">
                <a:moveTo>
                  <a:pt x="13565" y="14281"/>
                </a:moveTo>
                <a:lnTo>
                  <a:pt x="13565" y="12323"/>
                </a:lnTo>
                <a:cubicBezTo>
                  <a:pt x="13565" y="11496"/>
                  <a:pt x="13896" y="10800"/>
                  <a:pt x="14496" y="10800"/>
                </a:cubicBezTo>
                <a:cubicBezTo>
                  <a:pt x="15628" y="10800"/>
                  <a:pt x="16524" y="9434"/>
                  <a:pt x="16524" y="7849"/>
                </a:cubicBezTo>
                <a:cubicBezTo>
                  <a:pt x="16524" y="5534"/>
                  <a:pt x="14670" y="3794"/>
                  <a:pt x="12459" y="3794"/>
                </a:cubicBezTo>
                <a:cubicBezTo>
                  <a:pt x="10249" y="3794"/>
                  <a:pt x="8578" y="5534"/>
                  <a:pt x="8578" y="7849"/>
                </a:cubicBezTo>
                <a:lnTo>
                  <a:pt x="10431" y="7849"/>
                </a:lnTo>
                <a:cubicBezTo>
                  <a:pt x="10431" y="6709"/>
                  <a:pt x="11354" y="5821"/>
                  <a:pt x="12459" y="5821"/>
                </a:cubicBezTo>
                <a:cubicBezTo>
                  <a:pt x="13565" y="5821"/>
                  <a:pt x="14496" y="6709"/>
                  <a:pt x="14496" y="7849"/>
                </a:cubicBezTo>
                <a:cubicBezTo>
                  <a:pt x="14496" y="8589"/>
                  <a:pt x="14026" y="9320"/>
                  <a:pt x="13565" y="9320"/>
                </a:cubicBezTo>
                <a:cubicBezTo>
                  <a:pt x="12459" y="9320"/>
                  <a:pt x="11354" y="10800"/>
                  <a:pt x="11354" y="12323"/>
                </a:cubicBezTo>
                <a:lnTo>
                  <a:pt x="11354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: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Елена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7848720" y="5867280"/>
            <a:ext cx="1295280" cy="990720"/>
          </a:xfrm>
          <a:custGeom>
            <a:avLst/>
            <a:gdLst>
              <a:gd name="textAreaLeft" fmla="*/ 64080 w 1295280"/>
              <a:gd name="textAreaRight" fmla="*/ 1231200 w 12952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8238" h="21600">
                <a:moveTo>
                  <a:pt x="0" y="0"/>
                </a:moveTo>
                <a:lnTo>
                  <a:pt x="28238" y="0"/>
                </a:lnTo>
                <a:lnTo>
                  <a:pt x="28238" y="21600"/>
                </a:lnTo>
                <a:lnTo>
                  <a:pt x="0" y="21600"/>
                </a:lnTo>
                <a:close/>
              </a:path>
              <a:path fill="lightenLess" w="28238" h="21600">
                <a:moveTo>
                  <a:pt x="0" y="0"/>
                </a:moveTo>
                <a:lnTo>
                  <a:pt x="28238" y="0"/>
                </a:lnTo>
                <a:lnTo>
                  <a:pt x="26838" y="1400"/>
                </a:lnTo>
                <a:lnTo>
                  <a:pt x="1400" y="1400"/>
                </a:lnTo>
                <a:close/>
              </a:path>
              <a:path fill="darken" w="28238" h="21600">
                <a:moveTo>
                  <a:pt x="28238" y="0"/>
                </a:moveTo>
                <a:lnTo>
                  <a:pt x="28238" y="21600"/>
                </a:lnTo>
                <a:lnTo>
                  <a:pt x="26838" y="20200"/>
                </a:lnTo>
                <a:lnTo>
                  <a:pt x="26838" y="1400"/>
                </a:lnTo>
                <a:close/>
              </a:path>
              <a:path fill="darkenLess" w="28238" h="21600">
                <a:moveTo>
                  <a:pt x="28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38" y="20200"/>
                </a:lnTo>
                <a:close/>
              </a:path>
              <a:path fill="lighten" w="28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38" h="21600">
                <a:moveTo>
                  <a:pt x="14119" y="3837"/>
                </a:moveTo>
                <a:lnTo>
                  <a:pt x="16695" y="6448"/>
                </a:lnTo>
                <a:lnTo>
                  <a:pt x="16695" y="4707"/>
                </a:lnTo>
                <a:lnTo>
                  <a:pt x="18471" y="4707"/>
                </a:lnTo>
                <a:lnTo>
                  <a:pt x="18471" y="8224"/>
                </a:lnTo>
                <a:lnTo>
                  <a:pt x="21082" y="10800"/>
                </a:lnTo>
                <a:lnTo>
                  <a:pt x="19428" y="10800"/>
                </a:lnTo>
                <a:lnTo>
                  <a:pt x="19428" y="17989"/>
                </a:lnTo>
                <a:lnTo>
                  <a:pt x="8810" y="17989"/>
                </a:lnTo>
                <a:lnTo>
                  <a:pt x="8810" y="10800"/>
                </a:lnTo>
                <a:lnTo>
                  <a:pt x="7156" y="10800"/>
                </a:lnTo>
                <a:close/>
              </a:path>
              <a:path fill="darkenLess" w="28238" h="21600">
                <a:moveTo>
                  <a:pt x="16695" y="6448"/>
                </a:moveTo>
                <a:lnTo>
                  <a:pt x="16695" y="4707"/>
                </a:lnTo>
                <a:lnTo>
                  <a:pt x="18471" y="4707"/>
                </a:lnTo>
                <a:lnTo>
                  <a:pt x="18471" y="8224"/>
                </a:lnTo>
                <a:close/>
              </a:path>
              <a:path fill="darkenLess" w="28238" h="21600">
                <a:moveTo>
                  <a:pt x="13196" y="14299"/>
                </a:moveTo>
                <a:lnTo>
                  <a:pt x="15041" y="14299"/>
                </a:lnTo>
                <a:lnTo>
                  <a:pt x="15041" y="17989"/>
                </a:lnTo>
                <a:lnTo>
                  <a:pt x="19428" y="17989"/>
                </a:lnTo>
                <a:lnTo>
                  <a:pt x="19428" y="10800"/>
                </a:lnTo>
                <a:lnTo>
                  <a:pt x="8810" y="10800"/>
                </a:lnTo>
                <a:lnTo>
                  <a:pt x="8810" y="17989"/>
                </a:lnTo>
                <a:lnTo>
                  <a:pt x="13196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История 50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Назовите имя.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В истории России их было трое.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И второй, и третий были внуками первого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На то, чтобы зваться третьим, было много претендентов.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ервого прозвали Великий. 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AutoShape 4">
            <a:hlinkClick r:id="" action="ppaction://hlinkshowjump?jump=nextslide"/>
          </p:cNvPr>
          <p:cNvSpPr/>
          <p:nvPr/>
        </p:nvSpPr>
        <p:spPr>
          <a:xfrm>
            <a:off x="4267080" y="58672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124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919" h="21600">
                <a:moveTo>
                  <a:pt x="13565" y="14281"/>
                </a:moveTo>
                <a:lnTo>
                  <a:pt x="13565" y="12323"/>
                </a:lnTo>
                <a:cubicBezTo>
                  <a:pt x="13565" y="11496"/>
                  <a:pt x="13896" y="10800"/>
                  <a:pt x="14496" y="10800"/>
                </a:cubicBezTo>
                <a:cubicBezTo>
                  <a:pt x="15628" y="10800"/>
                  <a:pt x="16524" y="9434"/>
                  <a:pt x="16524" y="7849"/>
                </a:cubicBezTo>
                <a:cubicBezTo>
                  <a:pt x="16524" y="5534"/>
                  <a:pt x="14670" y="3794"/>
                  <a:pt x="12459" y="3794"/>
                </a:cubicBezTo>
                <a:cubicBezTo>
                  <a:pt x="10249" y="3794"/>
                  <a:pt x="8578" y="5534"/>
                  <a:pt x="8578" y="7849"/>
                </a:cubicBezTo>
                <a:lnTo>
                  <a:pt x="10431" y="7849"/>
                </a:lnTo>
                <a:cubicBezTo>
                  <a:pt x="10431" y="6709"/>
                  <a:pt x="11354" y="5821"/>
                  <a:pt x="12459" y="5821"/>
                </a:cubicBezTo>
                <a:cubicBezTo>
                  <a:pt x="13565" y="5821"/>
                  <a:pt x="14496" y="6709"/>
                  <a:pt x="14496" y="7849"/>
                </a:cubicBezTo>
                <a:cubicBezTo>
                  <a:pt x="14496" y="8589"/>
                  <a:pt x="14026" y="9320"/>
                  <a:pt x="13565" y="9320"/>
                </a:cubicBezTo>
                <a:cubicBezTo>
                  <a:pt x="12459" y="9320"/>
                  <a:pt x="11354" y="10800"/>
                  <a:pt x="11354" y="12323"/>
                </a:cubicBezTo>
                <a:lnTo>
                  <a:pt x="11354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Физика 100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Кто из великих мудрецов сказал : «Дайте мне точку опоры и я переверну Землю»</a:t>
            </a:r>
            <a:br>
              <a:rPr sz="4400"/>
            </a:b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А) Аристотель</a:t>
            </a:r>
            <a:br>
              <a:rPr sz="4400"/>
            </a:b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В) Архимед</a:t>
            </a:r>
            <a:br>
              <a:rPr sz="4400"/>
            </a:b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С) Евклид</a:t>
            </a:r>
            <a:br>
              <a:rPr sz="4400"/>
            </a:b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Д) Пифагор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133720" y="251460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AutoShape 7"/>
          <p:cNvSpPr/>
          <p:nvPr/>
        </p:nvSpPr>
        <p:spPr>
          <a:xfrm>
            <a:off x="3886200" y="59436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6" h="21600">
                <a:moveTo>
                  <a:pt x="1619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2396" h="21600">
                <a:moveTo>
                  <a:pt x="17303" y="14281"/>
                </a:moveTo>
                <a:lnTo>
                  <a:pt x="17303" y="12323"/>
                </a:lnTo>
                <a:cubicBezTo>
                  <a:pt x="17303" y="11496"/>
                  <a:pt x="17634" y="10800"/>
                  <a:pt x="18235" y="10800"/>
                </a:cubicBezTo>
                <a:cubicBezTo>
                  <a:pt x="19366" y="10800"/>
                  <a:pt x="20263" y="9434"/>
                  <a:pt x="20263" y="7849"/>
                </a:cubicBezTo>
                <a:cubicBezTo>
                  <a:pt x="20263" y="5534"/>
                  <a:pt x="18409" y="3794"/>
                  <a:pt x="16198" y="3794"/>
                </a:cubicBezTo>
                <a:cubicBezTo>
                  <a:pt x="13987" y="3794"/>
                  <a:pt x="12316" y="5534"/>
                  <a:pt x="12316" y="7849"/>
                </a:cubicBezTo>
                <a:lnTo>
                  <a:pt x="14170" y="7849"/>
                </a:lnTo>
                <a:cubicBezTo>
                  <a:pt x="14170" y="6709"/>
                  <a:pt x="15093" y="5821"/>
                  <a:pt x="16198" y="5821"/>
                </a:cubicBezTo>
                <a:cubicBezTo>
                  <a:pt x="17303" y="5821"/>
                  <a:pt x="18235" y="6709"/>
                  <a:pt x="18235" y="7849"/>
                </a:cubicBezTo>
                <a:cubicBezTo>
                  <a:pt x="18235" y="8589"/>
                  <a:pt x="17765" y="9320"/>
                  <a:pt x="17303" y="9320"/>
                </a:cubicBezTo>
                <a:cubicBezTo>
                  <a:pt x="16198" y="9320"/>
                  <a:pt x="15093" y="10800"/>
                  <a:pt x="15093" y="12323"/>
                </a:cubicBezTo>
                <a:lnTo>
                  <a:pt x="15093" y="1428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AutoShape 8">
            <a:hlinkClick r:id="" action="ppaction://hlinkshowjump?jump=nextslide"/>
          </p:cNvPr>
          <p:cNvSpPr/>
          <p:nvPr/>
        </p:nvSpPr>
        <p:spPr>
          <a:xfrm>
            <a:off x="4267080" y="58672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124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919" h="21600">
                <a:moveTo>
                  <a:pt x="13565" y="14281"/>
                </a:moveTo>
                <a:lnTo>
                  <a:pt x="13565" y="12323"/>
                </a:lnTo>
                <a:cubicBezTo>
                  <a:pt x="13565" y="11496"/>
                  <a:pt x="13896" y="10800"/>
                  <a:pt x="14496" y="10800"/>
                </a:cubicBezTo>
                <a:cubicBezTo>
                  <a:pt x="15628" y="10800"/>
                  <a:pt x="16524" y="9434"/>
                  <a:pt x="16524" y="7849"/>
                </a:cubicBezTo>
                <a:cubicBezTo>
                  <a:pt x="16524" y="5534"/>
                  <a:pt x="14670" y="3794"/>
                  <a:pt x="12459" y="3794"/>
                </a:cubicBezTo>
                <a:cubicBezTo>
                  <a:pt x="10249" y="3794"/>
                  <a:pt x="8578" y="5534"/>
                  <a:pt x="8578" y="7849"/>
                </a:cubicBezTo>
                <a:lnTo>
                  <a:pt x="10431" y="7849"/>
                </a:lnTo>
                <a:cubicBezTo>
                  <a:pt x="10431" y="6709"/>
                  <a:pt x="11354" y="5821"/>
                  <a:pt x="12459" y="5821"/>
                </a:cubicBezTo>
                <a:cubicBezTo>
                  <a:pt x="13565" y="5821"/>
                  <a:pt x="14496" y="6709"/>
                  <a:pt x="14496" y="7849"/>
                </a:cubicBezTo>
                <a:cubicBezTo>
                  <a:pt x="14496" y="8589"/>
                  <a:pt x="14026" y="9320"/>
                  <a:pt x="13565" y="9320"/>
                </a:cubicBezTo>
                <a:cubicBezTo>
                  <a:pt x="12459" y="9320"/>
                  <a:pt x="11354" y="10800"/>
                  <a:pt x="11354" y="12323"/>
                </a:cubicBezTo>
                <a:lnTo>
                  <a:pt x="11354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етр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AutoShape 3"/>
          <p:cNvSpPr/>
          <p:nvPr/>
        </p:nvSpPr>
        <p:spPr>
          <a:xfrm>
            <a:off x="8001000" y="5791320"/>
            <a:ext cx="1143000" cy="1066680"/>
          </a:xfrm>
          <a:custGeom>
            <a:avLst/>
            <a:gdLst>
              <a:gd name="textAreaLeft" fmla="*/ 69120 w 1143000"/>
              <a:gd name="textAreaRight" fmla="*/ 1073880 w 11430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3145" h="21600">
                <a:moveTo>
                  <a:pt x="0" y="0"/>
                </a:moveTo>
                <a:lnTo>
                  <a:pt x="23145" y="0"/>
                </a:lnTo>
                <a:lnTo>
                  <a:pt x="23145" y="21600"/>
                </a:lnTo>
                <a:lnTo>
                  <a:pt x="0" y="21600"/>
                </a:lnTo>
                <a:close/>
              </a:path>
              <a:path fill="lightenLess" w="23145" h="21600">
                <a:moveTo>
                  <a:pt x="0" y="0"/>
                </a:moveTo>
                <a:lnTo>
                  <a:pt x="23145" y="0"/>
                </a:lnTo>
                <a:lnTo>
                  <a:pt x="21745" y="1400"/>
                </a:lnTo>
                <a:lnTo>
                  <a:pt x="1400" y="1400"/>
                </a:lnTo>
                <a:close/>
              </a:path>
              <a:path fill="darken" w="23145" h="21600">
                <a:moveTo>
                  <a:pt x="23145" y="0"/>
                </a:moveTo>
                <a:lnTo>
                  <a:pt x="23145" y="21600"/>
                </a:lnTo>
                <a:lnTo>
                  <a:pt x="21745" y="20200"/>
                </a:lnTo>
                <a:lnTo>
                  <a:pt x="21745" y="1400"/>
                </a:lnTo>
                <a:close/>
              </a:path>
              <a:path fill="darkenLess" w="23145" h="21600">
                <a:moveTo>
                  <a:pt x="23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45" y="20200"/>
                </a:lnTo>
                <a:close/>
              </a:path>
              <a:path fill="lighten" w="23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45" h="21600">
                <a:moveTo>
                  <a:pt x="11572" y="3837"/>
                </a:moveTo>
                <a:lnTo>
                  <a:pt x="14149" y="6448"/>
                </a:lnTo>
                <a:lnTo>
                  <a:pt x="14149" y="4707"/>
                </a:lnTo>
                <a:lnTo>
                  <a:pt x="15924" y="4707"/>
                </a:lnTo>
                <a:lnTo>
                  <a:pt x="15924" y="8224"/>
                </a:lnTo>
                <a:lnTo>
                  <a:pt x="18535" y="10800"/>
                </a:lnTo>
                <a:lnTo>
                  <a:pt x="16882" y="10800"/>
                </a:lnTo>
                <a:lnTo>
                  <a:pt x="16882" y="17989"/>
                </a:lnTo>
                <a:lnTo>
                  <a:pt x="6263" y="17989"/>
                </a:lnTo>
                <a:lnTo>
                  <a:pt x="6263" y="10800"/>
                </a:lnTo>
                <a:lnTo>
                  <a:pt x="4610" y="10800"/>
                </a:lnTo>
                <a:close/>
              </a:path>
              <a:path fill="darkenLess" w="23145" h="21600">
                <a:moveTo>
                  <a:pt x="14149" y="6448"/>
                </a:moveTo>
                <a:lnTo>
                  <a:pt x="14149" y="4707"/>
                </a:lnTo>
                <a:lnTo>
                  <a:pt x="15924" y="4707"/>
                </a:lnTo>
                <a:lnTo>
                  <a:pt x="15924" y="8224"/>
                </a:lnTo>
                <a:close/>
              </a:path>
              <a:path fill="darkenLess" w="23145" h="21600">
                <a:moveTo>
                  <a:pt x="10650" y="14299"/>
                </a:moveTo>
                <a:lnTo>
                  <a:pt x="12495" y="14299"/>
                </a:lnTo>
                <a:lnTo>
                  <a:pt x="12495" y="17989"/>
                </a:lnTo>
                <a:lnTo>
                  <a:pt x="16882" y="17989"/>
                </a:lnTo>
                <a:lnTo>
                  <a:pt x="16882" y="10800"/>
                </a:lnTo>
                <a:lnTo>
                  <a:pt x="6263" y="10800"/>
                </a:lnTo>
                <a:lnTo>
                  <a:pt x="6263" y="17989"/>
                </a:lnTo>
                <a:lnTo>
                  <a:pt x="10650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00"/>
                </a:solidFill>
                <a:uFillTx/>
                <a:latin typeface="Times New Roman"/>
              </a:rPr>
              <a:t>ИСТОРИЯ 40</a:t>
            </a:r>
            <a:br>
              <a:rPr sz="44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После победы над царём Фарнаком 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Юлий Цезарь в своём  сообщении из 3 слов не использовал слово: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А) увидел;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Б) напал;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В) победил;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Г) пришёл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AutoShape 4">
            <a:hlinkClick r:id="" action="ppaction://hlinkshowjump?jump=nextslide"/>
          </p:cNvPr>
          <p:cNvSpPr/>
          <p:nvPr/>
        </p:nvSpPr>
        <p:spPr>
          <a:xfrm>
            <a:off x="426708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2390" h="21600">
                <a:moveTo>
                  <a:pt x="17300" y="14281"/>
                </a:moveTo>
                <a:lnTo>
                  <a:pt x="17300" y="12323"/>
                </a:lnTo>
                <a:cubicBezTo>
                  <a:pt x="17300" y="11496"/>
                  <a:pt x="17631" y="10800"/>
                  <a:pt x="18232" y="10800"/>
                </a:cubicBezTo>
                <a:cubicBezTo>
                  <a:pt x="19363" y="10800"/>
                  <a:pt x="20260" y="9434"/>
                  <a:pt x="20260" y="7849"/>
                </a:cubicBezTo>
                <a:cubicBezTo>
                  <a:pt x="20260" y="5534"/>
                  <a:pt x="18406" y="3794"/>
                  <a:pt x="16195" y="3794"/>
                </a:cubicBezTo>
                <a:cubicBezTo>
                  <a:pt x="13984" y="3794"/>
                  <a:pt x="12313" y="5534"/>
                  <a:pt x="12313" y="7849"/>
                </a:cubicBezTo>
                <a:lnTo>
                  <a:pt x="14167" y="7849"/>
                </a:lnTo>
                <a:cubicBezTo>
                  <a:pt x="14167" y="6709"/>
                  <a:pt x="15090" y="5821"/>
                  <a:pt x="16195" y="5821"/>
                </a:cubicBezTo>
                <a:cubicBezTo>
                  <a:pt x="17300" y="5821"/>
                  <a:pt x="18232" y="6709"/>
                  <a:pt x="18232" y="7849"/>
                </a:cubicBezTo>
                <a:cubicBezTo>
                  <a:pt x="18232" y="8589"/>
                  <a:pt x="17762" y="9320"/>
                  <a:pt x="17300" y="9320"/>
                </a:cubicBezTo>
                <a:cubicBezTo>
                  <a:pt x="16195" y="9320"/>
                  <a:pt x="15090" y="10800"/>
                  <a:pt x="15090" y="12323"/>
                </a:cubicBezTo>
                <a:lnTo>
                  <a:pt x="15090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напал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7924680" y="5943600"/>
            <a:ext cx="1219320" cy="914400"/>
          </a:xfrm>
          <a:custGeom>
            <a:avLst/>
            <a:gdLst>
              <a:gd name="textAreaLeft" fmla="*/ 59040 w 1219320"/>
              <a:gd name="textAreaRight" fmla="*/ 1160280 w 12193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4400" y="3837"/>
                </a:moveTo>
                <a:lnTo>
                  <a:pt x="16976" y="6448"/>
                </a:ln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lnTo>
                  <a:pt x="21363" y="10800"/>
                </a:lnTo>
                <a:lnTo>
                  <a:pt x="19709" y="10800"/>
                </a:lnTo>
                <a:lnTo>
                  <a:pt x="19709" y="17989"/>
                </a:lnTo>
                <a:lnTo>
                  <a:pt x="9091" y="17989"/>
                </a:lnTo>
                <a:lnTo>
                  <a:pt x="9091" y="10800"/>
                </a:lnTo>
                <a:lnTo>
                  <a:pt x="7437" y="10800"/>
                </a:lnTo>
                <a:close/>
              </a:path>
              <a:path fill="darkenLess" w="28800" h="21600">
                <a:moveTo>
                  <a:pt x="16976" y="6448"/>
                </a:move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close/>
              </a:path>
              <a:path fill="darkenLess" w="28800" h="21600">
                <a:moveTo>
                  <a:pt x="13477" y="14299"/>
                </a:moveTo>
                <a:lnTo>
                  <a:pt x="15323" y="14299"/>
                </a:lnTo>
                <a:lnTo>
                  <a:pt x="15323" y="17989"/>
                </a:lnTo>
                <a:lnTo>
                  <a:pt x="19709" y="17989"/>
                </a:lnTo>
                <a:lnTo>
                  <a:pt x="19709" y="10800"/>
                </a:lnTo>
                <a:lnTo>
                  <a:pt x="9091" y="10800"/>
                </a:lnTo>
                <a:lnTo>
                  <a:pt x="9091" y="17989"/>
                </a:lnTo>
                <a:lnTo>
                  <a:pt x="13477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00"/>
                </a:solidFill>
                <a:uFillTx/>
                <a:latin typeface="Times New Roman"/>
              </a:rPr>
              <a:t>История 10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Кто поднял восстание рабов в 73-71 гг. до н.э.?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А) Спартак;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Б) Зенит;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В) Реал;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Г) Ювентус.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AutoShape 4">
            <a:hlinkClick r:id="" action="ppaction://hlinkshowjump?jump=nextslide"/>
          </p:cNvPr>
          <p:cNvSpPr/>
          <p:nvPr/>
        </p:nvSpPr>
        <p:spPr>
          <a:xfrm>
            <a:off x="426708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2390" h="21600">
                <a:moveTo>
                  <a:pt x="17300" y="14281"/>
                </a:moveTo>
                <a:lnTo>
                  <a:pt x="17300" y="12323"/>
                </a:lnTo>
                <a:cubicBezTo>
                  <a:pt x="17300" y="11496"/>
                  <a:pt x="17631" y="10800"/>
                  <a:pt x="18232" y="10800"/>
                </a:cubicBezTo>
                <a:cubicBezTo>
                  <a:pt x="19363" y="10800"/>
                  <a:pt x="20260" y="9434"/>
                  <a:pt x="20260" y="7849"/>
                </a:cubicBezTo>
                <a:cubicBezTo>
                  <a:pt x="20260" y="5534"/>
                  <a:pt x="18406" y="3794"/>
                  <a:pt x="16195" y="3794"/>
                </a:cubicBezTo>
                <a:cubicBezTo>
                  <a:pt x="13984" y="3794"/>
                  <a:pt x="12313" y="5534"/>
                  <a:pt x="12313" y="7849"/>
                </a:cubicBezTo>
                <a:lnTo>
                  <a:pt x="14167" y="7849"/>
                </a:lnTo>
                <a:cubicBezTo>
                  <a:pt x="14167" y="6709"/>
                  <a:pt x="15090" y="5821"/>
                  <a:pt x="16195" y="5821"/>
                </a:cubicBezTo>
                <a:cubicBezTo>
                  <a:pt x="17300" y="5821"/>
                  <a:pt x="18232" y="6709"/>
                  <a:pt x="18232" y="7849"/>
                </a:cubicBezTo>
                <a:cubicBezTo>
                  <a:pt x="18232" y="8589"/>
                  <a:pt x="17762" y="9320"/>
                  <a:pt x="17300" y="9320"/>
                </a:cubicBezTo>
                <a:cubicBezTo>
                  <a:pt x="16195" y="9320"/>
                  <a:pt x="15090" y="10800"/>
                  <a:pt x="15090" y="12323"/>
                </a:cubicBezTo>
                <a:lnTo>
                  <a:pt x="15090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А) Спартак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AutoShape 3"/>
          <p:cNvSpPr/>
          <p:nvPr/>
        </p:nvSpPr>
        <p:spPr>
          <a:xfrm>
            <a:off x="7620120" y="5715000"/>
            <a:ext cx="1218960" cy="1143000"/>
          </a:xfrm>
          <a:custGeom>
            <a:avLst/>
            <a:gdLst>
              <a:gd name="textAreaLeft" fmla="*/ 73800 w 1218960"/>
              <a:gd name="textAreaRight" fmla="*/ 1145160 w 12189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35" h="21600">
                <a:moveTo>
                  <a:pt x="0" y="0"/>
                </a:moveTo>
                <a:lnTo>
                  <a:pt x="23035" y="0"/>
                </a:lnTo>
                <a:lnTo>
                  <a:pt x="23035" y="21600"/>
                </a:lnTo>
                <a:lnTo>
                  <a:pt x="0" y="21600"/>
                </a:lnTo>
                <a:close/>
              </a:path>
              <a:path fill="lightenLess" w="23035" h="21600">
                <a:moveTo>
                  <a:pt x="0" y="0"/>
                </a:moveTo>
                <a:lnTo>
                  <a:pt x="23035" y="0"/>
                </a:lnTo>
                <a:lnTo>
                  <a:pt x="21635" y="1400"/>
                </a:lnTo>
                <a:lnTo>
                  <a:pt x="1400" y="1400"/>
                </a:lnTo>
                <a:close/>
              </a:path>
              <a:path fill="darken" w="23035" h="21600">
                <a:moveTo>
                  <a:pt x="23035" y="0"/>
                </a:moveTo>
                <a:lnTo>
                  <a:pt x="23035" y="21600"/>
                </a:lnTo>
                <a:lnTo>
                  <a:pt x="21635" y="20200"/>
                </a:lnTo>
                <a:lnTo>
                  <a:pt x="21635" y="1400"/>
                </a:lnTo>
                <a:close/>
              </a:path>
              <a:path fill="darkenLess" w="23035" h="21600">
                <a:moveTo>
                  <a:pt x="23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35" y="20200"/>
                </a:lnTo>
                <a:close/>
              </a:path>
              <a:path fill="lighten" w="23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35" h="21600">
                <a:moveTo>
                  <a:pt x="11518" y="3837"/>
                </a:moveTo>
                <a:lnTo>
                  <a:pt x="14094" y="6448"/>
                </a:lnTo>
                <a:lnTo>
                  <a:pt x="14094" y="4707"/>
                </a:lnTo>
                <a:lnTo>
                  <a:pt x="15869" y="4707"/>
                </a:lnTo>
                <a:lnTo>
                  <a:pt x="15869" y="8224"/>
                </a:lnTo>
                <a:lnTo>
                  <a:pt x="18480" y="10800"/>
                </a:lnTo>
                <a:lnTo>
                  <a:pt x="16827" y="10800"/>
                </a:lnTo>
                <a:lnTo>
                  <a:pt x="16827" y="17989"/>
                </a:lnTo>
                <a:lnTo>
                  <a:pt x="6208" y="17989"/>
                </a:lnTo>
                <a:lnTo>
                  <a:pt x="6208" y="10800"/>
                </a:lnTo>
                <a:lnTo>
                  <a:pt x="4555" y="10800"/>
                </a:lnTo>
                <a:close/>
              </a:path>
              <a:path fill="darkenLess" w="23035" h="21600">
                <a:moveTo>
                  <a:pt x="14094" y="6448"/>
                </a:moveTo>
                <a:lnTo>
                  <a:pt x="14094" y="4707"/>
                </a:lnTo>
                <a:lnTo>
                  <a:pt x="15869" y="4707"/>
                </a:lnTo>
                <a:lnTo>
                  <a:pt x="15869" y="8224"/>
                </a:lnTo>
                <a:close/>
              </a:path>
              <a:path fill="darkenLess" w="23035" h="21600">
                <a:moveTo>
                  <a:pt x="10595" y="14299"/>
                </a:moveTo>
                <a:lnTo>
                  <a:pt x="12440" y="14299"/>
                </a:lnTo>
                <a:lnTo>
                  <a:pt x="12440" y="17989"/>
                </a:lnTo>
                <a:lnTo>
                  <a:pt x="16827" y="17989"/>
                </a:lnTo>
                <a:lnTo>
                  <a:pt x="16827" y="10800"/>
                </a:lnTo>
                <a:lnTo>
                  <a:pt x="6208" y="10800"/>
                </a:lnTo>
                <a:lnTo>
                  <a:pt x="6208" y="17989"/>
                </a:lnTo>
                <a:lnTo>
                  <a:pt x="10595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Информатика100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В музее компьютеров в Мальборо (США) можно видеть блок памяти одного из первых компьютеров, построенных в 50-х годах. Рядом с ними микросхема с тем же объёмом памяти. Назовите  третий предмет этой экспозиции.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AutoShape 4">
            <a:hlinkClick r:id="" action="ppaction://hlinkshowjump?jump=nextslide"/>
          </p:cNvPr>
          <p:cNvSpPr/>
          <p:nvPr/>
        </p:nvSpPr>
        <p:spPr>
          <a:xfrm>
            <a:off x="7924680" y="5943600"/>
            <a:ext cx="1219320" cy="914400"/>
          </a:xfrm>
          <a:custGeom>
            <a:avLst/>
            <a:gdLst>
              <a:gd name="textAreaLeft" fmla="*/ 59040 w 1219320"/>
              <a:gd name="textAreaRight" fmla="*/ 1160280 w 12193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44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800" h="21600">
                <a:moveTo>
                  <a:pt x="15505" y="14281"/>
                </a:moveTo>
                <a:lnTo>
                  <a:pt x="15505" y="12323"/>
                </a:lnTo>
                <a:cubicBezTo>
                  <a:pt x="15505" y="11496"/>
                  <a:pt x="15836" y="10800"/>
                  <a:pt x="16437" y="10800"/>
                </a:cubicBezTo>
                <a:cubicBezTo>
                  <a:pt x="17568" y="10800"/>
                  <a:pt x="18465" y="9434"/>
                  <a:pt x="18465" y="7849"/>
                </a:cubicBezTo>
                <a:cubicBezTo>
                  <a:pt x="18465" y="5534"/>
                  <a:pt x="16611" y="3794"/>
                  <a:pt x="14400" y="3794"/>
                </a:cubicBezTo>
                <a:cubicBezTo>
                  <a:pt x="12189" y="3794"/>
                  <a:pt x="10518" y="5534"/>
                  <a:pt x="10518" y="7849"/>
                </a:cubicBezTo>
                <a:lnTo>
                  <a:pt x="12372" y="7849"/>
                </a:lnTo>
                <a:cubicBezTo>
                  <a:pt x="12372" y="6709"/>
                  <a:pt x="13295" y="5821"/>
                  <a:pt x="14400" y="5821"/>
                </a:cubicBezTo>
                <a:cubicBezTo>
                  <a:pt x="15505" y="5821"/>
                  <a:pt x="16437" y="6709"/>
                  <a:pt x="16437" y="7849"/>
                </a:cubicBezTo>
                <a:cubicBezTo>
                  <a:pt x="16437" y="8589"/>
                  <a:pt x="15967" y="9320"/>
                  <a:pt x="15505" y="9320"/>
                </a:cubicBezTo>
                <a:cubicBezTo>
                  <a:pt x="14400" y="9320"/>
                  <a:pt x="13295" y="10800"/>
                  <a:pt x="13295" y="12323"/>
                </a:cubicBezTo>
                <a:lnTo>
                  <a:pt x="13295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микроско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AutoShape 3"/>
          <p:cNvSpPr/>
          <p:nvPr/>
        </p:nvSpPr>
        <p:spPr>
          <a:xfrm>
            <a:off x="7162920" y="5486400"/>
            <a:ext cx="990360" cy="1066680"/>
          </a:xfrm>
          <a:custGeom>
            <a:avLst/>
            <a:gdLst>
              <a:gd name="textAreaLeft" fmla="*/ 64080 w 990360"/>
              <a:gd name="textAreaRight" fmla="*/ 926280 w 990360"/>
              <a:gd name="textAreaTop" fmla="*/ 64080 h 1066680"/>
              <a:gd name="textAreaBottom" fmla="*/ 1002600 h 1066680"/>
            </a:gdLst>
            <a:ahLst/>
            <a:rect l="textAreaLeft" t="textAreaTop" r="textAreaRight" b="textAreaBottom"/>
            <a:pathLst>
              <a:path w="21600" h="23264">
                <a:moveTo>
                  <a:pt x="0" y="0"/>
                </a:moveTo>
                <a:lnTo>
                  <a:pt x="21600" y="0"/>
                </a:lnTo>
                <a:lnTo>
                  <a:pt x="21600" y="23264"/>
                </a:lnTo>
                <a:lnTo>
                  <a:pt x="0" y="23264"/>
                </a:lnTo>
                <a:close/>
              </a:path>
              <a:path fill="lightenLess" w="21600" h="232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64">
                <a:moveTo>
                  <a:pt x="21600" y="0"/>
                </a:moveTo>
                <a:lnTo>
                  <a:pt x="21600" y="23264"/>
                </a:lnTo>
                <a:lnTo>
                  <a:pt x="20200" y="21864"/>
                </a:lnTo>
                <a:lnTo>
                  <a:pt x="20200" y="1400"/>
                </a:lnTo>
                <a:close/>
              </a:path>
              <a:path fill="darkenLess" w="21600" h="23264">
                <a:moveTo>
                  <a:pt x="21600" y="23264"/>
                </a:moveTo>
                <a:lnTo>
                  <a:pt x="0" y="23264"/>
                </a:lnTo>
                <a:lnTo>
                  <a:pt x="1400" y="21864"/>
                </a:lnTo>
                <a:lnTo>
                  <a:pt x="20200" y="21864"/>
                </a:lnTo>
                <a:close/>
              </a:path>
              <a:path fill="lighten" w="21600" h="23264">
                <a:moveTo>
                  <a:pt x="0" y="232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64"/>
                </a:lnTo>
                <a:close/>
              </a:path>
              <a:path fill="darken" w="21600" h="23264">
                <a:moveTo>
                  <a:pt x="10800" y="4669"/>
                </a:moveTo>
                <a:lnTo>
                  <a:pt x="13376" y="7280"/>
                </a:lnTo>
                <a:lnTo>
                  <a:pt x="13376" y="5539"/>
                </a:lnTo>
                <a:lnTo>
                  <a:pt x="15152" y="5539"/>
                </a:lnTo>
                <a:lnTo>
                  <a:pt x="15152" y="9056"/>
                </a:lnTo>
                <a:lnTo>
                  <a:pt x="17763" y="11632"/>
                </a:lnTo>
                <a:lnTo>
                  <a:pt x="16109" y="11632"/>
                </a:lnTo>
                <a:lnTo>
                  <a:pt x="16109" y="18821"/>
                </a:lnTo>
                <a:lnTo>
                  <a:pt x="5491" y="18821"/>
                </a:lnTo>
                <a:lnTo>
                  <a:pt x="5491" y="11632"/>
                </a:lnTo>
                <a:lnTo>
                  <a:pt x="3837" y="11632"/>
                </a:lnTo>
                <a:close/>
              </a:path>
              <a:path fill="darkenLess" w="21600" h="23264">
                <a:moveTo>
                  <a:pt x="13376" y="7280"/>
                </a:moveTo>
                <a:lnTo>
                  <a:pt x="13376" y="5539"/>
                </a:lnTo>
                <a:lnTo>
                  <a:pt x="15152" y="5539"/>
                </a:lnTo>
                <a:lnTo>
                  <a:pt x="15152" y="9056"/>
                </a:lnTo>
                <a:close/>
              </a:path>
              <a:path fill="darkenLess" w="21600" h="23264">
                <a:moveTo>
                  <a:pt x="9877" y="15131"/>
                </a:moveTo>
                <a:lnTo>
                  <a:pt x="11723" y="15131"/>
                </a:lnTo>
                <a:lnTo>
                  <a:pt x="11723" y="18821"/>
                </a:lnTo>
                <a:lnTo>
                  <a:pt x="16109" y="18821"/>
                </a:lnTo>
                <a:lnTo>
                  <a:pt x="16109" y="11632"/>
                </a:lnTo>
                <a:lnTo>
                  <a:pt x="5491" y="11632"/>
                </a:lnTo>
                <a:lnTo>
                  <a:pt x="5491" y="18821"/>
                </a:lnTo>
                <a:lnTo>
                  <a:pt x="9877" y="1882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Информатика 50</a:t>
            </a:r>
            <a:br>
              <a:rPr sz="36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СОВА НЕ ЕСТ КОРМ.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НЕТ, ТАК НАМ СОВСЕМНЕ РЕЗОН.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НАРКОМ ВЕДЁТ ТОРТ.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РОЗЕТКА НЕ ЗАМКНЁТ ТОК.</a:t>
            </a:r>
            <a:br>
              <a:rPr sz="3200"/>
            </a:b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На первый взгляд  единственное, что их объединяет, — это то, что все они на русском языке. Однако если вы попробуете набрать эти фразы на  клавиатуре компьютера,  то обнаружите еще одну общую  черту этих фраз. Какую? 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AutoShape 4">
            <a:hlinkClick r:id="" action="ppaction://hlinkshowjump?jump=nextslide"/>
          </p:cNvPr>
          <p:cNvSpPr/>
          <p:nvPr/>
        </p:nvSpPr>
        <p:spPr>
          <a:xfrm>
            <a:off x="8001000" y="594360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1349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998" h="21600">
                <a:moveTo>
                  <a:pt x="14604" y="14281"/>
                </a:moveTo>
                <a:lnTo>
                  <a:pt x="14604" y="12323"/>
                </a:lnTo>
                <a:cubicBezTo>
                  <a:pt x="14604" y="11496"/>
                  <a:pt x="14935" y="10800"/>
                  <a:pt x="15536" y="10800"/>
                </a:cubicBezTo>
                <a:cubicBezTo>
                  <a:pt x="16667" y="10800"/>
                  <a:pt x="17564" y="9434"/>
                  <a:pt x="17564" y="7849"/>
                </a:cubicBezTo>
                <a:cubicBezTo>
                  <a:pt x="17564" y="5534"/>
                  <a:pt x="15710" y="3794"/>
                  <a:pt x="13499" y="3794"/>
                </a:cubicBezTo>
                <a:cubicBezTo>
                  <a:pt x="11288" y="3794"/>
                  <a:pt x="9617" y="5534"/>
                  <a:pt x="9617" y="7849"/>
                </a:cubicBezTo>
                <a:lnTo>
                  <a:pt x="11471" y="7849"/>
                </a:lnTo>
                <a:cubicBezTo>
                  <a:pt x="11471" y="6709"/>
                  <a:pt x="12394" y="5821"/>
                  <a:pt x="13499" y="5821"/>
                </a:cubicBezTo>
                <a:cubicBezTo>
                  <a:pt x="14604" y="5821"/>
                  <a:pt x="15536" y="6709"/>
                  <a:pt x="15536" y="7849"/>
                </a:cubicBezTo>
                <a:cubicBezTo>
                  <a:pt x="15536" y="8589"/>
                  <a:pt x="15066" y="9320"/>
                  <a:pt x="14604" y="9320"/>
                </a:cubicBezTo>
                <a:cubicBezTo>
                  <a:pt x="13499" y="9320"/>
                  <a:pt x="12394" y="10800"/>
                  <a:pt x="12394" y="12323"/>
                </a:cubicBezTo>
                <a:lnTo>
                  <a:pt x="12394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3"/>
          <p:cNvSpPr/>
          <p:nvPr/>
        </p:nvSpPr>
        <p:spPr>
          <a:xfrm>
            <a:off x="8077320" y="586728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6" h="21600">
                <a:moveTo>
                  <a:pt x="11628" y="3837"/>
                </a:moveTo>
                <a:lnTo>
                  <a:pt x="14204" y="6448"/>
                </a:ln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lnTo>
                  <a:pt x="18591" y="10800"/>
                </a:lnTo>
                <a:lnTo>
                  <a:pt x="16937" y="10800"/>
                </a:lnTo>
                <a:lnTo>
                  <a:pt x="16937" y="17989"/>
                </a:lnTo>
                <a:lnTo>
                  <a:pt x="6318" y="17989"/>
                </a:lnTo>
                <a:lnTo>
                  <a:pt x="6318" y="10800"/>
                </a:lnTo>
                <a:lnTo>
                  <a:pt x="4665" y="10800"/>
                </a:lnTo>
                <a:close/>
              </a:path>
              <a:path fill="darkenLess" w="23256" h="21600">
                <a:moveTo>
                  <a:pt x="14204" y="6448"/>
                </a:move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close/>
              </a:path>
              <a:path fill="darkenLess" w="23256" h="21600">
                <a:moveTo>
                  <a:pt x="10705" y="14299"/>
                </a:moveTo>
                <a:lnTo>
                  <a:pt x="12550" y="14299"/>
                </a:lnTo>
                <a:lnTo>
                  <a:pt x="12550" y="17989"/>
                </a:lnTo>
                <a:lnTo>
                  <a:pt x="16937" y="17989"/>
                </a:lnTo>
                <a:lnTo>
                  <a:pt x="16937" y="10800"/>
                </a:lnTo>
                <a:lnTo>
                  <a:pt x="6318" y="10800"/>
                </a:lnTo>
                <a:lnTo>
                  <a:pt x="6318" y="17989"/>
                </a:lnTo>
                <a:lnTo>
                  <a:pt x="10705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914400" y="838080"/>
            <a:ext cx="7696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: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Эти фразы можно набрать на  нерусифицированной клавиатуре, ограничившись заглавными латинскими  А, В, Е, К, М, Н, О, Р, С, Т, Х и цифрой 3 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160" y="-380880"/>
            <a:ext cx="8305560" cy="670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Информатика 10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 Скажите, пожалуйста: какую техническую процедуру часто проделывают и с почтовыми конвертами,  и с набранным на компьютере текстом ,и  даже с футбольными воротами? 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AutoShape 3">
            <a:hlinkClick r:id="" action="ppaction://hlinkshowjump?jump=nextslide"/>
          </p:cNvPr>
          <p:cNvSpPr/>
          <p:nvPr/>
        </p:nvSpPr>
        <p:spPr>
          <a:xfrm>
            <a:off x="4114800" y="6019920"/>
            <a:ext cx="1066680" cy="838080"/>
          </a:xfrm>
          <a:custGeom>
            <a:avLst/>
            <a:gdLst>
              <a:gd name="textAreaLeft" fmla="*/ 54000 w 1066680"/>
              <a:gd name="textAreaRight" fmla="*/ 1012680 w 1066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89" h="21600">
                <a:moveTo>
                  <a:pt x="0" y="0"/>
                </a:moveTo>
                <a:lnTo>
                  <a:pt x="27489" y="0"/>
                </a:lnTo>
                <a:lnTo>
                  <a:pt x="27489" y="21600"/>
                </a:lnTo>
                <a:lnTo>
                  <a:pt x="0" y="21600"/>
                </a:lnTo>
                <a:close/>
              </a:path>
              <a:path fill="lightenLess" w="27489" h="21600">
                <a:moveTo>
                  <a:pt x="0" y="0"/>
                </a:moveTo>
                <a:lnTo>
                  <a:pt x="27489" y="0"/>
                </a:lnTo>
                <a:lnTo>
                  <a:pt x="26089" y="1400"/>
                </a:lnTo>
                <a:lnTo>
                  <a:pt x="1400" y="1400"/>
                </a:lnTo>
                <a:close/>
              </a:path>
              <a:path fill="darken" w="27489" h="21600">
                <a:moveTo>
                  <a:pt x="27489" y="0"/>
                </a:moveTo>
                <a:lnTo>
                  <a:pt x="27489" y="21600"/>
                </a:lnTo>
                <a:lnTo>
                  <a:pt x="26089" y="20200"/>
                </a:lnTo>
                <a:lnTo>
                  <a:pt x="26089" y="1400"/>
                </a:lnTo>
                <a:close/>
              </a:path>
              <a:path fill="darkenLess" w="27489" h="21600">
                <a:moveTo>
                  <a:pt x="274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9" y="20200"/>
                </a:lnTo>
                <a:close/>
              </a:path>
              <a:path fill="lighten" w="274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9" h="21600">
                <a:moveTo>
                  <a:pt x="1374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489" h="21600">
                <a:moveTo>
                  <a:pt x="14850" y="14281"/>
                </a:moveTo>
                <a:lnTo>
                  <a:pt x="14850" y="12323"/>
                </a:lnTo>
                <a:cubicBezTo>
                  <a:pt x="14850" y="11496"/>
                  <a:pt x="15181" y="10800"/>
                  <a:pt x="15781" y="10800"/>
                </a:cubicBezTo>
                <a:cubicBezTo>
                  <a:pt x="16913" y="10800"/>
                  <a:pt x="17809" y="9434"/>
                  <a:pt x="17809" y="7849"/>
                </a:cubicBezTo>
                <a:cubicBezTo>
                  <a:pt x="17809" y="5534"/>
                  <a:pt x="15955" y="3794"/>
                  <a:pt x="13745" y="3794"/>
                </a:cubicBezTo>
                <a:cubicBezTo>
                  <a:pt x="11534" y="3794"/>
                  <a:pt x="9863" y="5534"/>
                  <a:pt x="9863" y="7849"/>
                </a:cubicBezTo>
                <a:lnTo>
                  <a:pt x="11717" y="7849"/>
                </a:lnTo>
                <a:cubicBezTo>
                  <a:pt x="11717" y="6709"/>
                  <a:pt x="12639" y="5821"/>
                  <a:pt x="13745" y="5821"/>
                </a:cubicBezTo>
                <a:cubicBezTo>
                  <a:pt x="14850" y="5821"/>
                  <a:pt x="15781" y="6709"/>
                  <a:pt x="15781" y="7849"/>
                </a:cubicBezTo>
                <a:cubicBezTo>
                  <a:pt x="15781" y="8589"/>
                  <a:pt x="15311" y="9320"/>
                  <a:pt x="14850" y="9320"/>
                </a:cubicBezTo>
                <a:cubicBezTo>
                  <a:pt x="13745" y="9320"/>
                  <a:pt x="12639" y="10800"/>
                  <a:pt x="12639" y="12323"/>
                </a:cubicBezTo>
                <a:lnTo>
                  <a:pt x="12639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056040" y="2712960"/>
            <a:ext cx="303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В) Архимед</a:t>
            </a:r>
            <a:br>
              <a:rPr sz="4400"/>
            </a:b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7162920" y="541008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10800" y="4738"/>
                </a:moveTo>
                <a:lnTo>
                  <a:pt x="13376" y="7349"/>
                </a:lnTo>
                <a:lnTo>
                  <a:pt x="13376" y="5608"/>
                </a:lnTo>
                <a:lnTo>
                  <a:pt x="15152" y="5608"/>
                </a:lnTo>
                <a:lnTo>
                  <a:pt x="15152" y="9125"/>
                </a:lnTo>
                <a:lnTo>
                  <a:pt x="17763" y="11701"/>
                </a:lnTo>
                <a:lnTo>
                  <a:pt x="16109" y="11701"/>
                </a:lnTo>
                <a:lnTo>
                  <a:pt x="16109" y="18890"/>
                </a:lnTo>
                <a:lnTo>
                  <a:pt x="5491" y="18890"/>
                </a:lnTo>
                <a:lnTo>
                  <a:pt x="5491" y="11701"/>
                </a:lnTo>
                <a:lnTo>
                  <a:pt x="3837" y="11701"/>
                </a:lnTo>
                <a:close/>
              </a:path>
              <a:path fill="darkenLess" w="21600" h="23402">
                <a:moveTo>
                  <a:pt x="13376" y="7349"/>
                </a:moveTo>
                <a:lnTo>
                  <a:pt x="13376" y="5608"/>
                </a:lnTo>
                <a:lnTo>
                  <a:pt x="15152" y="5608"/>
                </a:lnTo>
                <a:lnTo>
                  <a:pt x="15152" y="9125"/>
                </a:lnTo>
                <a:close/>
              </a:path>
              <a:path fill="darkenLess" w="21600" h="23402">
                <a:moveTo>
                  <a:pt x="9877" y="15200"/>
                </a:moveTo>
                <a:lnTo>
                  <a:pt x="11723" y="15200"/>
                </a:lnTo>
                <a:lnTo>
                  <a:pt x="11723" y="18890"/>
                </a:lnTo>
                <a:lnTo>
                  <a:pt x="16109" y="18890"/>
                </a:lnTo>
                <a:lnTo>
                  <a:pt x="16109" y="11701"/>
                </a:lnTo>
                <a:lnTo>
                  <a:pt x="5491" y="11701"/>
                </a:lnTo>
                <a:lnTo>
                  <a:pt x="5491" y="18890"/>
                </a:lnTo>
                <a:lnTo>
                  <a:pt x="9877" y="1889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Распечатывание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8077320" y="586728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6" h="21600">
                <a:moveTo>
                  <a:pt x="11628" y="3837"/>
                </a:moveTo>
                <a:lnTo>
                  <a:pt x="14204" y="6448"/>
                </a:ln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lnTo>
                  <a:pt x="18591" y="10800"/>
                </a:lnTo>
                <a:lnTo>
                  <a:pt x="16937" y="10800"/>
                </a:lnTo>
                <a:lnTo>
                  <a:pt x="16937" y="17989"/>
                </a:lnTo>
                <a:lnTo>
                  <a:pt x="6318" y="17989"/>
                </a:lnTo>
                <a:lnTo>
                  <a:pt x="6318" y="10800"/>
                </a:lnTo>
                <a:lnTo>
                  <a:pt x="4665" y="10800"/>
                </a:lnTo>
                <a:close/>
              </a:path>
              <a:path fill="darkenLess" w="23256" h="21600">
                <a:moveTo>
                  <a:pt x="14204" y="6448"/>
                </a:move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close/>
              </a:path>
              <a:path fill="darkenLess" w="23256" h="21600">
                <a:moveTo>
                  <a:pt x="10705" y="14299"/>
                </a:moveTo>
                <a:lnTo>
                  <a:pt x="12550" y="14299"/>
                </a:lnTo>
                <a:lnTo>
                  <a:pt x="12550" y="17989"/>
                </a:lnTo>
                <a:lnTo>
                  <a:pt x="16937" y="17989"/>
                </a:lnTo>
                <a:lnTo>
                  <a:pt x="16937" y="10800"/>
                </a:lnTo>
                <a:lnTo>
                  <a:pt x="6318" y="10800"/>
                </a:lnTo>
                <a:lnTo>
                  <a:pt x="6318" y="17989"/>
                </a:lnTo>
                <a:lnTo>
                  <a:pt x="10705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01000" cy="5943600"/>
          </a:xfrm>
          <a:prstGeom prst="rect">
            <a:avLst/>
          </a:prstGeom>
          <a:solidFill>
            <a:srgbClr val="000080"/>
          </a:solidFill>
          <a:ln w="936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Информатика 40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В Средние века их изготовляли из хрусталя и специальным образом дробленого мрамора. Их специальные модели носили, прикрепляя к колену. Сейчас в быту они почти не встречаются, правда, любители компьютеров их видят очень часто. О чем идёт речь? 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AutoShape 4">
            <a:hlinkClick r:id="" action="ppaction://hlinkshowjump?jump=nextslide"/>
          </p:cNvPr>
          <p:cNvSpPr/>
          <p:nvPr/>
        </p:nvSpPr>
        <p:spPr>
          <a:xfrm>
            <a:off x="8001000" y="594360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1349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998" h="21600">
                <a:moveTo>
                  <a:pt x="14604" y="14281"/>
                </a:moveTo>
                <a:lnTo>
                  <a:pt x="14604" y="12323"/>
                </a:lnTo>
                <a:cubicBezTo>
                  <a:pt x="14604" y="11496"/>
                  <a:pt x="14935" y="10800"/>
                  <a:pt x="15536" y="10800"/>
                </a:cubicBezTo>
                <a:cubicBezTo>
                  <a:pt x="16667" y="10800"/>
                  <a:pt x="17564" y="9434"/>
                  <a:pt x="17564" y="7849"/>
                </a:cubicBezTo>
                <a:cubicBezTo>
                  <a:pt x="17564" y="5534"/>
                  <a:pt x="15710" y="3794"/>
                  <a:pt x="13499" y="3794"/>
                </a:cubicBezTo>
                <a:cubicBezTo>
                  <a:pt x="11288" y="3794"/>
                  <a:pt x="9617" y="5534"/>
                  <a:pt x="9617" y="7849"/>
                </a:cubicBezTo>
                <a:lnTo>
                  <a:pt x="11471" y="7849"/>
                </a:lnTo>
                <a:cubicBezTo>
                  <a:pt x="11471" y="6709"/>
                  <a:pt x="12394" y="5821"/>
                  <a:pt x="13499" y="5821"/>
                </a:cubicBezTo>
                <a:cubicBezTo>
                  <a:pt x="14604" y="5821"/>
                  <a:pt x="15536" y="6709"/>
                  <a:pt x="15536" y="7849"/>
                </a:cubicBezTo>
                <a:cubicBezTo>
                  <a:pt x="15536" y="8589"/>
                  <a:pt x="15066" y="9320"/>
                  <a:pt x="14604" y="9320"/>
                </a:cubicBezTo>
                <a:cubicBezTo>
                  <a:pt x="13499" y="9320"/>
                  <a:pt x="12394" y="10800"/>
                  <a:pt x="12394" y="12323"/>
                </a:cubicBezTo>
                <a:lnTo>
                  <a:pt x="12394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есочные час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AutoShape 3"/>
          <p:cNvSpPr/>
          <p:nvPr/>
        </p:nvSpPr>
        <p:spPr>
          <a:xfrm>
            <a:off x="7924680" y="571500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11521" y="3837"/>
                </a:moveTo>
                <a:lnTo>
                  <a:pt x="14097" y="6448"/>
                </a:lnTo>
                <a:lnTo>
                  <a:pt x="14097" y="4707"/>
                </a:lnTo>
                <a:lnTo>
                  <a:pt x="15873" y="4707"/>
                </a:lnTo>
                <a:lnTo>
                  <a:pt x="15873" y="8224"/>
                </a:lnTo>
                <a:lnTo>
                  <a:pt x="18484" y="10800"/>
                </a:lnTo>
                <a:lnTo>
                  <a:pt x="16830" y="10800"/>
                </a:lnTo>
                <a:lnTo>
                  <a:pt x="16830" y="17989"/>
                </a:lnTo>
                <a:lnTo>
                  <a:pt x="6212" y="17989"/>
                </a:lnTo>
                <a:lnTo>
                  <a:pt x="6212" y="10800"/>
                </a:lnTo>
                <a:lnTo>
                  <a:pt x="4558" y="10800"/>
                </a:lnTo>
                <a:close/>
              </a:path>
              <a:path fill="darkenLess" w="23042" h="21600">
                <a:moveTo>
                  <a:pt x="14097" y="6448"/>
                </a:moveTo>
                <a:lnTo>
                  <a:pt x="14097" y="4707"/>
                </a:lnTo>
                <a:lnTo>
                  <a:pt x="15873" y="4707"/>
                </a:lnTo>
                <a:lnTo>
                  <a:pt x="15873" y="8224"/>
                </a:lnTo>
                <a:close/>
              </a:path>
              <a:path fill="darkenLess" w="23042" h="21600">
                <a:moveTo>
                  <a:pt x="10598" y="14299"/>
                </a:moveTo>
                <a:lnTo>
                  <a:pt x="12443" y="14299"/>
                </a:lnTo>
                <a:lnTo>
                  <a:pt x="12443" y="17989"/>
                </a:lnTo>
                <a:lnTo>
                  <a:pt x="16830" y="17989"/>
                </a:lnTo>
                <a:lnTo>
                  <a:pt x="16830" y="10800"/>
                </a:lnTo>
                <a:lnTo>
                  <a:pt x="6212" y="10800"/>
                </a:lnTo>
                <a:lnTo>
                  <a:pt x="6212" y="17989"/>
                </a:lnTo>
                <a:lnTo>
                  <a:pt x="10598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ФИЗИКА 50</a:t>
            </a:r>
            <a:br>
              <a:rPr sz="4400"/>
            </a:br>
            <a:r>
              <a:rPr b="0" lang="ru-RU" sz="4400" spc="-1" strike="noStrike">
                <a:solidFill>
                  <a:srgbClr val="333300"/>
                </a:solidFill>
                <a:latin typeface="Times New Roman"/>
              </a:rPr>
              <a:t>Чьей температурной шкалой пользуются в США?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AutoShape 5">
            <a:hlinkClick r:id="" action="ppaction://hlinkshowjump?jump=nextslide"/>
          </p:cNvPr>
          <p:cNvSpPr/>
          <p:nvPr/>
        </p:nvSpPr>
        <p:spPr>
          <a:xfrm>
            <a:off x="4267080" y="58672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124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919" h="21600">
                <a:moveTo>
                  <a:pt x="13565" y="14281"/>
                </a:moveTo>
                <a:lnTo>
                  <a:pt x="13565" y="12323"/>
                </a:lnTo>
                <a:cubicBezTo>
                  <a:pt x="13565" y="11496"/>
                  <a:pt x="13896" y="10800"/>
                  <a:pt x="14496" y="10800"/>
                </a:cubicBezTo>
                <a:cubicBezTo>
                  <a:pt x="15628" y="10800"/>
                  <a:pt x="16524" y="9434"/>
                  <a:pt x="16524" y="7849"/>
                </a:cubicBezTo>
                <a:cubicBezTo>
                  <a:pt x="16524" y="5534"/>
                  <a:pt x="14670" y="3794"/>
                  <a:pt x="12459" y="3794"/>
                </a:cubicBezTo>
                <a:cubicBezTo>
                  <a:pt x="10249" y="3794"/>
                  <a:pt x="8578" y="5534"/>
                  <a:pt x="8578" y="7849"/>
                </a:cubicBezTo>
                <a:lnTo>
                  <a:pt x="10431" y="7849"/>
                </a:lnTo>
                <a:cubicBezTo>
                  <a:pt x="10431" y="6709"/>
                  <a:pt x="11354" y="5821"/>
                  <a:pt x="12459" y="5821"/>
                </a:cubicBezTo>
                <a:cubicBezTo>
                  <a:pt x="13565" y="5821"/>
                  <a:pt x="14496" y="6709"/>
                  <a:pt x="14496" y="7849"/>
                </a:cubicBezTo>
                <a:cubicBezTo>
                  <a:pt x="14496" y="8589"/>
                  <a:pt x="14026" y="9320"/>
                  <a:pt x="13565" y="9320"/>
                </a:cubicBezTo>
                <a:cubicBezTo>
                  <a:pt x="12459" y="9320"/>
                  <a:pt x="11354" y="10800"/>
                  <a:pt x="11354" y="12323"/>
                </a:cubicBezTo>
                <a:lnTo>
                  <a:pt x="11354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"/>
          <p:cNvSpPr/>
          <p:nvPr/>
        </p:nvSpPr>
        <p:spPr>
          <a:xfrm>
            <a:off x="2045160" y="3048120"/>
            <a:ext cx="505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шкалой Фаренгейта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AutoShape 5">
            <a:hlinkClick r:id="rId1"/>
          </p:cNvPr>
          <p:cNvSpPr/>
          <p:nvPr/>
        </p:nvSpPr>
        <p:spPr>
          <a:xfrm>
            <a:off x="7772400" y="5791320"/>
            <a:ext cx="914400" cy="106668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1066680"/>
              <a:gd name="textAreaBottom" fmla="*/ 1007640 h 1066680"/>
            </a:gdLst>
            <a:ahLst/>
            <a:rect l="textAreaLeft" t="textAreaTop" r="textAreaRight" b="textAreaBottom"/>
            <a:pathLst>
              <a:path w="21600" h="25196">
                <a:moveTo>
                  <a:pt x="0" y="0"/>
                </a:moveTo>
                <a:lnTo>
                  <a:pt x="21600" y="0"/>
                </a:lnTo>
                <a:lnTo>
                  <a:pt x="21600" y="25196"/>
                </a:lnTo>
                <a:lnTo>
                  <a:pt x="0" y="25196"/>
                </a:lnTo>
                <a:close/>
              </a:path>
              <a:path fill="lightenLess" w="21600" h="251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96">
                <a:moveTo>
                  <a:pt x="21600" y="0"/>
                </a:moveTo>
                <a:lnTo>
                  <a:pt x="21600" y="25196"/>
                </a:lnTo>
                <a:lnTo>
                  <a:pt x="20200" y="23796"/>
                </a:lnTo>
                <a:lnTo>
                  <a:pt x="20200" y="1400"/>
                </a:lnTo>
                <a:close/>
              </a:path>
              <a:path fill="darkenLess" w="21600" h="25196">
                <a:moveTo>
                  <a:pt x="21600" y="25196"/>
                </a:moveTo>
                <a:lnTo>
                  <a:pt x="0" y="25196"/>
                </a:lnTo>
                <a:lnTo>
                  <a:pt x="1400" y="23796"/>
                </a:lnTo>
                <a:lnTo>
                  <a:pt x="20200" y="23796"/>
                </a:lnTo>
                <a:close/>
              </a:path>
              <a:path fill="lighten" w="21600" h="25196">
                <a:moveTo>
                  <a:pt x="0" y="251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96"/>
                </a:lnTo>
                <a:close/>
              </a:path>
              <a:path fill="darken" w="21600" h="25196">
                <a:moveTo>
                  <a:pt x="10800" y="5635"/>
                </a:moveTo>
                <a:lnTo>
                  <a:pt x="13376" y="8246"/>
                </a:lnTo>
                <a:lnTo>
                  <a:pt x="13376" y="6505"/>
                </a:lnTo>
                <a:lnTo>
                  <a:pt x="15152" y="6505"/>
                </a:lnTo>
                <a:lnTo>
                  <a:pt x="15152" y="10022"/>
                </a:lnTo>
                <a:lnTo>
                  <a:pt x="17763" y="12598"/>
                </a:lnTo>
                <a:lnTo>
                  <a:pt x="16109" y="12598"/>
                </a:lnTo>
                <a:lnTo>
                  <a:pt x="16109" y="19787"/>
                </a:lnTo>
                <a:lnTo>
                  <a:pt x="5491" y="19787"/>
                </a:lnTo>
                <a:lnTo>
                  <a:pt x="5491" y="12598"/>
                </a:lnTo>
                <a:lnTo>
                  <a:pt x="3837" y="12598"/>
                </a:lnTo>
                <a:close/>
              </a:path>
              <a:path fill="darkenLess" w="21600" h="25196">
                <a:moveTo>
                  <a:pt x="13376" y="8246"/>
                </a:moveTo>
                <a:lnTo>
                  <a:pt x="13376" y="6505"/>
                </a:lnTo>
                <a:lnTo>
                  <a:pt x="15152" y="6505"/>
                </a:lnTo>
                <a:lnTo>
                  <a:pt x="15152" y="10022"/>
                </a:lnTo>
                <a:close/>
              </a:path>
              <a:path fill="darkenLess" w="21600" h="25196">
                <a:moveTo>
                  <a:pt x="9877" y="16097"/>
                </a:moveTo>
                <a:lnTo>
                  <a:pt x="11723" y="16097"/>
                </a:lnTo>
                <a:lnTo>
                  <a:pt x="11723" y="19787"/>
                </a:lnTo>
                <a:lnTo>
                  <a:pt x="16109" y="19787"/>
                </a:lnTo>
                <a:lnTo>
                  <a:pt x="16109" y="12598"/>
                </a:lnTo>
                <a:lnTo>
                  <a:pt x="5491" y="12598"/>
                </a:lnTo>
                <a:lnTo>
                  <a:pt x="5491" y="19787"/>
                </a:lnTo>
                <a:lnTo>
                  <a:pt x="9877" y="19787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64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Физика 40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Кто из ученых был основоположником научного эксперимента в физике?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А) </a:t>
            </a:r>
            <a:r>
              <a:rPr b="0" i="1" lang="ru-RU" sz="4400" spc="-1" strike="noStrike">
                <a:solidFill>
                  <a:srgbClr val="ffff00"/>
                </a:solidFill>
                <a:latin typeface="Times New Roman"/>
              </a:rPr>
              <a:t>Галилей</a:t>
            </a:r>
            <a:br>
              <a:rPr sz="4400"/>
            </a:br>
            <a:r>
              <a:rPr b="0" i="1" lang="ru-RU" sz="4400" spc="-1" strike="noStrike">
                <a:solidFill>
                  <a:srgbClr val="ffff00"/>
                </a:solidFill>
                <a:latin typeface="Times New Roman"/>
              </a:rPr>
              <a:t>В) Ньютон</a:t>
            </a:r>
            <a:br>
              <a:rPr sz="4400"/>
            </a:br>
            <a:r>
              <a:rPr b="0" i="1" lang="ru-RU" sz="4400" spc="-1" strike="noStrike">
                <a:solidFill>
                  <a:srgbClr val="ffff00"/>
                </a:solidFill>
                <a:latin typeface="Times New Roman"/>
              </a:rPr>
              <a:t>С)Архимед </a:t>
            </a:r>
            <a:br>
              <a:rPr sz="4400"/>
            </a:br>
            <a:r>
              <a:rPr b="0" i="1" lang="ru-RU" sz="4400" spc="-1" strike="noStrike">
                <a:solidFill>
                  <a:srgbClr val="ffff00"/>
                </a:solidFill>
                <a:latin typeface="Times New Roman"/>
              </a:rPr>
              <a:t>Д) Ломоносов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AutoShape 5">
            <a:hlinkClick r:id="" action="ppaction://hlinkshowjump?jump=nextslide"/>
          </p:cNvPr>
          <p:cNvSpPr/>
          <p:nvPr/>
        </p:nvSpPr>
        <p:spPr>
          <a:xfrm>
            <a:off x="4267080" y="5562720"/>
            <a:ext cx="1067040" cy="990360"/>
          </a:xfrm>
          <a:custGeom>
            <a:avLst/>
            <a:gdLst>
              <a:gd name="textAreaLeft" fmla="*/ 64080 w 1067040"/>
              <a:gd name="textAreaRight" fmla="*/ 1002960 w 10670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3272" h="21600">
                <a:moveTo>
                  <a:pt x="0" y="0"/>
                </a:moveTo>
                <a:lnTo>
                  <a:pt x="23272" y="0"/>
                </a:lnTo>
                <a:lnTo>
                  <a:pt x="23272" y="21600"/>
                </a:lnTo>
                <a:lnTo>
                  <a:pt x="0" y="21600"/>
                </a:lnTo>
                <a:close/>
              </a:path>
              <a:path fill="lightenLess" w="23272" h="21600">
                <a:moveTo>
                  <a:pt x="0" y="0"/>
                </a:moveTo>
                <a:lnTo>
                  <a:pt x="23272" y="0"/>
                </a:lnTo>
                <a:lnTo>
                  <a:pt x="21872" y="1400"/>
                </a:lnTo>
                <a:lnTo>
                  <a:pt x="1400" y="1400"/>
                </a:lnTo>
                <a:close/>
              </a:path>
              <a:path fill="darken" w="23272" h="21600">
                <a:moveTo>
                  <a:pt x="23272" y="0"/>
                </a:moveTo>
                <a:lnTo>
                  <a:pt x="23272" y="21600"/>
                </a:lnTo>
                <a:lnTo>
                  <a:pt x="21872" y="20200"/>
                </a:lnTo>
                <a:lnTo>
                  <a:pt x="21872" y="1400"/>
                </a:lnTo>
                <a:close/>
              </a:path>
              <a:path fill="darkenLess" w="23272" h="21600">
                <a:moveTo>
                  <a:pt x="23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72" y="20200"/>
                </a:lnTo>
                <a:close/>
              </a:path>
              <a:path fill="lighten" w="23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72" h="21600">
                <a:moveTo>
                  <a:pt x="1163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272" h="21600">
                <a:moveTo>
                  <a:pt x="12741" y="14281"/>
                </a:moveTo>
                <a:lnTo>
                  <a:pt x="12741" y="12323"/>
                </a:lnTo>
                <a:cubicBezTo>
                  <a:pt x="12741" y="11496"/>
                  <a:pt x="13072" y="10800"/>
                  <a:pt x="13673" y="10800"/>
                </a:cubicBezTo>
                <a:cubicBezTo>
                  <a:pt x="14804" y="10800"/>
                  <a:pt x="15701" y="9434"/>
                  <a:pt x="15701" y="7849"/>
                </a:cubicBezTo>
                <a:cubicBezTo>
                  <a:pt x="15701" y="5534"/>
                  <a:pt x="13847" y="3794"/>
                  <a:pt x="11636" y="3794"/>
                </a:cubicBezTo>
                <a:cubicBezTo>
                  <a:pt x="9425" y="3794"/>
                  <a:pt x="7754" y="5534"/>
                  <a:pt x="7754" y="7849"/>
                </a:cubicBezTo>
                <a:lnTo>
                  <a:pt x="9608" y="7849"/>
                </a:lnTo>
                <a:cubicBezTo>
                  <a:pt x="9608" y="6709"/>
                  <a:pt x="10531" y="5821"/>
                  <a:pt x="11636" y="5821"/>
                </a:cubicBezTo>
                <a:cubicBezTo>
                  <a:pt x="12741" y="5821"/>
                  <a:pt x="13673" y="6709"/>
                  <a:pt x="13673" y="7849"/>
                </a:cubicBezTo>
                <a:cubicBezTo>
                  <a:pt x="13673" y="8589"/>
                  <a:pt x="13203" y="9320"/>
                  <a:pt x="12741" y="9320"/>
                </a:cubicBezTo>
                <a:cubicBezTo>
                  <a:pt x="11636" y="9320"/>
                  <a:pt x="10531" y="10800"/>
                  <a:pt x="10531" y="12323"/>
                </a:cubicBezTo>
                <a:lnTo>
                  <a:pt x="10531" y="14281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Г.Галилей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7620120" y="58672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12459" y="3837"/>
                </a:moveTo>
                <a:lnTo>
                  <a:pt x="15036" y="6448"/>
                </a:lnTo>
                <a:lnTo>
                  <a:pt x="15036" y="4707"/>
                </a:lnTo>
                <a:lnTo>
                  <a:pt x="16811" y="4707"/>
                </a:lnTo>
                <a:lnTo>
                  <a:pt x="16811" y="8224"/>
                </a:lnTo>
                <a:lnTo>
                  <a:pt x="19422" y="10800"/>
                </a:lnTo>
                <a:lnTo>
                  <a:pt x="17769" y="10800"/>
                </a:lnTo>
                <a:lnTo>
                  <a:pt x="17769" y="17989"/>
                </a:lnTo>
                <a:lnTo>
                  <a:pt x="7150" y="17989"/>
                </a:lnTo>
                <a:lnTo>
                  <a:pt x="7150" y="10800"/>
                </a:lnTo>
                <a:lnTo>
                  <a:pt x="5496" y="10800"/>
                </a:lnTo>
                <a:close/>
              </a:path>
              <a:path fill="darkenLess" w="24919" h="21600">
                <a:moveTo>
                  <a:pt x="15036" y="6448"/>
                </a:moveTo>
                <a:lnTo>
                  <a:pt x="15036" y="4707"/>
                </a:lnTo>
                <a:lnTo>
                  <a:pt x="16811" y="4707"/>
                </a:lnTo>
                <a:lnTo>
                  <a:pt x="16811" y="8224"/>
                </a:lnTo>
                <a:close/>
              </a:path>
              <a:path fill="darkenLess" w="24919" h="21600">
                <a:moveTo>
                  <a:pt x="11537" y="14299"/>
                </a:moveTo>
                <a:lnTo>
                  <a:pt x="13382" y="14299"/>
                </a:lnTo>
                <a:lnTo>
                  <a:pt x="13382" y="17989"/>
                </a:lnTo>
                <a:lnTo>
                  <a:pt x="17769" y="17989"/>
                </a:lnTo>
                <a:lnTo>
                  <a:pt x="17769" y="10800"/>
                </a:lnTo>
                <a:lnTo>
                  <a:pt x="7150" y="10800"/>
                </a:lnTo>
                <a:lnTo>
                  <a:pt x="7150" y="17989"/>
                </a:lnTo>
                <a:lnTo>
                  <a:pt x="1153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Физика 10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Что не является счетным устройством?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А) Абак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В) Индикатор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С) Арифмометр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Д) Калькулятор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AutoShape 6">
            <a:hlinkClick r:id="" action="ppaction://hlinkshowjump?jump=nextslide"/>
          </p:cNvPr>
          <p:cNvSpPr/>
          <p:nvPr/>
        </p:nvSpPr>
        <p:spPr>
          <a:xfrm>
            <a:off x="3886200" y="548640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124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919" h="21600">
                <a:moveTo>
                  <a:pt x="13565" y="14281"/>
                </a:moveTo>
                <a:lnTo>
                  <a:pt x="13565" y="12323"/>
                </a:lnTo>
                <a:cubicBezTo>
                  <a:pt x="13565" y="11496"/>
                  <a:pt x="13896" y="10800"/>
                  <a:pt x="14496" y="10800"/>
                </a:cubicBezTo>
                <a:cubicBezTo>
                  <a:pt x="15628" y="10800"/>
                  <a:pt x="16524" y="9434"/>
                  <a:pt x="16524" y="7849"/>
                </a:cubicBezTo>
                <a:cubicBezTo>
                  <a:pt x="16524" y="5534"/>
                  <a:pt x="14670" y="3794"/>
                  <a:pt x="12459" y="3794"/>
                </a:cubicBezTo>
                <a:cubicBezTo>
                  <a:pt x="10249" y="3794"/>
                  <a:pt x="8578" y="5534"/>
                  <a:pt x="8578" y="7849"/>
                </a:cubicBezTo>
                <a:lnTo>
                  <a:pt x="10431" y="7849"/>
                </a:lnTo>
                <a:cubicBezTo>
                  <a:pt x="10431" y="6709"/>
                  <a:pt x="11354" y="5821"/>
                  <a:pt x="12459" y="5821"/>
                </a:cubicBezTo>
                <a:cubicBezTo>
                  <a:pt x="13565" y="5821"/>
                  <a:pt x="14496" y="6709"/>
                  <a:pt x="14496" y="7849"/>
                </a:cubicBezTo>
                <a:cubicBezTo>
                  <a:pt x="14496" y="8589"/>
                  <a:pt x="14026" y="9320"/>
                  <a:pt x="13565" y="9320"/>
                </a:cubicBezTo>
                <a:cubicBezTo>
                  <a:pt x="12459" y="9320"/>
                  <a:pt x="11354" y="10800"/>
                  <a:pt x="11354" y="12323"/>
                </a:cubicBezTo>
                <a:lnTo>
                  <a:pt x="11354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07:02Z</dcterms:created>
  <dc:creator>Лена</dc:creator>
  <dc:description/>
  <dc:language>en-US</dc:language>
  <cp:lastModifiedBy>Усольцева Э.М-А.</cp:lastModifiedBy>
  <dcterms:modified xsi:type="dcterms:W3CDTF">2013-12-01T14:20:03Z</dcterms:modified>
  <cp:revision>18</cp:revision>
  <dc:subject/>
  <dc:title>Презентация PowerPoint</dc:title>
</cp:coreProperties>
</file>