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3766-77FE-432F-B2E8-9F9B3430C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8E92-809A-4CFE-B4CE-588B91A7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D4A0-5DE2-4554-BF7F-A075F38B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66D8-FB1E-465B-8979-8C6BCCE1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F6A7-A77E-4ADF-8B0D-0D93BFC3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F3D9-8612-41A0-8736-ECEDBDC0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A3D0-713C-433B-BBCE-7A9C4D58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3BD8-D1AC-451F-B52E-4FF4CCE0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9677-2B42-4CD2-87C6-8F665E5A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D66B-3F03-4D51-9529-375C5DC9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6C96-E056-4E75-B86C-64640BEA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8C5C-2643-4DD9-A5EA-7A790734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0308-AE5D-4E12-8C75-B6F89C7721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5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18.xml"/><Relationship Id="rId16" Type="http://schemas.openxmlformats.org/officeDocument/2006/relationships/slide" Target="slide19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2.xml"/><Relationship Id="rId20" Type="http://schemas.openxmlformats.org/officeDocument/2006/relationships/slide" Target="slide23.xml"/><Relationship Id="rId21" Type="http://schemas.openxmlformats.org/officeDocument/2006/relationships/slide" Target="slide24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3.xml"/><Relationship Id="rId2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0_ae170_269a0ecc_L.png"/>
          <p:cNvPicPr/>
          <p:nvPr/>
        </p:nvPicPr>
        <p:blipFill>
          <a:blip r:embed="rId1"/>
          <a:stretch/>
        </p:blipFill>
        <p:spPr>
          <a:xfrm>
            <a:off x="324000" y="1989000"/>
            <a:ext cx="4176720" cy="380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9640" y="206064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                                           </a:t>
            </a: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для учащихся 5 клас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8ed5"/>
                </a:solidFill>
                <a:latin typeface="Calibri"/>
              </a:rPr>
              <a:t>Состави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Calibri"/>
              </a:rPr>
              <a:t>учитель технолог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Calibri"/>
              </a:rPr>
              <a:t>Муниципального  бюджетного  образовательного  учрежд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558ed5"/>
                </a:solidFill>
                <a:latin typeface="Calibri"/>
              </a:rPr>
              <a:t>«Семьинская  основна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Calibri"/>
              </a:rPr>
              <a:t>Юрьев-Польского района, Владимир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Calibri"/>
              </a:rPr>
              <a:t>Георгиевский Сергей Андрееви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Calibri"/>
              </a:rPr>
              <a:t>2014 г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2"/>
          <a:stretch/>
        </p:blipFill>
        <p:spPr>
          <a:xfrm>
            <a:off x="-92160" y="79200"/>
            <a:ext cx="9364680" cy="19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 он решать задачк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ильно считать собач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гемота – танцева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слона в футбол игр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учитель для звер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ови его скор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 Дрессировщи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5-конечная звезда 4"/>
          <p:cNvSpPr/>
          <p:nvPr/>
        </p:nvSpPr>
        <p:spPr>
          <a:xfrm>
            <a:off x="7643880" y="5214960"/>
            <a:ext cx="1071360" cy="928800"/>
          </a:xfrm>
          <a:custGeom>
            <a:avLst/>
            <a:gdLst>
              <a:gd name="textAreaLeft" fmla="*/ 330840 w 1071360"/>
              <a:gd name="textAreaRight" fmla="*/ 740520 w 1071360"/>
              <a:gd name="textAreaTop" fmla="*/ 354600 h 928800"/>
              <a:gd name="textAreaBottom" fmla="*/ 709560 h 928800"/>
            </a:gdLst>
            <a:ahLst/>
            <a:rect l="textAreaLeft" t="textAreaTop" r="textAreaRight" b="textAreaBottom"/>
            <a:pathLst>
              <a:path w="1071562" h="928687">
                <a:moveTo>
                  <a:pt x="1" y="354726"/>
                </a:moveTo>
                <a:lnTo>
                  <a:pt x="409303" y="354728"/>
                </a:lnTo>
                <a:lnTo>
                  <a:pt x="535781" y="0"/>
                </a:lnTo>
                <a:lnTo>
                  <a:pt x="662259" y="354728"/>
                </a:lnTo>
                <a:lnTo>
                  <a:pt x="1071561" y="354726"/>
                </a:lnTo>
                <a:lnTo>
                  <a:pt x="740428" y="573957"/>
                </a:lnTo>
                <a:lnTo>
                  <a:pt x="866912" y="928684"/>
                </a:lnTo>
                <a:lnTo>
                  <a:pt x="535781" y="709449"/>
                </a:lnTo>
                <a:lnTo>
                  <a:pt x="204650" y="928684"/>
                </a:lnTo>
                <a:lnTo>
                  <a:pt x="331134" y="573957"/>
                </a:lnTo>
                <a:close/>
              </a:path>
            </a:pathLst>
          </a:custGeom>
          <a:solidFill>
            <a:srgbClr val="cf3db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 этой волшебниц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ой художниц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 кисти и краски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 гребень и ножниц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Парикмахер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5-конечная звезда 3"/>
          <p:cNvSpPr/>
          <p:nvPr/>
        </p:nvSpPr>
        <p:spPr>
          <a:xfrm>
            <a:off x="7643880" y="5214960"/>
            <a:ext cx="1071360" cy="928800"/>
          </a:xfrm>
          <a:custGeom>
            <a:avLst/>
            <a:gdLst>
              <a:gd name="textAreaLeft" fmla="*/ 330840 w 1071360"/>
              <a:gd name="textAreaRight" fmla="*/ 740520 w 1071360"/>
              <a:gd name="textAreaTop" fmla="*/ 354600 h 928800"/>
              <a:gd name="textAreaBottom" fmla="*/ 709560 h 928800"/>
            </a:gdLst>
            <a:ahLst/>
            <a:rect l="textAreaLeft" t="textAreaTop" r="textAreaRight" b="textAreaBottom"/>
            <a:pathLst>
              <a:path w="1071562" h="928687">
                <a:moveTo>
                  <a:pt x="1" y="354726"/>
                </a:moveTo>
                <a:lnTo>
                  <a:pt x="409303" y="354728"/>
                </a:lnTo>
                <a:lnTo>
                  <a:pt x="535781" y="0"/>
                </a:lnTo>
                <a:lnTo>
                  <a:pt x="662259" y="354728"/>
                </a:lnTo>
                <a:lnTo>
                  <a:pt x="1071561" y="354726"/>
                </a:lnTo>
                <a:lnTo>
                  <a:pt x="740428" y="573957"/>
                </a:lnTo>
                <a:lnTo>
                  <a:pt x="866912" y="928684"/>
                </a:lnTo>
                <a:lnTo>
                  <a:pt x="535781" y="709449"/>
                </a:lnTo>
                <a:lnTo>
                  <a:pt x="204650" y="928684"/>
                </a:lnTo>
                <a:lnTo>
                  <a:pt x="331134" y="573957"/>
                </a:lnTo>
                <a:close/>
              </a:path>
            </a:pathLst>
          </a:custGeom>
          <a:solidFill>
            <a:srgbClr val="cf3db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 работе день-деньско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н командует руко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днимает та ру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о пудов под обла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Крановщик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5-конечная звезда 3">
            <a:hlinkClick r:id="rId1" action="ppaction://hlinksldjump"/>
          </p:cNvPr>
          <p:cNvSpPr/>
          <p:nvPr/>
        </p:nvSpPr>
        <p:spPr>
          <a:xfrm>
            <a:off x="7715160" y="5000760"/>
            <a:ext cx="928800" cy="928440"/>
          </a:xfrm>
          <a:custGeom>
            <a:avLst/>
            <a:gdLst>
              <a:gd name="textAreaLeft" fmla="*/ 286920 w 928800"/>
              <a:gd name="textAreaRight" fmla="*/ 641880 w 928800"/>
              <a:gd name="textAreaTop" fmla="*/ 354600 h 928440"/>
              <a:gd name="textAreaBottom" fmla="*/ 709200 h 928440"/>
            </a:gdLst>
            <a:ahLst/>
            <a:rect l="textAreaLeft" t="textAreaTop" r="textAreaRight" b="textAreaBottom"/>
            <a:pathLst>
              <a:path w="928688" h="928688">
                <a:moveTo>
                  <a:pt x="1" y="354726"/>
                </a:moveTo>
                <a:lnTo>
                  <a:pt x="354729" y="354729"/>
                </a:lnTo>
                <a:lnTo>
                  <a:pt x="464344" y="0"/>
                </a:lnTo>
                <a:lnTo>
                  <a:pt x="573959" y="354729"/>
                </a:lnTo>
                <a:lnTo>
                  <a:pt x="928687" y="354726"/>
                </a:lnTo>
                <a:lnTo>
                  <a:pt x="641705" y="573958"/>
                </a:lnTo>
                <a:lnTo>
                  <a:pt x="751325" y="928685"/>
                </a:lnTo>
                <a:lnTo>
                  <a:pt x="464344" y="709450"/>
                </a:lnTo>
                <a:lnTo>
                  <a:pt x="177363" y="928685"/>
                </a:lnTo>
                <a:lnTo>
                  <a:pt x="286983" y="573958"/>
                </a:lnTo>
                <a:close/>
              </a:path>
            </a:pathLst>
          </a:custGeom>
          <a:solidFill>
            <a:srgbClr val="cf3db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леб ржаной, батоны, бул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 добудешь на прогул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юди хлеб в полях лелеют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л для хлеба не жалею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Хлебороб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5-конечная звезда 3">
            <a:hlinkClick r:id="rId1" action="ppaction://hlinksldjump"/>
          </p:cNvPr>
          <p:cNvSpPr/>
          <p:nvPr/>
        </p:nvSpPr>
        <p:spPr>
          <a:xfrm>
            <a:off x="7786800" y="4857840"/>
            <a:ext cx="1000080" cy="1143000"/>
          </a:xfrm>
          <a:custGeom>
            <a:avLst/>
            <a:gdLst>
              <a:gd name="textAreaLeft" fmla="*/ 308880 w 1000080"/>
              <a:gd name="textAreaRight" fmla="*/ 691200 w 1000080"/>
              <a:gd name="textAreaTop" fmla="*/ 436680 h 1143000"/>
              <a:gd name="textAreaBottom" fmla="*/ 873360 h 1143000"/>
            </a:gdLst>
            <a:ahLst/>
            <a:rect l="textAreaLeft" t="textAreaTop" r="textAreaRight" b="textAreaBottom"/>
            <a:pathLst>
              <a:path w="1000125" h="1143000">
                <a:moveTo>
                  <a:pt x="1" y="436586"/>
                </a:moveTo>
                <a:lnTo>
                  <a:pt x="382016" y="436589"/>
                </a:lnTo>
                <a:lnTo>
                  <a:pt x="500063" y="0"/>
                </a:lnTo>
                <a:lnTo>
                  <a:pt x="618109" y="436589"/>
                </a:lnTo>
                <a:lnTo>
                  <a:pt x="1000124" y="436586"/>
                </a:lnTo>
                <a:lnTo>
                  <a:pt x="691066" y="706409"/>
                </a:lnTo>
                <a:lnTo>
                  <a:pt x="809118" y="1142996"/>
                </a:lnTo>
                <a:lnTo>
                  <a:pt x="500063" y="873168"/>
                </a:lnTo>
                <a:lnTo>
                  <a:pt x="191007" y="1142996"/>
                </a:lnTo>
                <a:lnTo>
                  <a:pt x="309059" y="706409"/>
                </a:lnTo>
                <a:close/>
              </a:path>
            </a:pathLst>
          </a:custGeom>
          <a:solidFill>
            <a:srgbClr val="cf3db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виженья плавны, ловки 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 занимать сноровки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ля лошади подков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гновенье и готов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 Кузнецы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5-конечная звезда 3">
            <a:hlinkClick r:id="rId1" action="ppaction://hlinksldjump"/>
          </p:cNvPr>
          <p:cNvSpPr/>
          <p:nvPr/>
        </p:nvSpPr>
        <p:spPr>
          <a:xfrm>
            <a:off x="7643880" y="471492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cf3db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зеркальном на катке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единственном коньке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н проехался разок —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 распался весь каток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Стеклорез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5-конечная звезда 3">
            <a:hlinkClick r:id="rId1" action="ppaction://hlinksldjump"/>
          </p:cNvPr>
          <p:cNvSpPr/>
          <p:nvPr/>
        </p:nvSpPr>
        <p:spPr>
          <a:xfrm>
            <a:off x="7715160" y="4929120"/>
            <a:ext cx="928800" cy="1000080"/>
          </a:xfrm>
          <a:custGeom>
            <a:avLst/>
            <a:gdLst>
              <a:gd name="textAreaLeft" fmla="*/ 286920 w 928800"/>
              <a:gd name="textAreaRight" fmla="*/ 641880 w 928800"/>
              <a:gd name="textAreaTop" fmla="*/ 381960 h 1000080"/>
              <a:gd name="textAreaBottom" fmla="*/ 763920 h 1000080"/>
            </a:gdLst>
            <a:ahLst/>
            <a:rect l="textAreaLeft" t="textAreaTop" r="textAreaRight" b="textAreaBottom"/>
            <a:pathLst>
              <a:path w="928688" h="1000125">
                <a:moveTo>
                  <a:pt x="1" y="382013"/>
                </a:moveTo>
                <a:lnTo>
                  <a:pt x="354729" y="382015"/>
                </a:lnTo>
                <a:lnTo>
                  <a:pt x="464344" y="0"/>
                </a:lnTo>
                <a:lnTo>
                  <a:pt x="573959" y="382015"/>
                </a:lnTo>
                <a:lnTo>
                  <a:pt x="928687" y="382013"/>
                </a:lnTo>
                <a:lnTo>
                  <a:pt x="641705" y="618108"/>
                </a:lnTo>
                <a:lnTo>
                  <a:pt x="751325" y="1000122"/>
                </a:lnTo>
                <a:lnTo>
                  <a:pt x="464344" y="764022"/>
                </a:lnTo>
                <a:lnTo>
                  <a:pt x="177363" y="1000122"/>
                </a:lnTo>
                <a:lnTo>
                  <a:pt x="286983" y="618108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Я у людей всегда в ходу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оть мой характер крут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де надо стукнуть — я приду, -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дь мой ударный труд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Молоток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5-конечная звезда 3">
            <a:hlinkClick r:id="rId1" action="ppaction://hlinksldjump"/>
          </p:cNvPr>
          <p:cNvSpPr/>
          <p:nvPr/>
        </p:nvSpPr>
        <p:spPr>
          <a:xfrm>
            <a:off x="7715160" y="5000760"/>
            <a:ext cx="1000080" cy="1000080"/>
          </a:xfrm>
          <a:custGeom>
            <a:avLst/>
            <a:gdLst>
              <a:gd name="textAreaLeft" fmla="*/ 308880 w 1000080"/>
              <a:gd name="textAreaRight" fmla="*/ 691200 w 1000080"/>
              <a:gd name="textAreaTop" fmla="*/ 381960 h 1000080"/>
              <a:gd name="textAreaBottom" fmla="*/ 763920 h 1000080"/>
            </a:gdLst>
            <a:ahLst/>
            <a:rect l="textAreaLeft" t="textAreaTop" r="textAreaRight" b="textAreaBottom"/>
            <a:pathLst>
              <a:path w="1000125" h="1000125">
                <a:moveTo>
                  <a:pt x="1" y="382013"/>
                </a:moveTo>
                <a:lnTo>
                  <a:pt x="382016" y="382015"/>
                </a:lnTo>
                <a:lnTo>
                  <a:pt x="500063" y="0"/>
                </a:lnTo>
                <a:lnTo>
                  <a:pt x="618109" y="382015"/>
                </a:lnTo>
                <a:lnTo>
                  <a:pt x="1000124" y="382013"/>
                </a:lnTo>
                <a:lnTo>
                  <a:pt x="691066" y="618108"/>
                </a:lnTo>
                <a:lnTo>
                  <a:pt x="809118" y="1000122"/>
                </a:lnTo>
                <a:lnTo>
                  <a:pt x="500063" y="764022"/>
                </a:lnTo>
                <a:lnTo>
                  <a:pt x="191007" y="1000122"/>
                </a:lnTo>
                <a:lnTo>
                  <a:pt x="309059" y="618108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от каменный круг —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нструментам лучший друг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звихрит искры над собою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трым сделает тупо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Точило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5-конечная звезда 4">
            <a:hlinkClick r:id="rId1" action="ppaction://hlinksldjump"/>
          </p:cNvPr>
          <p:cNvSpPr/>
          <p:nvPr/>
        </p:nvSpPr>
        <p:spPr>
          <a:xfrm>
            <a:off x="7786800" y="5000760"/>
            <a:ext cx="928440" cy="928440"/>
          </a:xfrm>
          <a:custGeom>
            <a:avLst/>
            <a:gdLst>
              <a:gd name="textAreaLeft" fmla="*/ 286920 w 928440"/>
              <a:gd name="textAreaRight" fmla="*/ 641520 w 928440"/>
              <a:gd name="textAreaTop" fmla="*/ 354600 h 928440"/>
              <a:gd name="textAreaBottom" fmla="*/ 709200 h 928440"/>
            </a:gdLst>
            <a:ahLst/>
            <a:rect l="textAreaLeft" t="textAreaTop" r="textAreaRight" b="textAreaBottom"/>
            <a:pathLst>
              <a:path w="928687" h="928688">
                <a:moveTo>
                  <a:pt x="1" y="354726"/>
                </a:moveTo>
                <a:lnTo>
                  <a:pt x="354729" y="354729"/>
                </a:lnTo>
                <a:lnTo>
                  <a:pt x="464344" y="0"/>
                </a:lnTo>
                <a:lnTo>
                  <a:pt x="573958" y="354729"/>
                </a:lnTo>
                <a:lnTo>
                  <a:pt x="928686" y="354726"/>
                </a:lnTo>
                <a:lnTo>
                  <a:pt x="641704" y="573958"/>
                </a:lnTo>
                <a:lnTo>
                  <a:pt x="751324" y="928685"/>
                </a:lnTo>
                <a:lnTo>
                  <a:pt x="464344" y="709450"/>
                </a:lnTo>
                <a:lnTo>
                  <a:pt x="177363" y="928685"/>
                </a:lnTo>
                <a:lnTo>
                  <a:pt x="286983" y="573958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за слово, угада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и в нём — загадки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ая—нот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торая-игр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ое встретится у столяр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Долот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5-конечная звезда 3"/>
          <p:cNvSpPr/>
          <p:nvPr/>
        </p:nvSpPr>
        <p:spPr>
          <a:xfrm>
            <a:off x="7929720" y="5143680"/>
            <a:ext cx="857160" cy="857160"/>
          </a:xfrm>
          <a:custGeom>
            <a:avLst/>
            <a:gdLst>
              <a:gd name="textAreaLeft" fmla="*/ 264960 w 857160"/>
              <a:gd name="textAreaRight" fmla="*/ 592200 w 857160"/>
              <a:gd name="textAreaTop" fmla="*/ 327240 h 857160"/>
              <a:gd name="textAreaBottom" fmla="*/ 654840 h 857160"/>
            </a:gdLst>
            <a:ahLst/>
            <a:rect l="textAreaLeft" t="textAreaTop" r="textAreaRight" b="textAreaBottom"/>
            <a:pathLst>
              <a:path w="857250" h="857250">
                <a:moveTo>
                  <a:pt x="1" y="327439"/>
                </a:moveTo>
                <a:lnTo>
                  <a:pt x="327442" y="327442"/>
                </a:lnTo>
                <a:lnTo>
                  <a:pt x="428625" y="0"/>
                </a:lnTo>
                <a:lnTo>
                  <a:pt x="529808" y="327442"/>
                </a:lnTo>
                <a:lnTo>
                  <a:pt x="857249" y="327439"/>
                </a:lnTo>
                <a:lnTo>
                  <a:pt x="592342" y="529807"/>
                </a:lnTo>
                <a:lnTo>
                  <a:pt x="693530" y="857247"/>
                </a:lnTo>
                <a:lnTo>
                  <a:pt x="428625" y="654876"/>
                </a:lnTo>
                <a:lnTo>
                  <a:pt x="163720" y="857247"/>
                </a:lnTo>
                <a:lnTo>
                  <a:pt x="264908" y="529807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любопытный инструмент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знаю всё в один момент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зде сую свой нос вито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ткну дыру в стен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узнать, а что на то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тной стороне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Сверл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5-конечная звезда 3"/>
          <p:cNvSpPr/>
          <p:nvPr/>
        </p:nvSpPr>
        <p:spPr>
          <a:xfrm>
            <a:off x="7643880" y="4929120"/>
            <a:ext cx="1071360" cy="1071720"/>
          </a:xfrm>
          <a:custGeom>
            <a:avLst/>
            <a:gdLst>
              <a:gd name="textAreaLeft" fmla="*/ 330840 w 1071360"/>
              <a:gd name="textAreaRight" fmla="*/ 740520 w 1071360"/>
              <a:gd name="textAreaTop" fmla="*/ 409320 h 1071720"/>
              <a:gd name="textAreaBottom" fmla="*/ 818640 h 1071720"/>
            </a:gdLst>
            <a:ahLst/>
            <a:rect l="textAreaLeft" t="textAreaTop" r="textAreaRight" b="textAreaBottom"/>
            <a:pathLst>
              <a:path w="1071562" h="1071562">
                <a:moveTo>
                  <a:pt x="1" y="409299"/>
                </a:moveTo>
                <a:lnTo>
                  <a:pt x="409303" y="409302"/>
                </a:lnTo>
                <a:lnTo>
                  <a:pt x="535781" y="0"/>
                </a:lnTo>
                <a:lnTo>
                  <a:pt x="662259" y="409302"/>
                </a:lnTo>
                <a:lnTo>
                  <a:pt x="1071561" y="409299"/>
                </a:lnTo>
                <a:lnTo>
                  <a:pt x="740428" y="662258"/>
                </a:lnTo>
                <a:lnTo>
                  <a:pt x="866912" y="1071558"/>
                </a:lnTo>
                <a:lnTo>
                  <a:pt x="535781" y="818595"/>
                </a:lnTo>
                <a:lnTo>
                  <a:pt x="204650" y="1071558"/>
                </a:lnTo>
                <a:lnTo>
                  <a:pt x="331134" y="662258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Группа 40"/>
          <p:cNvGrpSpPr/>
          <p:nvPr/>
        </p:nvGrpSpPr>
        <p:grpSpPr>
          <a:xfrm>
            <a:off x="344520" y="851040"/>
            <a:ext cx="8475480" cy="4947480"/>
            <a:chOff x="344520" y="851040"/>
            <a:chExt cx="8475480" cy="4947480"/>
          </a:xfrm>
        </p:grpSpPr>
        <p:sp>
          <p:nvSpPr>
            <p:cNvPr id="45" name="Скругленный прямоугольник 3"/>
            <p:cNvSpPr/>
            <p:nvPr/>
          </p:nvSpPr>
          <p:spPr>
            <a:xfrm>
              <a:off x="357480" y="2208240"/>
              <a:ext cx="2571480" cy="1071360"/>
            </a:xfrm>
            <a:prstGeom prst="roundRect">
              <a:avLst>
                <a:gd name="adj" fmla="val 16667"/>
              </a:avLst>
            </a:prstGeom>
            <a:solidFill>
              <a:srgbClr val="cf3dbe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Скругленный прямоугольник 6"/>
            <p:cNvSpPr/>
            <p:nvPr/>
          </p:nvSpPr>
          <p:spPr>
            <a:xfrm>
              <a:off x="357480" y="4714200"/>
              <a:ext cx="2571480" cy="10713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Скругленный прямоугольник 7"/>
            <p:cNvSpPr/>
            <p:nvPr/>
          </p:nvSpPr>
          <p:spPr>
            <a:xfrm>
              <a:off x="344520" y="851040"/>
              <a:ext cx="257148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Пословицы и поговорк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о труд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Скругленный прямоугольник 8"/>
            <p:cNvSpPr/>
            <p:nvPr/>
          </p:nvSpPr>
          <p:spPr>
            <a:xfrm>
              <a:off x="357480" y="3494160"/>
              <a:ext cx="2571480" cy="107136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Box 10"/>
            <p:cNvSpPr/>
            <p:nvPr/>
          </p:nvSpPr>
          <p:spPr>
            <a:xfrm>
              <a:off x="571680" y="2279520"/>
              <a:ext cx="2071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Загадки о  профессия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Box 11"/>
            <p:cNvSpPr/>
            <p:nvPr/>
          </p:nvSpPr>
          <p:spPr>
            <a:xfrm>
              <a:off x="643320" y="3637080"/>
              <a:ext cx="207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Загадки об инструмента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12"/>
            <p:cNvSpPr/>
            <p:nvPr/>
          </p:nvSpPr>
          <p:spPr>
            <a:xfrm>
              <a:off x="643320" y="4851360"/>
              <a:ext cx="2142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Загадки-обман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Скругленный прямоугольник 15"/>
            <p:cNvSpPr/>
            <p:nvPr/>
          </p:nvSpPr>
          <p:spPr>
            <a:xfrm>
              <a:off x="3214800" y="851040"/>
              <a:ext cx="785520" cy="114300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143000"/>
                <a:gd name="textAreaBottom" fmla="*/ 1104840 h 1143000"/>
              </a:gdLst>
              <a:ahLst/>
              <a:rect l="textAreaLeft" t="textAreaTop" r="textAreaRight" b="textAreaBottom"/>
              <a:pathLst>
                <a:path w="21600" h="31425">
                  <a:moveTo>
                    <a:pt x="3600" y="0"/>
                  </a:moveTo>
                  <a:arcTo wR="3600" hR="3600" stAng="16200000" swAng="-5400000"/>
                  <a:lnTo>
                    <a:pt x="0" y="27825"/>
                  </a:lnTo>
                  <a:arcTo wR="3600" hR="3600" stAng="10800000" swAng="-5400000"/>
                  <a:lnTo>
                    <a:pt x="18000" y="314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Скругленный прямоугольник 17"/>
            <p:cNvSpPr/>
            <p:nvPr/>
          </p:nvSpPr>
          <p:spPr>
            <a:xfrm>
              <a:off x="4143240" y="851040"/>
              <a:ext cx="785520" cy="114300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143000"/>
                <a:gd name="textAreaBottom" fmla="*/ 1104840 h 1143000"/>
              </a:gdLst>
              <a:ahLst/>
              <a:rect l="textAreaLeft" t="textAreaTop" r="textAreaRight" b="textAreaBottom"/>
              <a:pathLst>
                <a:path w="21600" h="31425">
                  <a:moveTo>
                    <a:pt x="3600" y="0"/>
                  </a:moveTo>
                  <a:arcTo wR="3600" hR="3600" stAng="16200000" swAng="-5400000"/>
                  <a:lnTo>
                    <a:pt x="0" y="27825"/>
                  </a:lnTo>
                  <a:arcTo wR="3600" hR="3600" stAng="10800000" swAng="-5400000"/>
                  <a:lnTo>
                    <a:pt x="18000" y="314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" action="ppaction://hlinksldjump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Скругленный прямоугольник 18"/>
            <p:cNvSpPr/>
            <p:nvPr/>
          </p:nvSpPr>
          <p:spPr>
            <a:xfrm>
              <a:off x="5076000" y="851040"/>
              <a:ext cx="785520" cy="114300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143000"/>
                <a:gd name="textAreaBottom" fmla="*/ 1104840 h 1143000"/>
              </a:gdLst>
              <a:ahLst/>
              <a:rect l="textAreaLeft" t="textAreaTop" r="textAreaRight" b="textAreaBottom"/>
              <a:pathLst>
                <a:path w="21600" h="31425">
                  <a:moveTo>
                    <a:pt x="3600" y="0"/>
                  </a:moveTo>
                  <a:arcTo wR="3600" hR="3600" stAng="16200000" swAng="-5400000"/>
                  <a:lnTo>
                    <a:pt x="0" y="27825"/>
                  </a:lnTo>
                  <a:arcTo wR="3600" hR="3600" stAng="10800000" swAng="-5400000"/>
                  <a:lnTo>
                    <a:pt x="18000" y="314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Скругленный прямоугольник 19"/>
            <p:cNvSpPr/>
            <p:nvPr/>
          </p:nvSpPr>
          <p:spPr>
            <a:xfrm>
              <a:off x="6084000" y="851040"/>
              <a:ext cx="785520" cy="114300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143000"/>
                <a:gd name="textAreaBottom" fmla="*/ 1104840 h 1143000"/>
              </a:gdLst>
              <a:ahLst/>
              <a:rect l="textAreaLeft" t="textAreaTop" r="textAreaRight" b="textAreaBottom"/>
              <a:pathLst>
                <a:path w="21600" h="31425">
                  <a:moveTo>
                    <a:pt x="3600" y="0"/>
                  </a:moveTo>
                  <a:arcTo wR="3600" hR="3600" stAng="16200000" swAng="-5400000"/>
                  <a:lnTo>
                    <a:pt x="0" y="27825"/>
                  </a:lnTo>
                  <a:arcTo wR="3600" hR="3600" stAng="10800000" swAng="-5400000"/>
                  <a:lnTo>
                    <a:pt x="18000" y="314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3" action="ppaction://hlinksldjump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Скругленный прямоугольник 20"/>
            <p:cNvSpPr/>
            <p:nvPr/>
          </p:nvSpPr>
          <p:spPr>
            <a:xfrm>
              <a:off x="7020000" y="851040"/>
              <a:ext cx="785520" cy="114300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143000"/>
                <a:gd name="textAreaBottom" fmla="*/ 1104840 h 1143000"/>
              </a:gdLst>
              <a:ahLst/>
              <a:rect l="textAreaLeft" t="textAreaTop" r="textAreaRight" b="textAreaBottom"/>
              <a:pathLst>
                <a:path w="21600" h="31425">
                  <a:moveTo>
                    <a:pt x="3600" y="0"/>
                  </a:moveTo>
                  <a:arcTo wR="3600" hR="3600" stAng="16200000" swAng="-5400000"/>
                  <a:lnTo>
                    <a:pt x="0" y="27825"/>
                  </a:lnTo>
                  <a:arcTo wR="3600" hR="3600" stAng="10800000" swAng="-5400000"/>
                  <a:lnTo>
                    <a:pt x="18000" y="314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4" action="ppaction://hlinksldjump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Скругленный прямоугольник 21"/>
            <p:cNvSpPr/>
            <p:nvPr/>
          </p:nvSpPr>
          <p:spPr>
            <a:xfrm>
              <a:off x="7956000" y="851040"/>
              <a:ext cx="785520" cy="114300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143000"/>
                <a:gd name="textAreaBottom" fmla="*/ 1104840 h 1143000"/>
              </a:gdLst>
              <a:ahLst/>
              <a:rect l="textAreaLeft" t="textAreaTop" r="textAreaRight" b="textAreaBottom"/>
              <a:pathLst>
                <a:path w="21600" h="31425">
                  <a:moveTo>
                    <a:pt x="3600" y="0"/>
                  </a:moveTo>
                  <a:arcTo wR="3600" hR="3600" stAng="16200000" swAng="-5400000"/>
                  <a:lnTo>
                    <a:pt x="0" y="27825"/>
                  </a:lnTo>
                  <a:arcTo wR="3600" hR="3600" stAng="10800000" swAng="-5400000"/>
                  <a:lnTo>
                    <a:pt x="18000" y="314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Скругленный прямоугольник 22"/>
            <p:cNvSpPr/>
            <p:nvPr/>
          </p:nvSpPr>
          <p:spPr>
            <a:xfrm>
              <a:off x="3214800" y="2208240"/>
              <a:ext cx="785520" cy="107136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071360"/>
                <a:gd name="textAreaBottom" fmla="*/ 1033200 h 1071360"/>
              </a:gdLst>
              <a:ahLst/>
              <a:rect l="textAreaLeft" t="textAreaTop" r="textAreaRight" b="textAreaBottom"/>
              <a:pathLst>
                <a:path w="21600" h="29456">
                  <a:moveTo>
                    <a:pt x="3600" y="0"/>
                  </a:moveTo>
                  <a:arcTo wR="3600" hR="3600" stAng="16200000" swAng="-5400000"/>
                  <a:lnTo>
                    <a:pt x="0" y="25856"/>
                  </a:lnTo>
                  <a:arcTo wR="3600" hR="3600" stAng="10800000" swAng="-5400000"/>
                  <a:lnTo>
                    <a:pt x="18000" y="29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f3dbe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6" action="ppaction://hlinksldjump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Скругленный прямоугольник 23"/>
            <p:cNvSpPr/>
            <p:nvPr/>
          </p:nvSpPr>
          <p:spPr>
            <a:xfrm>
              <a:off x="3214800" y="3494160"/>
              <a:ext cx="785520" cy="107136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071360"/>
                <a:gd name="textAreaBottom" fmla="*/ 1033200 h 1071360"/>
              </a:gdLst>
              <a:ahLst/>
              <a:rect l="textAreaLeft" t="textAreaTop" r="textAreaRight" b="textAreaBottom"/>
              <a:pathLst>
                <a:path w="21600" h="29456">
                  <a:moveTo>
                    <a:pt x="3600" y="0"/>
                  </a:moveTo>
                  <a:arcTo wR="3600" hR="3600" stAng="16200000" swAng="-5400000"/>
                  <a:lnTo>
                    <a:pt x="0" y="25856"/>
                  </a:lnTo>
                  <a:arcTo wR="3600" hR="3600" stAng="10800000" swAng="-5400000"/>
                  <a:lnTo>
                    <a:pt x="18000" y="29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7" action="ppaction://hlinksldjump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Скругленный прямоугольник 24"/>
            <p:cNvSpPr/>
            <p:nvPr/>
          </p:nvSpPr>
          <p:spPr>
            <a:xfrm>
              <a:off x="4214880" y="2208240"/>
              <a:ext cx="785520" cy="107136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071360"/>
                <a:gd name="textAreaBottom" fmla="*/ 1033200 h 1071360"/>
              </a:gdLst>
              <a:ahLst/>
              <a:rect l="textAreaLeft" t="textAreaTop" r="textAreaRight" b="textAreaBottom"/>
              <a:pathLst>
                <a:path w="21600" h="29456">
                  <a:moveTo>
                    <a:pt x="3600" y="0"/>
                  </a:moveTo>
                  <a:arcTo wR="3600" hR="3600" stAng="16200000" swAng="-5400000"/>
                  <a:lnTo>
                    <a:pt x="0" y="25856"/>
                  </a:lnTo>
                  <a:arcTo wR="3600" hR="3600" stAng="10800000" swAng="-5400000"/>
                  <a:lnTo>
                    <a:pt x="18000" y="29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f3dbe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Скругленный прямоугольник 25"/>
            <p:cNvSpPr/>
            <p:nvPr/>
          </p:nvSpPr>
          <p:spPr>
            <a:xfrm>
              <a:off x="5148000" y="2202480"/>
              <a:ext cx="797040" cy="1071360"/>
            </a:xfrm>
            <a:custGeom>
              <a:avLst/>
              <a:gdLst>
                <a:gd name="textAreaLeft" fmla="*/ 38880 w 797040"/>
                <a:gd name="textAreaRight" fmla="*/ 758160 w 797040"/>
                <a:gd name="textAreaTop" fmla="*/ 38880 h 1071360"/>
                <a:gd name="textAreaBottom" fmla="*/ 1032480 h 1071360"/>
              </a:gdLst>
              <a:ahLst/>
              <a:rect l="textAreaLeft" t="textAreaTop" r="textAreaRight" b="textAreaBottom"/>
              <a:pathLst>
                <a:path w="21600" h="29031">
                  <a:moveTo>
                    <a:pt x="3600" y="0"/>
                  </a:moveTo>
                  <a:arcTo wR="3600" hR="3600" stAng="16200000" swAng="-5400000"/>
                  <a:lnTo>
                    <a:pt x="0" y="25431"/>
                  </a:lnTo>
                  <a:arcTo wR="3600" hR="3600" stAng="10800000" swAng="-5400000"/>
                  <a:lnTo>
                    <a:pt x="18000" y="290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f3dbe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9" action="ppaction://hlinksldjump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Скругленный прямоугольник 26"/>
            <p:cNvSpPr/>
            <p:nvPr/>
          </p:nvSpPr>
          <p:spPr>
            <a:xfrm>
              <a:off x="6143400" y="2202480"/>
              <a:ext cx="785520" cy="107136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071360"/>
                <a:gd name="textAreaBottom" fmla="*/ 1033200 h 1071360"/>
              </a:gdLst>
              <a:ahLst/>
              <a:rect l="textAreaLeft" t="textAreaTop" r="textAreaRight" b="textAreaBottom"/>
              <a:pathLst>
                <a:path w="21600" h="29456">
                  <a:moveTo>
                    <a:pt x="3600" y="0"/>
                  </a:moveTo>
                  <a:arcTo wR="3600" hR="3600" stAng="16200000" swAng="-5400000"/>
                  <a:lnTo>
                    <a:pt x="0" y="25856"/>
                  </a:lnTo>
                  <a:arcTo wR="3600" hR="3600" stAng="10800000" swAng="-5400000"/>
                  <a:lnTo>
                    <a:pt x="18000" y="29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f3dbe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0" action="ppaction://hlinksldjump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Скругленный прямоугольник 27"/>
            <p:cNvSpPr/>
            <p:nvPr/>
          </p:nvSpPr>
          <p:spPr>
            <a:xfrm>
              <a:off x="7072200" y="2202480"/>
              <a:ext cx="785520" cy="107136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071360"/>
                <a:gd name="textAreaBottom" fmla="*/ 1033200 h 1071360"/>
              </a:gdLst>
              <a:ahLst/>
              <a:rect l="textAreaLeft" t="textAreaTop" r="textAreaRight" b="textAreaBottom"/>
              <a:pathLst>
                <a:path w="21600" h="29456">
                  <a:moveTo>
                    <a:pt x="3600" y="0"/>
                  </a:moveTo>
                  <a:arcTo wR="3600" hR="3600" stAng="16200000" swAng="-5400000"/>
                  <a:lnTo>
                    <a:pt x="0" y="25856"/>
                  </a:lnTo>
                  <a:arcTo wR="3600" hR="3600" stAng="10800000" swAng="-5400000"/>
                  <a:lnTo>
                    <a:pt x="18000" y="29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f3dbe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1" action="ppaction://hlinksldjump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Скругленный прямоугольник 28"/>
            <p:cNvSpPr/>
            <p:nvPr/>
          </p:nvSpPr>
          <p:spPr>
            <a:xfrm>
              <a:off x="8028000" y="2202480"/>
              <a:ext cx="785520" cy="107136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071360"/>
                <a:gd name="textAreaBottom" fmla="*/ 1033200 h 1071360"/>
              </a:gdLst>
              <a:ahLst/>
              <a:rect l="textAreaLeft" t="textAreaTop" r="textAreaRight" b="textAreaBottom"/>
              <a:pathLst>
                <a:path w="21600" h="29456">
                  <a:moveTo>
                    <a:pt x="3600" y="0"/>
                  </a:moveTo>
                  <a:arcTo wR="3600" hR="3600" stAng="16200000" swAng="-5400000"/>
                  <a:lnTo>
                    <a:pt x="0" y="25856"/>
                  </a:lnTo>
                  <a:arcTo wR="3600" hR="3600" stAng="10800000" swAng="-5400000"/>
                  <a:lnTo>
                    <a:pt x="18000" y="29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f3dbe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2" action="ppaction://hlinksldjump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Скругленный прямоугольник 29"/>
            <p:cNvSpPr/>
            <p:nvPr/>
          </p:nvSpPr>
          <p:spPr>
            <a:xfrm>
              <a:off x="4214880" y="3494160"/>
              <a:ext cx="785520" cy="107136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071360"/>
                <a:gd name="textAreaBottom" fmla="*/ 1033200 h 1071360"/>
              </a:gdLst>
              <a:ahLst/>
              <a:rect l="textAreaLeft" t="textAreaTop" r="textAreaRight" b="textAreaBottom"/>
              <a:pathLst>
                <a:path w="21600" h="29456">
                  <a:moveTo>
                    <a:pt x="3600" y="0"/>
                  </a:moveTo>
                  <a:arcTo wR="3600" hR="3600" stAng="16200000" swAng="-5400000"/>
                  <a:lnTo>
                    <a:pt x="0" y="25856"/>
                  </a:lnTo>
                  <a:arcTo wR="3600" hR="3600" stAng="10800000" swAng="-5400000"/>
                  <a:lnTo>
                    <a:pt x="18000" y="29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3" action="ppaction://hlinksldjump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Скругленный прямоугольник 30"/>
            <p:cNvSpPr/>
            <p:nvPr/>
          </p:nvSpPr>
          <p:spPr>
            <a:xfrm>
              <a:off x="5214960" y="3498840"/>
              <a:ext cx="785520" cy="107136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071360"/>
                <a:gd name="textAreaBottom" fmla="*/ 1033200 h 1071360"/>
              </a:gdLst>
              <a:ahLst/>
              <a:rect l="textAreaLeft" t="textAreaTop" r="textAreaRight" b="textAreaBottom"/>
              <a:pathLst>
                <a:path w="21600" h="29456">
                  <a:moveTo>
                    <a:pt x="3600" y="0"/>
                  </a:moveTo>
                  <a:arcTo wR="3600" hR="3600" stAng="16200000" swAng="-5400000"/>
                  <a:lnTo>
                    <a:pt x="0" y="25856"/>
                  </a:lnTo>
                  <a:arcTo wR="3600" hR="3600" stAng="10800000" swAng="-5400000"/>
                  <a:lnTo>
                    <a:pt x="18000" y="29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4" action="ppaction://hlinksldjump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Скругленный прямоугольник 31"/>
            <p:cNvSpPr/>
            <p:nvPr/>
          </p:nvSpPr>
          <p:spPr>
            <a:xfrm>
              <a:off x="6156000" y="3498840"/>
              <a:ext cx="785520" cy="107136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071360"/>
                <a:gd name="textAreaBottom" fmla="*/ 1033200 h 1071360"/>
              </a:gdLst>
              <a:ahLst/>
              <a:rect l="textAreaLeft" t="textAreaTop" r="textAreaRight" b="textAreaBottom"/>
              <a:pathLst>
                <a:path w="21600" h="29456">
                  <a:moveTo>
                    <a:pt x="3600" y="0"/>
                  </a:moveTo>
                  <a:arcTo wR="3600" hR="3600" stAng="16200000" swAng="-5400000"/>
                  <a:lnTo>
                    <a:pt x="0" y="25856"/>
                  </a:lnTo>
                  <a:arcTo wR="3600" hR="3600" stAng="10800000" swAng="-5400000"/>
                  <a:lnTo>
                    <a:pt x="18000" y="29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5" action="ppaction://hlinksldjump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Скругленный прямоугольник 32"/>
            <p:cNvSpPr/>
            <p:nvPr/>
          </p:nvSpPr>
          <p:spPr>
            <a:xfrm>
              <a:off x="7092000" y="3498840"/>
              <a:ext cx="785520" cy="107136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071360"/>
                <a:gd name="textAreaBottom" fmla="*/ 1033200 h 1071360"/>
              </a:gdLst>
              <a:ahLst/>
              <a:rect l="textAreaLeft" t="textAreaTop" r="textAreaRight" b="textAreaBottom"/>
              <a:pathLst>
                <a:path w="21600" h="29456">
                  <a:moveTo>
                    <a:pt x="3600" y="0"/>
                  </a:moveTo>
                  <a:arcTo wR="3600" hR="3600" stAng="16200000" swAng="-5400000"/>
                  <a:lnTo>
                    <a:pt x="0" y="25856"/>
                  </a:lnTo>
                  <a:arcTo wR="3600" hR="3600" stAng="10800000" swAng="-5400000"/>
                  <a:lnTo>
                    <a:pt x="18000" y="29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6" action="ppaction://hlinksldjump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Скругленный прямоугольник 33"/>
            <p:cNvSpPr/>
            <p:nvPr/>
          </p:nvSpPr>
          <p:spPr>
            <a:xfrm>
              <a:off x="8028000" y="3498840"/>
              <a:ext cx="785520" cy="107136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071360"/>
                <a:gd name="textAreaBottom" fmla="*/ 1033200 h 1071360"/>
              </a:gdLst>
              <a:ahLst/>
              <a:rect l="textAreaLeft" t="textAreaTop" r="textAreaRight" b="textAreaBottom"/>
              <a:pathLst>
                <a:path w="21600" h="29456">
                  <a:moveTo>
                    <a:pt x="3600" y="0"/>
                  </a:moveTo>
                  <a:arcTo wR="3600" hR="3600" stAng="16200000" swAng="-5400000"/>
                  <a:lnTo>
                    <a:pt x="0" y="25856"/>
                  </a:lnTo>
                  <a:arcTo wR="3600" hR="3600" stAng="10800000" swAng="-5400000"/>
                  <a:lnTo>
                    <a:pt x="18000" y="29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7" action="ppaction://hlinksldjump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Скругленный прямоугольник 34"/>
            <p:cNvSpPr/>
            <p:nvPr/>
          </p:nvSpPr>
          <p:spPr>
            <a:xfrm>
              <a:off x="3214800" y="4722840"/>
              <a:ext cx="857160" cy="1071360"/>
            </a:xfrm>
            <a:custGeom>
              <a:avLst/>
              <a:gdLst>
                <a:gd name="textAreaLeft" fmla="*/ 41760 w 857160"/>
                <a:gd name="textAreaRight" fmla="*/ 815400 w 857160"/>
                <a:gd name="textAreaTop" fmla="*/ 41760 h 1071360"/>
                <a:gd name="textAreaBottom" fmla="*/ 1029600 h 1071360"/>
              </a:gdLst>
              <a:ahLst/>
              <a:rect l="textAreaLeft" t="textAreaTop" r="textAreaRight" b="textAreaBottom"/>
              <a:pathLst>
                <a:path w="21600" h="26995">
                  <a:moveTo>
                    <a:pt x="3600" y="0"/>
                  </a:moveTo>
                  <a:arcTo wR="3600" hR="3600" stAng="16200000" swAng="-5400000"/>
                  <a:lnTo>
                    <a:pt x="0" y="23395"/>
                  </a:lnTo>
                  <a:arcTo wR="3600" hR="3600" stAng="10800000" swAng="-5400000"/>
                  <a:lnTo>
                    <a:pt x="18000" y="269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8" action="ppaction://hlinksldjump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Скругленный прямоугольник 35"/>
            <p:cNvSpPr/>
            <p:nvPr/>
          </p:nvSpPr>
          <p:spPr>
            <a:xfrm>
              <a:off x="4214880" y="4722840"/>
              <a:ext cx="857160" cy="1071360"/>
            </a:xfrm>
            <a:custGeom>
              <a:avLst/>
              <a:gdLst>
                <a:gd name="textAreaLeft" fmla="*/ 41760 w 857160"/>
                <a:gd name="textAreaRight" fmla="*/ 815400 w 857160"/>
                <a:gd name="textAreaTop" fmla="*/ 41760 h 1071360"/>
                <a:gd name="textAreaBottom" fmla="*/ 1029600 h 1071360"/>
              </a:gdLst>
              <a:ahLst/>
              <a:rect l="textAreaLeft" t="textAreaTop" r="textAreaRight" b="textAreaBottom"/>
              <a:pathLst>
                <a:path w="21600" h="26995">
                  <a:moveTo>
                    <a:pt x="3600" y="0"/>
                  </a:moveTo>
                  <a:arcTo wR="3600" hR="3600" stAng="16200000" swAng="-5400000"/>
                  <a:lnTo>
                    <a:pt x="0" y="23395"/>
                  </a:lnTo>
                  <a:arcTo wR="3600" hR="3600" stAng="10800000" swAng="-5400000"/>
                  <a:lnTo>
                    <a:pt x="18000" y="269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9" action="ppaction://hlinksldjump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Скругленный прямоугольник 36"/>
            <p:cNvSpPr/>
            <p:nvPr/>
          </p:nvSpPr>
          <p:spPr>
            <a:xfrm>
              <a:off x="5214960" y="4722840"/>
              <a:ext cx="797040" cy="1071360"/>
            </a:xfrm>
            <a:custGeom>
              <a:avLst/>
              <a:gdLst>
                <a:gd name="textAreaLeft" fmla="*/ 38880 w 797040"/>
                <a:gd name="textAreaRight" fmla="*/ 758160 w 797040"/>
                <a:gd name="textAreaTop" fmla="*/ 38880 h 1071360"/>
                <a:gd name="textAreaBottom" fmla="*/ 1032480 h 1071360"/>
              </a:gdLst>
              <a:ahLst/>
              <a:rect l="textAreaLeft" t="textAreaTop" r="textAreaRight" b="textAreaBottom"/>
              <a:pathLst>
                <a:path w="21600" h="29031">
                  <a:moveTo>
                    <a:pt x="3600" y="0"/>
                  </a:moveTo>
                  <a:arcTo wR="3600" hR="3600" stAng="16200000" swAng="-5400000"/>
                  <a:lnTo>
                    <a:pt x="0" y="25431"/>
                  </a:lnTo>
                  <a:arcTo wR="3600" hR="3600" stAng="10800000" swAng="-5400000"/>
                  <a:lnTo>
                    <a:pt x="18000" y="290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0" action="ppaction://hlinksldjump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Скругленный прямоугольник 37"/>
            <p:cNvSpPr/>
            <p:nvPr/>
          </p:nvSpPr>
          <p:spPr>
            <a:xfrm>
              <a:off x="6156000" y="4722840"/>
              <a:ext cx="792000" cy="1071360"/>
            </a:xfrm>
            <a:custGeom>
              <a:avLst/>
              <a:gdLst>
                <a:gd name="textAreaLeft" fmla="*/ 38520 w 792000"/>
                <a:gd name="textAreaRight" fmla="*/ 753480 w 792000"/>
                <a:gd name="textAreaTop" fmla="*/ 38520 h 1071360"/>
                <a:gd name="textAreaBottom" fmla="*/ 1032840 h 1071360"/>
              </a:gdLst>
              <a:ahLst/>
              <a:rect l="textAreaLeft" t="textAreaTop" r="textAreaRight" b="textAreaBottom"/>
              <a:pathLst>
                <a:path w="21600" h="29215">
                  <a:moveTo>
                    <a:pt x="3600" y="0"/>
                  </a:moveTo>
                  <a:arcTo wR="3600" hR="3600" stAng="16200000" swAng="-5400000"/>
                  <a:lnTo>
                    <a:pt x="0" y="25615"/>
                  </a:lnTo>
                  <a:arcTo wR="3600" hR="3600" stAng="10800000" swAng="-5400000"/>
                  <a:lnTo>
                    <a:pt x="18000" y="292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1" action="ppaction://hlinksldjump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Скругленный прямоугольник 38"/>
            <p:cNvSpPr/>
            <p:nvPr/>
          </p:nvSpPr>
          <p:spPr>
            <a:xfrm>
              <a:off x="7092000" y="4722840"/>
              <a:ext cx="792000" cy="1071360"/>
            </a:xfrm>
            <a:custGeom>
              <a:avLst/>
              <a:gdLst>
                <a:gd name="textAreaLeft" fmla="*/ 38520 w 792000"/>
                <a:gd name="textAreaRight" fmla="*/ 753480 w 792000"/>
                <a:gd name="textAreaTop" fmla="*/ 38520 h 1071360"/>
                <a:gd name="textAreaBottom" fmla="*/ 1032840 h 1071360"/>
              </a:gdLst>
              <a:ahLst/>
              <a:rect l="textAreaLeft" t="textAreaTop" r="textAreaRight" b="textAreaBottom"/>
              <a:pathLst>
                <a:path w="21600" h="29215">
                  <a:moveTo>
                    <a:pt x="3600" y="0"/>
                  </a:moveTo>
                  <a:arcTo wR="3600" hR="3600" stAng="16200000" swAng="-5400000"/>
                  <a:lnTo>
                    <a:pt x="0" y="25615"/>
                  </a:lnTo>
                  <a:arcTo wR="3600" hR="3600" stAng="10800000" swAng="-5400000"/>
                  <a:lnTo>
                    <a:pt x="18000" y="292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2" action="ppaction://hlinksldjump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Скругленный прямоугольник 39"/>
            <p:cNvSpPr/>
            <p:nvPr/>
          </p:nvSpPr>
          <p:spPr>
            <a:xfrm>
              <a:off x="8028000" y="4722840"/>
              <a:ext cx="792000" cy="1071360"/>
            </a:xfrm>
            <a:custGeom>
              <a:avLst/>
              <a:gdLst>
                <a:gd name="textAreaLeft" fmla="*/ 38520 w 792000"/>
                <a:gd name="textAreaRight" fmla="*/ 753480 w 792000"/>
                <a:gd name="textAreaTop" fmla="*/ 38520 h 1071360"/>
                <a:gd name="textAreaBottom" fmla="*/ 1032840 h 1071360"/>
              </a:gdLst>
              <a:ahLst/>
              <a:rect l="textAreaLeft" t="textAreaTop" r="textAreaRight" b="textAreaBottom"/>
              <a:pathLst>
                <a:path w="21600" h="29215">
                  <a:moveTo>
                    <a:pt x="3600" y="0"/>
                  </a:moveTo>
                  <a:arcTo wR="3600" hR="3600" stAng="16200000" swAng="-5400000"/>
                  <a:lnTo>
                    <a:pt x="0" y="25615"/>
                  </a:lnTo>
                  <a:arcTo wR="3600" hR="3600" stAng="10800000" swAng="-5400000"/>
                  <a:lnTo>
                    <a:pt x="18000" y="292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3" action="ppaction://hlinksldjump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Box 46"/>
            <p:cNvSpPr/>
            <p:nvPr/>
          </p:nvSpPr>
          <p:spPr>
            <a:xfrm>
              <a:off x="3357720" y="993600"/>
              <a:ext cx="428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4" action="ppaction://hlinksldjump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 конька у горбунк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еревянные бока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 него из-под копыт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тружка белая бежи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Рубанок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5-конечная звезда 3"/>
          <p:cNvSpPr/>
          <p:nvPr/>
        </p:nvSpPr>
        <p:spPr>
          <a:xfrm>
            <a:off x="7643880" y="4929120"/>
            <a:ext cx="1000080" cy="1000080"/>
          </a:xfrm>
          <a:custGeom>
            <a:avLst/>
            <a:gdLst>
              <a:gd name="textAreaLeft" fmla="*/ 308880 w 1000080"/>
              <a:gd name="textAreaRight" fmla="*/ 691200 w 1000080"/>
              <a:gd name="textAreaTop" fmla="*/ 381960 h 1000080"/>
              <a:gd name="textAreaBottom" fmla="*/ 763920 h 1000080"/>
            </a:gdLst>
            <a:ahLst/>
            <a:rect l="textAreaLeft" t="textAreaTop" r="textAreaRight" b="textAreaBottom"/>
            <a:pathLst>
              <a:path w="1000125" h="1000125">
                <a:moveTo>
                  <a:pt x="1" y="382013"/>
                </a:moveTo>
                <a:lnTo>
                  <a:pt x="382016" y="382015"/>
                </a:lnTo>
                <a:lnTo>
                  <a:pt x="500063" y="0"/>
                </a:lnTo>
                <a:lnTo>
                  <a:pt x="618109" y="382015"/>
                </a:lnTo>
                <a:lnTo>
                  <a:pt x="1000124" y="382013"/>
                </a:lnTo>
                <a:lnTo>
                  <a:pt x="691066" y="618108"/>
                </a:lnTo>
                <a:lnTo>
                  <a:pt x="809118" y="1000122"/>
                </a:lnTo>
                <a:lnTo>
                  <a:pt x="500063" y="764022"/>
                </a:lnTo>
                <a:lnTo>
                  <a:pt x="191007" y="1000122"/>
                </a:lnTo>
                <a:lnTo>
                  <a:pt x="309059" y="618108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улки нам и кала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ждый день пекут 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Не врачи, а пекари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5-конечная звезда 3"/>
          <p:cNvSpPr/>
          <p:nvPr/>
        </p:nvSpPr>
        <p:spPr>
          <a:xfrm>
            <a:off x="8001000" y="5143680"/>
            <a:ext cx="928800" cy="857160"/>
          </a:xfrm>
          <a:custGeom>
            <a:avLst/>
            <a:gdLst>
              <a:gd name="textAreaLeft" fmla="*/ 286920 w 928800"/>
              <a:gd name="textAreaRight" fmla="*/ 641880 w 928800"/>
              <a:gd name="textAreaTop" fmla="*/ 327240 h 857160"/>
              <a:gd name="textAreaBottom" fmla="*/ 654840 h 857160"/>
            </a:gdLst>
            <a:ahLst/>
            <a:rect l="textAreaLeft" t="textAreaTop" r="textAreaRight" b="textAreaBottom"/>
            <a:pathLst>
              <a:path w="928688" h="857250">
                <a:moveTo>
                  <a:pt x="1" y="327439"/>
                </a:moveTo>
                <a:lnTo>
                  <a:pt x="354729" y="327442"/>
                </a:lnTo>
                <a:lnTo>
                  <a:pt x="464344" y="0"/>
                </a:lnTo>
                <a:lnTo>
                  <a:pt x="573959" y="327442"/>
                </a:lnTo>
                <a:lnTo>
                  <a:pt x="928687" y="327439"/>
                </a:lnTo>
                <a:lnTo>
                  <a:pt x="641705" y="529807"/>
                </a:lnTo>
                <a:lnTo>
                  <a:pt x="751325" y="857247"/>
                </a:lnTo>
                <a:lnTo>
                  <a:pt x="464344" y="654876"/>
                </a:lnTo>
                <a:lnTo>
                  <a:pt x="177363" y="857247"/>
                </a:lnTo>
                <a:lnTo>
                  <a:pt x="286983" y="5298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714680"/>
            <a:ext cx="8686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кладки, карманы и ровненький кант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латье красивое сшил 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Не музыкант, а портной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5-конечная звезда 3"/>
          <p:cNvSpPr/>
          <p:nvPr/>
        </p:nvSpPr>
        <p:spPr>
          <a:xfrm>
            <a:off x="7500960" y="4929120"/>
            <a:ext cx="1000080" cy="1000080"/>
          </a:xfrm>
          <a:custGeom>
            <a:avLst/>
            <a:gdLst>
              <a:gd name="textAreaLeft" fmla="*/ 308880 w 1000080"/>
              <a:gd name="textAreaRight" fmla="*/ 691200 w 1000080"/>
              <a:gd name="textAreaTop" fmla="*/ 381960 h 1000080"/>
              <a:gd name="textAreaBottom" fmla="*/ 763920 h 1000080"/>
            </a:gdLst>
            <a:ahLst/>
            <a:rect l="textAreaLeft" t="textAreaTop" r="textAreaRight" b="textAreaBottom"/>
            <a:pathLst>
              <a:path w="1000125" h="1000125">
                <a:moveTo>
                  <a:pt x="1" y="382013"/>
                </a:moveTo>
                <a:lnTo>
                  <a:pt x="382016" y="382015"/>
                </a:lnTo>
                <a:lnTo>
                  <a:pt x="500063" y="0"/>
                </a:lnTo>
                <a:lnTo>
                  <a:pt x="618109" y="382015"/>
                </a:lnTo>
                <a:lnTo>
                  <a:pt x="1000124" y="382013"/>
                </a:lnTo>
                <a:lnTo>
                  <a:pt x="691066" y="618108"/>
                </a:lnTo>
                <a:lnTo>
                  <a:pt x="809118" y="1000122"/>
                </a:lnTo>
                <a:lnTo>
                  <a:pt x="500063" y="764022"/>
                </a:lnTo>
                <a:lnTo>
                  <a:pt x="191007" y="1000122"/>
                </a:lnTo>
                <a:lnTo>
                  <a:pt x="309059" y="61810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ёрный весь, как будто грач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 нашей крыши лезет 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Не врач, а трубочист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5-конечная звезда 3"/>
          <p:cNvSpPr/>
          <p:nvPr/>
        </p:nvSpPr>
        <p:spPr>
          <a:xfrm>
            <a:off x="7643880" y="5143680"/>
            <a:ext cx="1214280" cy="928440"/>
          </a:xfrm>
          <a:custGeom>
            <a:avLst/>
            <a:gdLst>
              <a:gd name="textAreaLeft" fmla="*/ 375120 w 1214280"/>
              <a:gd name="textAreaRight" fmla="*/ 839160 w 1214280"/>
              <a:gd name="textAreaTop" fmla="*/ 354600 h 928440"/>
              <a:gd name="textAreaBottom" fmla="*/ 709200 h 928440"/>
            </a:gdLst>
            <a:ahLst/>
            <a:rect l="textAreaLeft" t="textAreaTop" r="textAreaRight" b="textAreaBottom"/>
            <a:pathLst>
              <a:path w="1214437" h="928688">
                <a:moveTo>
                  <a:pt x="1" y="354726"/>
                </a:moveTo>
                <a:lnTo>
                  <a:pt x="463876" y="354729"/>
                </a:lnTo>
                <a:lnTo>
                  <a:pt x="607219" y="0"/>
                </a:lnTo>
                <a:lnTo>
                  <a:pt x="750561" y="354729"/>
                </a:lnTo>
                <a:lnTo>
                  <a:pt x="1214436" y="354726"/>
                </a:lnTo>
                <a:lnTo>
                  <a:pt x="839151" y="573958"/>
                </a:lnTo>
                <a:lnTo>
                  <a:pt x="982501" y="928685"/>
                </a:lnTo>
                <a:lnTo>
                  <a:pt x="607219" y="709450"/>
                </a:lnTo>
                <a:lnTo>
                  <a:pt x="231936" y="928685"/>
                </a:lnTo>
                <a:lnTo>
                  <a:pt x="375286" y="57395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заводах по три сме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 станков стоят 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Не спортсмены, а рабочие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5-конечная звезда 3"/>
          <p:cNvSpPr/>
          <p:nvPr/>
        </p:nvSpPr>
        <p:spPr>
          <a:xfrm>
            <a:off x="7643880" y="4929120"/>
            <a:ext cx="857160" cy="1000080"/>
          </a:xfrm>
          <a:custGeom>
            <a:avLst/>
            <a:gdLst>
              <a:gd name="textAreaLeft" fmla="*/ 264960 w 857160"/>
              <a:gd name="textAreaRight" fmla="*/ 592200 w 857160"/>
              <a:gd name="textAreaTop" fmla="*/ 381960 h 1000080"/>
              <a:gd name="textAreaBottom" fmla="*/ 763920 h 1000080"/>
            </a:gdLst>
            <a:ahLst/>
            <a:rect l="textAreaLeft" t="textAreaTop" r="textAreaRight" b="textAreaBottom"/>
            <a:pathLst>
              <a:path w="857250" h="1000125">
                <a:moveTo>
                  <a:pt x="1" y="382013"/>
                </a:moveTo>
                <a:lnTo>
                  <a:pt x="327442" y="382015"/>
                </a:lnTo>
                <a:lnTo>
                  <a:pt x="428625" y="0"/>
                </a:lnTo>
                <a:lnTo>
                  <a:pt x="529808" y="382015"/>
                </a:lnTo>
                <a:lnTo>
                  <a:pt x="857249" y="382013"/>
                </a:lnTo>
                <a:lnTo>
                  <a:pt x="592342" y="618108"/>
                </a:lnTo>
                <a:lnTo>
                  <a:pt x="693530" y="1000122"/>
                </a:lnTo>
                <a:lnTo>
                  <a:pt x="428625" y="764022"/>
                </a:lnTo>
                <a:lnTo>
                  <a:pt x="163720" y="1000122"/>
                </a:lnTo>
                <a:lnTo>
                  <a:pt x="264908" y="61810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 куполом цирка в опасный полё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правится смелый и сильный 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Не пилот, а воздушный гимнаст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5-конечная звезда 3"/>
          <p:cNvSpPr/>
          <p:nvPr/>
        </p:nvSpPr>
        <p:spPr>
          <a:xfrm>
            <a:off x="7715160" y="5000760"/>
            <a:ext cx="1071720" cy="928440"/>
          </a:xfrm>
          <a:custGeom>
            <a:avLst/>
            <a:gdLst>
              <a:gd name="textAreaLeft" fmla="*/ 331200 w 1071720"/>
              <a:gd name="textAreaRight" fmla="*/ 740520 w 1071720"/>
              <a:gd name="textAreaTop" fmla="*/ 354600 h 928440"/>
              <a:gd name="textAreaBottom" fmla="*/ 709200 h 928440"/>
            </a:gdLst>
            <a:ahLst/>
            <a:rect l="textAreaLeft" t="textAreaTop" r="textAreaRight" b="textAreaBottom"/>
            <a:pathLst>
              <a:path w="1071563" h="928688">
                <a:moveTo>
                  <a:pt x="1" y="354726"/>
                </a:moveTo>
                <a:lnTo>
                  <a:pt x="409303" y="354729"/>
                </a:lnTo>
                <a:lnTo>
                  <a:pt x="535782" y="0"/>
                </a:lnTo>
                <a:lnTo>
                  <a:pt x="662260" y="354729"/>
                </a:lnTo>
                <a:lnTo>
                  <a:pt x="1071562" y="354726"/>
                </a:lnTo>
                <a:lnTo>
                  <a:pt x="740428" y="573958"/>
                </a:lnTo>
                <a:lnTo>
                  <a:pt x="866913" y="928685"/>
                </a:lnTo>
                <a:lnTo>
                  <a:pt x="535782" y="709450"/>
                </a:lnTo>
                <a:lnTo>
                  <a:pt x="204650" y="928685"/>
                </a:lnTo>
                <a:lnTo>
                  <a:pt x="331135" y="57395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садить новые саженцы в ельн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нова отправится утром наш 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Не мельник, а лесник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5-конечная звезда 3"/>
          <p:cNvSpPr/>
          <p:nvPr/>
        </p:nvSpPr>
        <p:spPr>
          <a:xfrm>
            <a:off x="8001000" y="5000760"/>
            <a:ext cx="857160" cy="928440"/>
          </a:xfrm>
          <a:custGeom>
            <a:avLst/>
            <a:gdLst>
              <a:gd name="textAreaLeft" fmla="*/ 264960 w 857160"/>
              <a:gd name="textAreaRight" fmla="*/ 592200 w 857160"/>
              <a:gd name="textAreaTop" fmla="*/ 354600 h 928440"/>
              <a:gd name="textAreaBottom" fmla="*/ 709200 h 928440"/>
            </a:gdLst>
            <a:ahLst/>
            <a:rect l="textAreaLeft" t="textAreaTop" r="textAreaRight" b="textAreaBottom"/>
            <a:pathLst>
              <a:path w="857250" h="928688">
                <a:moveTo>
                  <a:pt x="1" y="354726"/>
                </a:moveTo>
                <a:lnTo>
                  <a:pt x="327442" y="354729"/>
                </a:lnTo>
                <a:lnTo>
                  <a:pt x="428625" y="0"/>
                </a:lnTo>
                <a:lnTo>
                  <a:pt x="529808" y="354729"/>
                </a:lnTo>
                <a:lnTo>
                  <a:pt x="857249" y="354726"/>
                </a:lnTo>
                <a:lnTo>
                  <a:pt x="592342" y="573958"/>
                </a:lnTo>
                <a:lnTo>
                  <a:pt x="693530" y="928685"/>
                </a:lnTo>
                <a:lnTo>
                  <a:pt x="428625" y="709450"/>
                </a:lnTo>
                <a:lnTo>
                  <a:pt x="163720" y="928685"/>
                </a:lnTo>
                <a:lnTo>
                  <a:pt x="264908" y="57395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http://www.vsezagadki.ru/2010/11/zagadki-o-trude/    - загадки о профессиях и инструмент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http://riddle-middle.ru/pogovorki_i_poslovicy/trud/  - пословицы и поговорки о тру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Деревья смотри в плодах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а людей смотри в делах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5-конечная звезда 3">
            <a:hlinkClick r:id="rId1" action="ppaction://hlinksldjump"/>
          </p:cNvPr>
          <p:cNvSpPr/>
          <p:nvPr/>
        </p:nvSpPr>
        <p:spPr>
          <a:xfrm>
            <a:off x="6929280" y="5214960"/>
            <a:ext cx="857520" cy="714240"/>
          </a:xfrm>
          <a:custGeom>
            <a:avLst/>
            <a:gdLst>
              <a:gd name="textAreaLeft" fmla="*/ 264960 w 857520"/>
              <a:gd name="textAreaRight" fmla="*/ 592560 w 857520"/>
              <a:gd name="textAreaTop" fmla="*/ 272880 h 714240"/>
              <a:gd name="textAreaBottom" fmla="*/ 545760 h 714240"/>
            </a:gdLst>
            <a:ahLst/>
            <a:rect l="textAreaLeft" t="textAreaTop" r="textAreaRight" b="textAreaBottom"/>
            <a:pathLst>
              <a:path w="857250" h="714375">
                <a:moveTo>
                  <a:pt x="1" y="272866"/>
                </a:moveTo>
                <a:lnTo>
                  <a:pt x="327442" y="272868"/>
                </a:lnTo>
                <a:lnTo>
                  <a:pt x="428625" y="0"/>
                </a:lnTo>
                <a:lnTo>
                  <a:pt x="529808" y="272868"/>
                </a:lnTo>
                <a:lnTo>
                  <a:pt x="857249" y="272866"/>
                </a:lnTo>
                <a:lnTo>
                  <a:pt x="592342" y="441506"/>
                </a:lnTo>
                <a:lnTo>
                  <a:pt x="693530" y="714373"/>
                </a:lnTo>
                <a:lnTo>
                  <a:pt x="428625" y="545730"/>
                </a:lnTo>
                <a:lnTo>
                  <a:pt x="163720" y="714373"/>
                </a:lnTo>
                <a:lnTo>
                  <a:pt x="264908" y="441506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тицу узнают в полёте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а человека в работ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5-конечная звезда 3">
            <a:hlinkClick r:id="rId1" action="ppaction://hlinksldjump"/>
          </p:cNvPr>
          <p:cNvSpPr/>
          <p:nvPr/>
        </p:nvSpPr>
        <p:spPr>
          <a:xfrm>
            <a:off x="7429680" y="5143680"/>
            <a:ext cx="928440" cy="857160"/>
          </a:xfrm>
          <a:custGeom>
            <a:avLst/>
            <a:gdLst>
              <a:gd name="textAreaLeft" fmla="*/ 286920 w 928440"/>
              <a:gd name="textAreaRight" fmla="*/ 641520 w 928440"/>
              <a:gd name="textAreaTop" fmla="*/ 327240 h 857160"/>
              <a:gd name="textAreaBottom" fmla="*/ 654840 h 857160"/>
            </a:gdLst>
            <a:ahLst/>
            <a:rect l="textAreaLeft" t="textAreaTop" r="textAreaRight" b="textAreaBottom"/>
            <a:pathLst>
              <a:path w="928688" h="857250">
                <a:moveTo>
                  <a:pt x="1" y="327439"/>
                </a:moveTo>
                <a:lnTo>
                  <a:pt x="354729" y="327442"/>
                </a:lnTo>
                <a:lnTo>
                  <a:pt x="464344" y="0"/>
                </a:lnTo>
                <a:lnTo>
                  <a:pt x="573959" y="327442"/>
                </a:lnTo>
                <a:lnTo>
                  <a:pt x="928687" y="327439"/>
                </a:lnTo>
                <a:lnTo>
                  <a:pt x="641705" y="529807"/>
                </a:lnTo>
                <a:lnTo>
                  <a:pt x="751325" y="857247"/>
                </a:lnTo>
                <a:lnTo>
                  <a:pt x="464344" y="654876"/>
                </a:lnTo>
                <a:lnTo>
                  <a:pt x="177363" y="857247"/>
                </a:lnTo>
                <a:lnTo>
                  <a:pt x="286983" y="529807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Глазам страшно,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а руки делают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5-конечная звезда 3">
            <a:hlinkClick r:id="rId1" action="ppaction://hlinksldjump"/>
          </p:cNvPr>
          <p:cNvSpPr/>
          <p:nvPr/>
        </p:nvSpPr>
        <p:spPr>
          <a:xfrm>
            <a:off x="7358040" y="5000760"/>
            <a:ext cx="1071720" cy="1000080"/>
          </a:xfrm>
          <a:custGeom>
            <a:avLst/>
            <a:gdLst>
              <a:gd name="textAreaLeft" fmla="*/ 331200 w 1071720"/>
              <a:gd name="textAreaRight" fmla="*/ 740520 w 1071720"/>
              <a:gd name="textAreaTop" fmla="*/ 381960 h 1000080"/>
              <a:gd name="textAreaBottom" fmla="*/ 763920 h 1000080"/>
            </a:gdLst>
            <a:ahLst/>
            <a:rect l="textAreaLeft" t="textAreaTop" r="textAreaRight" b="textAreaBottom"/>
            <a:pathLst>
              <a:path w="1071562" h="1000125">
                <a:moveTo>
                  <a:pt x="1" y="382013"/>
                </a:moveTo>
                <a:lnTo>
                  <a:pt x="409303" y="382015"/>
                </a:lnTo>
                <a:lnTo>
                  <a:pt x="535781" y="0"/>
                </a:lnTo>
                <a:lnTo>
                  <a:pt x="662259" y="382015"/>
                </a:lnTo>
                <a:lnTo>
                  <a:pt x="1071561" y="382013"/>
                </a:lnTo>
                <a:lnTo>
                  <a:pt x="740428" y="618108"/>
                </a:lnTo>
                <a:lnTo>
                  <a:pt x="866912" y="1000122"/>
                </a:lnTo>
                <a:lnTo>
                  <a:pt x="535781" y="764022"/>
                </a:lnTo>
                <a:lnTo>
                  <a:pt x="204650" y="1000122"/>
                </a:lnTo>
                <a:lnTo>
                  <a:pt x="331134" y="618108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Маленькое дело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лучше большого бездель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5-конечная звезда 3">
            <a:hlinkClick r:id="rId1" action="ppaction://hlinksldjump"/>
          </p:cNvPr>
          <p:cNvSpPr/>
          <p:nvPr/>
        </p:nvSpPr>
        <p:spPr>
          <a:xfrm>
            <a:off x="7572240" y="5143680"/>
            <a:ext cx="857520" cy="714240"/>
          </a:xfrm>
          <a:custGeom>
            <a:avLst/>
            <a:gdLst>
              <a:gd name="textAreaLeft" fmla="*/ 264960 w 857520"/>
              <a:gd name="textAreaRight" fmla="*/ 592560 w 857520"/>
              <a:gd name="textAreaTop" fmla="*/ 272880 h 714240"/>
              <a:gd name="textAreaBottom" fmla="*/ 545760 h 714240"/>
            </a:gdLst>
            <a:ahLst/>
            <a:rect l="textAreaLeft" t="textAreaTop" r="textAreaRight" b="textAreaBottom"/>
            <a:pathLst>
              <a:path w="857250" h="714375">
                <a:moveTo>
                  <a:pt x="1" y="272866"/>
                </a:moveTo>
                <a:lnTo>
                  <a:pt x="327442" y="272868"/>
                </a:lnTo>
                <a:lnTo>
                  <a:pt x="428625" y="0"/>
                </a:lnTo>
                <a:lnTo>
                  <a:pt x="529808" y="272868"/>
                </a:lnTo>
                <a:lnTo>
                  <a:pt x="857249" y="272866"/>
                </a:lnTo>
                <a:lnTo>
                  <a:pt x="592342" y="441506"/>
                </a:lnTo>
                <a:lnTo>
                  <a:pt x="693530" y="714373"/>
                </a:lnTo>
                <a:lnTo>
                  <a:pt x="428625" y="545730"/>
                </a:lnTo>
                <a:lnTo>
                  <a:pt x="163720" y="714373"/>
                </a:lnTo>
                <a:lnTo>
                  <a:pt x="264908" y="441506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коро сказка сказывается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да не скоро дело делается.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5-конечная звезда 3">
            <a:hlinkClick r:id="rId1" action="ppaction://hlinksldjump"/>
          </p:cNvPr>
          <p:cNvSpPr/>
          <p:nvPr/>
        </p:nvSpPr>
        <p:spPr>
          <a:xfrm>
            <a:off x="7429680" y="5429160"/>
            <a:ext cx="1000080" cy="714600"/>
          </a:xfrm>
          <a:custGeom>
            <a:avLst/>
            <a:gdLst>
              <a:gd name="textAreaLeft" fmla="*/ 308880 w 1000080"/>
              <a:gd name="textAreaRight" fmla="*/ 691200 w 1000080"/>
              <a:gd name="textAreaTop" fmla="*/ 272880 h 714600"/>
              <a:gd name="textAreaBottom" fmla="*/ 546120 h 714600"/>
            </a:gdLst>
            <a:ahLst/>
            <a:rect l="textAreaLeft" t="textAreaTop" r="textAreaRight" b="textAreaBottom"/>
            <a:pathLst>
              <a:path w="1000125" h="714375">
                <a:moveTo>
                  <a:pt x="1" y="272866"/>
                </a:moveTo>
                <a:lnTo>
                  <a:pt x="382016" y="272868"/>
                </a:lnTo>
                <a:lnTo>
                  <a:pt x="500063" y="0"/>
                </a:lnTo>
                <a:lnTo>
                  <a:pt x="618109" y="272868"/>
                </a:lnTo>
                <a:lnTo>
                  <a:pt x="1000124" y="272866"/>
                </a:lnTo>
                <a:lnTo>
                  <a:pt x="691066" y="441506"/>
                </a:lnTo>
                <a:lnTo>
                  <a:pt x="809118" y="714373"/>
                </a:lnTo>
                <a:lnTo>
                  <a:pt x="500063" y="545730"/>
                </a:lnTo>
                <a:lnTo>
                  <a:pt x="191007" y="714373"/>
                </a:lnTo>
                <a:lnTo>
                  <a:pt x="309059" y="441506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Была бы охота —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будет ладиться работ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5-конечная звезда 5">
            <a:hlinkClick r:id="rId1" action="ppaction://hlinksldjump"/>
          </p:cNvPr>
          <p:cNvSpPr/>
          <p:nvPr/>
        </p:nvSpPr>
        <p:spPr>
          <a:xfrm>
            <a:off x="7429680" y="4714920"/>
            <a:ext cx="1000080" cy="928800"/>
          </a:xfrm>
          <a:custGeom>
            <a:avLst/>
            <a:gdLst>
              <a:gd name="textAreaLeft" fmla="*/ 308880 w 1000080"/>
              <a:gd name="textAreaRight" fmla="*/ 691200 w 1000080"/>
              <a:gd name="textAreaTop" fmla="*/ 354600 h 928800"/>
              <a:gd name="textAreaBottom" fmla="*/ 709560 h 928800"/>
            </a:gdLst>
            <a:ahLst/>
            <a:rect l="textAreaLeft" t="textAreaTop" r="textAreaRight" b="textAreaBottom"/>
            <a:pathLst>
              <a:path w="1000125" h="928688">
                <a:moveTo>
                  <a:pt x="1" y="354726"/>
                </a:moveTo>
                <a:lnTo>
                  <a:pt x="382016" y="354729"/>
                </a:lnTo>
                <a:lnTo>
                  <a:pt x="500063" y="0"/>
                </a:lnTo>
                <a:lnTo>
                  <a:pt x="618109" y="354729"/>
                </a:lnTo>
                <a:lnTo>
                  <a:pt x="1000124" y="354726"/>
                </a:lnTo>
                <a:lnTo>
                  <a:pt x="691066" y="573958"/>
                </a:lnTo>
                <a:lnTo>
                  <a:pt x="809118" y="928685"/>
                </a:lnTo>
                <a:lnTo>
                  <a:pt x="500063" y="709450"/>
                </a:lnTo>
                <a:lnTo>
                  <a:pt x="191007" y="928685"/>
                </a:lnTo>
                <a:lnTo>
                  <a:pt x="309059" y="573958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т на краешке с опаской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железо красит краской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него в руке ведро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 раскрашен он пестр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Маляр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5-конечная звезда 3">
            <a:hlinkClick r:id="rId1" action="ppaction://hlinksldjump"/>
          </p:cNvPr>
          <p:cNvSpPr/>
          <p:nvPr/>
        </p:nvSpPr>
        <p:spPr>
          <a:xfrm>
            <a:off x="7715160" y="5143680"/>
            <a:ext cx="785880" cy="857160"/>
          </a:xfrm>
          <a:custGeom>
            <a:avLst/>
            <a:gdLst>
              <a:gd name="textAreaLeft" fmla="*/ 242640 w 785880"/>
              <a:gd name="textAreaRight" fmla="*/ 543240 w 785880"/>
              <a:gd name="textAreaTop" fmla="*/ 327240 h 857160"/>
              <a:gd name="textAreaBottom" fmla="*/ 654840 h 857160"/>
            </a:gdLst>
            <a:ahLst/>
            <a:rect l="textAreaLeft" t="textAreaTop" r="textAreaRight" b="textAreaBottom"/>
            <a:pathLst>
              <a:path w="785813" h="857250">
                <a:moveTo>
                  <a:pt x="1" y="327439"/>
                </a:moveTo>
                <a:lnTo>
                  <a:pt x="300156" y="327442"/>
                </a:lnTo>
                <a:lnTo>
                  <a:pt x="392907" y="0"/>
                </a:lnTo>
                <a:lnTo>
                  <a:pt x="485657" y="327442"/>
                </a:lnTo>
                <a:lnTo>
                  <a:pt x="785812" y="327439"/>
                </a:lnTo>
                <a:lnTo>
                  <a:pt x="542981" y="529807"/>
                </a:lnTo>
                <a:lnTo>
                  <a:pt x="635736" y="857247"/>
                </a:lnTo>
                <a:lnTo>
                  <a:pt x="392907" y="654876"/>
                </a:lnTo>
                <a:lnTo>
                  <a:pt x="150077" y="857247"/>
                </a:lnTo>
                <a:lnTo>
                  <a:pt x="242832" y="529807"/>
                </a:lnTo>
                <a:close/>
              </a:path>
            </a:pathLst>
          </a:custGeom>
          <a:solidFill>
            <a:srgbClr val="cf3db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3T14:16:56Z</dcterms:created>
  <dc:creator>1</dc:creator>
  <dc:description/>
  <dc:language>en-US</dc:language>
  <cp:lastModifiedBy>Ёля</cp:lastModifiedBy>
  <dcterms:modified xsi:type="dcterms:W3CDTF">2014-02-05T17:00:05Z</dcterms:modified>
  <cp:revision>25</cp:revision>
  <dc:subject/>
  <dc:title>Слайд 1</dc:title>
</cp:coreProperties>
</file>