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4BE2-C8D1-489F-8564-E4A831624D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43B0-D4B3-484A-BC07-76F4DDFD62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кажите, что вы видите на картинке. Что можно узнать? (Сколько всего зайчиков) Как это узнать? (запись в тетрадь выражения 4+2=6) Чтение записи с названием терми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1E82-6BEF-444A-8BB5-A220D3138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, что случилось. Что теперь можно узнать? (Сколько зайчиков осталось?) Как это можно записать? (в тетрадь 6-4=2) Как называли число 6? Число 4? Число 2? Как можно прочитать запись? (из суммы 6 вычесть слагаемое 4 получится слагаемое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F746-D989-4FB7-8EEA-7313096C0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ернутся серые зайчики. Посмотрите, что теперь произойдёт(ушли белые зайчики) Что можно спросить? Как это записать. Далее как в предыдущем рассуждени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9BAF-1B08-420E-9198-C1ED1CD6DD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ие: чтение выражений, используя математические терм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22CB-7844-433E-BB9E-3A226FD48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ите вывод. Далее – закрепление по заданиям учебника или на усмотрение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1B0-DAC7-400E-AD7A-421A5904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4D9-D02E-4016-AC23-6081A7FA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9B48B-C0DA-459A-8687-57A8F0D0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488A2-8E4A-4E10-B672-90DCFA24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9D4F7-9C61-44EE-9211-D434021D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858C9-5FE1-4A6E-B09A-6246888B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7E8BE-862D-4FCC-A76A-939912F6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44411-923C-4213-BE15-0FF45D11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4B0BE-DD16-4CAD-9550-59B85FC6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90375-3BDB-476B-AEDB-8AFB77A5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3AC29-E723-40C9-BB92-0972804B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5FB-6710-427C-915E-D37C7493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D28-2DF8-4B94-8DA9-0E3D63A3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6F3F-D761-48DD-B1A0-B0F87319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461D-C800-40D3-B41D-7481AF8C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A467-CA66-4632-BD82-30230C36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D5DB-29D0-4C14-8826-BD6266E9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1739-29EF-4F40-BEE3-88BC10E4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77DF-3BD9-43E7-BE63-9800D5A6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294C-3F15-4CF3-A21E-B273C0DB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30C-55CB-41E7-B812-99EBF1FB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658B-7755-4957-BD6E-2765E8DF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DCD3-C8FD-474C-86DC-553A9379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C3B2-BFE8-40E3-8BA2-573808BC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51E6-6B51-4371-AA64-5A55B0F8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F922-739C-471F-BB55-4B5BEDD4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C3DB9-A936-42A7-BC65-EEDFC7FD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E0E6-DF10-49E5-A547-B6FE57BE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4A258-F8E1-425B-A605-D13224F5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C8904-0A6D-4626-9052-4EDD6EAE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72481-FA00-4B5E-BEA4-DC25D6C2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113-86F5-4E15-9455-DAAF60C1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AE86E-0131-43DD-971D-C41536DE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41B2-C693-474F-B56F-42E12E08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5744-5A57-47BB-B585-DFAE4021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3D327-91E7-4F67-9BD8-F6EF9DDA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8945E-436B-4C05-BE1A-53BC889C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5E8A8-0D45-4736-9B64-07F90DDB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B1B3A-3769-4AD7-A1E6-472C0B25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97948-B6BD-4B3D-9BF5-4F6772FA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79245-00DB-45C0-A613-53929F61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57435-73AD-4885-9441-3AA56ECA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5DF-5937-4BC5-A2C7-282E7666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E438C-BD39-4F7F-A10B-269B4D8A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E73FF-42CD-42C2-AF9F-766B6DA3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49272-B8EE-4EC9-9BD4-E2B63D38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AA017-0185-4451-B612-065F6BA3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E473B-BC85-4C3C-82C2-44EBB454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988F5-E3D2-4307-810E-D4D4DB34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697F5-C94F-4643-9900-1F500F41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3B9C1-6488-4DC4-922C-B8724EFB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F7737-44EA-4806-8CFF-BFF48E35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0E9C6-5218-4AFA-BDBD-401DC612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96F-7B4C-486A-8CDD-2224E630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A1E53-4417-49A6-B97D-85452937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5730A-7F4B-4141-B272-F0478E0C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A4DEC-A7AA-4AC1-B81A-E7435E9C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D5D95-0217-4F42-B0CD-9AEF08C9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3BCA9-6C3C-4107-A59E-BBDE6F9C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58E56-0EF0-4B15-8A82-5266D8FC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9DE59-21D3-4CCB-BD83-21BC1E9E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19F71-5F92-49EB-B161-9C82D593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C73B4-646F-4FA2-8988-7A67D54C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60EF1-9904-48F1-8417-F0C26745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DC8-863E-447F-B14B-2F6ADE6E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556CB-C49A-4E11-B7CD-BCAAD506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9A2A2-A728-4AC6-9764-7E64605A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9D86E-85CC-4AB1-80CB-BC79CA59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79FBA-F012-46AE-B61E-74DF3BAF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4474D-4B25-46B2-93D0-E47BFC0F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4DBC4-3661-4F82-AAB7-4A11458D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48CC6-63B8-4535-8526-1D65181D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F625B-CF17-4A1D-AB12-2F16AB86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1B2FA-502D-479E-9BCF-75217D3D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F8F4C-70AF-4F91-9177-2506154A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A4F-8DD9-46BA-83D6-F5F79C0B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1250B-8A86-4B1B-A8E7-095FAD77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4DACA-64E6-4ECC-9B50-1E9D1347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96CD9-51C4-460F-BFAE-A8E33DC1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36C27-41FB-4701-9272-C8579B2E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147D4-B34B-4E8F-B927-EFA4EA59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96291-B5DB-4B38-8735-4DEA80DC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98A19-941C-4A42-A2B9-6392489D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79661-6AA2-4211-8648-EE446E86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88582-7075-43C2-B681-A3A8989B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3A341-078E-4FCB-AFB9-A69AEA06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3F10-F19C-47CA-A18B-2C696155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F44F4-FF6B-4A1D-8223-A9D911DA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88D09-E8EE-4ED7-8363-A74374F8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4875E-8630-435F-8001-6D98B48A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88EDF-B7D1-400B-B25D-48F9B36F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2FE3B-3479-4D46-8F67-DEE18C37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0CAEC-1010-483D-A0BB-E35DFFDA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ED430-C9DE-4D12-AB09-C2E33DAB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3D697-5F5A-4345-9C36-F9FF7F00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30621-9282-4D1A-8FB4-EC44C404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09666-CA9B-4005-9E62-C437CF4E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2C6-1185-4ECC-A017-FCF3F3E7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BE36D-E994-4D78-82D3-A2A888E2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FFDA0-5F3B-4D30-AB4D-E095356E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7EC1E-2C8A-415C-AB2B-4CDB819C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14163-19BD-4CD7-8499-2244A0F1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37CAB-162D-4462-BCD5-58F10881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4523F-73B4-4DEF-A9B2-E2973F69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B5664-BA4E-46E4-8E55-997B4316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BEE30-4F74-45AE-87EB-9EF369A5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67237-7A23-4AA3-BF63-3318D1A3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451E1-534C-49DD-B862-A4355972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B35C-620E-4B91-9ED1-344A56F80893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72F9-2F1F-4400-AC23-231EE6F2BABE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5835-6F2B-4BA0-8BBE-1CC348EDD1F4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B1B4-59BC-43DB-8801-FCF3E0452BC5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347D-C8CC-40D6-BD0C-44A15F051953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6723-6498-4239-AE95-CD1543E32574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EAF3-4413-4361-BC70-9B166C335D37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3E90-CA54-497F-BC53-031F6DECD2C5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2086-C3DE-48F2-94B1-93087BA01429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«Связь между суммой и слагаемыми»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Урок математики в 1 классе 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Программа « Школа России»    по ФГОС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Подготовила : Костина Светлана Викторовна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учитель начальных классов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1"/>
          <p:cNvSpPr/>
          <p:nvPr/>
        </p:nvSpPr>
        <p:spPr>
          <a:xfrm>
            <a:off x="1002600" y="685800"/>
            <a:ext cx="821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одолжить столби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2"/>
          <p:cNvSpPr/>
          <p:nvPr/>
        </p:nvSpPr>
        <p:spPr>
          <a:xfrm>
            <a:off x="928440" y="2057400"/>
            <a:ext cx="276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+3=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"/>
          <p:cNvSpPr/>
          <p:nvPr/>
        </p:nvSpPr>
        <p:spPr>
          <a:xfrm>
            <a:off x="4952880" y="2133720"/>
            <a:ext cx="305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+2=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"/>
          <p:cNvSpPr/>
          <p:nvPr/>
        </p:nvSpPr>
        <p:spPr>
          <a:xfrm>
            <a:off x="1371600" y="2514600"/>
            <a:ext cx="138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5"/>
          <p:cNvSpPr/>
          <p:nvPr/>
        </p:nvSpPr>
        <p:spPr>
          <a:xfrm>
            <a:off x="1371600" y="31240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6"/>
          <p:cNvSpPr/>
          <p:nvPr/>
        </p:nvSpPr>
        <p:spPr>
          <a:xfrm>
            <a:off x="5334120" y="2514600"/>
            <a:ext cx="138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7"/>
          <p:cNvSpPr/>
          <p:nvPr/>
        </p:nvSpPr>
        <p:spPr>
          <a:xfrm>
            <a:off x="5334120" y="3124080"/>
            <a:ext cx="153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1"/>
          <p:cNvSpPr/>
          <p:nvPr/>
        </p:nvSpPr>
        <p:spPr>
          <a:xfrm>
            <a:off x="852120" y="1066680"/>
            <a:ext cx="276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+3=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"/>
          <p:cNvSpPr/>
          <p:nvPr/>
        </p:nvSpPr>
        <p:spPr>
          <a:xfrm>
            <a:off x="838080" y="2514600"/>
            <a:ext cx="275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0-7=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3"/>
          <p:cNvSpPr/>
          <p:nvPr/>
        </p:nvSpPr>
        <p:spPr>
          <a:xfrm>
            <a:off x="838080" y="3886200"/>
            <a:ext cx="283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0-3=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4"/>
          <p:cNvSpPr/>
          <p:nvPr/>
        </p:nvSpPr>
        <p:spPr>
          <a:xfrm>
            <a:off x="5257800" y="2590920"/>
            <a:ext cx="224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-5=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"/>
          <p:cNvSpPr/>
          <p:nvPr/>
        </p:nvSpPr>
        <p:spPr>
          <a:xfrm>
            <a:off x="5181480" y="1066680"/>
            <a:ext cx="259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+2=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5181480" y="3886200"/>
            <a:ext cx="232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-2=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1"/>
          <p:cNvSpPr/>
          <p:nvPr/>
        </p:nvSpPr>
        <p:spPr>
          <a:xfrm>
            <a:off x="1725120" y="144792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"/>
          <p:cNvSpPr/>
          <p:nvPr/>
        </p:nvSpPr>
        <p:spPr>
          <a:xfrm>
            <a:off x="1800000" y="2895480"/>
            <a:ext cx="137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"/>
          <p:cNvSpPr/>
          <p:nvPr/>
        </p:nvSpPr>
        <p:spPr>
          <a:xfrm>
            <a:off x="1523880" y="4267080"/>
            <a:ext cx="197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5029200" y="14479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5029200" y="2819520"/>
            <a:ext cx="196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4952880" y="4267080"/>
            <a:ext cx="23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1066680" y="1066680"/>
            <a:ext cx="332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8+2=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1219320" y="2590920"/>
            <a:ext cx="290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6+2=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1295280" y="4114800"/>
            <a:ext cx="290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+4=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5105520" y="106668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9-4=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5"/>
          <p:cNvSpPr/>
          <p:nvPr/>
        </p:nvSpPr>
        <p:spPr>
          <a:xfrm>
            <a:off x="5257800" y="2590920"/>
            <a:ext cx="217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8-2=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"/>
          <p:cNvSpPr/>
          <p:nvPr/>
        </p:nvSpPr>
        <p:spPr>
          <a:xfrm>
            <a:off x="5105520" y="4191120"/>
            <a:ext cx="283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0-2=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Прямоугольник 2" descr=""/>
          <p:cNvPicPr/>
          <p:nvPr/>
        </p:nvPicPr>
        <p:blipFill>
          <a:blip r:embed="rId1"/>
          <a:stretch/>
        </p:blipFill>
        <p:spPr>
          <a:xfrm>
            <a:off x="628560" y="1316160"/>
            <a:ext cx="772956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10"/>
          <p:cNvGrpSpPr/>
          <p:nvPr/>
        </p:nvGrpSpPr>
        <p:grpSpPr>
          <a:xfrm>
            <a:off x="228600" y="304920"/>
            <a:ext cx="2209680" cy="2590560"/>
            <a:chOff x="228600" y="304920"/>
            <a:chExt cx="2209680" cy="2590560"/>
          </a:xfrm>
        </p:grpSpPr>
        <p:sp>
          <p:nvSpPr>
            <p:cNvPr id="421" name="Oval 9"/>
            <p:cNvSpPr/>
            <p:nvPr/>
          </p:nvSpPr>
          <p:spPr>
            <a:xfrm rot="1914600">
              <a:off x="370080" y="1537560"/>
              <a:ext cx="49608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7"/>
            <p:cNvSpPr/>
            <p:nvPr/>
          </p:nvSpPr>
          <p:spPr>
            <a:xfrm>
              <a:off x="137016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8"/>
            <p:cNvSpPr/>
            <p:nvPr/>
          </p:nvSpPr>
          <p:spPr>
            <a:xfrm>
              <a:off x="1469160" y="451440"/>
              <a:ext cx="44640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Picture 6" descr="Thumper-1-lg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20968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Group 11"/>
          <p:cNvGrpSpPr/>
          <p:nvPr/>
        </p:nvGrpSpPr>
        <p:grpSpPr>
          <a:xfrm>
            <a:off x="2286000" y="228600"/>
            <a:ext cx="2209680" cy="2590920"/>
            <a:chOff x="2286000" y="228600"/>
            <a:chExt cx="2209680" cy="2590920"/>
          </a:xfrm>
        </p:grpSpPr>
        <p:sp>
          <p:nvSpPr>
            <p:cNvPr id="426" name="Oval 12"/>
            <p:cNvSpPr/>
            <p:nvPr/>
          </p:nvSpPr>
          <p:spPr>
            <a:xfrm rot="1914600">
              <a:off x="2427120" y="1461600"/>
              <a:ext cx="496080" cy="62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"/>
            <p:cNvSpPr/>
            <p:nvPr/>
          </p:nvSpPr>
          <p:spPr>
            <a:xfrm>
              <a:off x="3427560" y="140148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4"/>
            <p:cNvSpPr/>
            <p:nvPr/>
          </p:nvSpPr>
          <p:spPr>
            <a:xfrm>
              <a:off x="3526560" y="375120"/>
              <a:ext cx="446400" cy="53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15" descr="Thumper-1-lg"/>
            <p:cNvPicPr/>
            <p:nvPr/>
          </p:nvPicPr>
          <p:blipFill>
            <a:blip r:embed="rId2"/>
            <a:stretch/>
          </p:blipFill>
          <p:spPr>
            <a:xfrm>
              <a:off x="2286000" y="228600"/>
              <a:ext cx="2209680" cy="259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16"/>
          <p:cNvGrpSpPr/>
          <p:nvPr/>
        </p:nvGrpSpPr>
        <p:grpSpPr>
          <a:xfrm>
            <a:off x="4495680" y="304920"/>
            <a:ext cx="2210040" cy="2590560"/>
            <a:chOff x="4495680" y="304920"/>
            <a:chExt cx="2210040" cy="2590560"/>
          </a:xfrm>
        </p:grpSpPr>
        <p:sp>
          <p:nvSpPr>
            <p:cNvPr id="431" name="Oval 17"/>
            <p:cNvSpPr/>
            <p:nvPr/>
          </p:nvSpPr>
          <p:spPr>
            <a:xfrm rot="1914600">
              <a:off x="4637160" y="1537920"/>
              <a:ext cx="49644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8"/>
            <p:cNvSpPr/>
            <p:nvPr/>
          </p:nvSpPr>
          <p:spPr>
            <a:xfrm>
              <a:off x="563724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9"/>
            <p:cNvSpPr/>
            <p:nvPr/>
          </p:nvSpPr>
          <p:spPr>
            <a:xfrm>
              <a:off x="5736600" y="451440"/>
              <a:ext cx="44676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20" descr="Thumper-1-lg"/>
            <p:cNvPicPr/>
            <p:nvPr/>
          </p:nvPicPr>
          <p:blipFill>
            <a:blip r:embed="rId3"/>
            <a:stretch/>
          </p:blipFill>
          <p:spPr>
            <a:xfrm>
              <a:off x="4495680" y="304920"/>
              <a:ext cx="221004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Group 21"/>
          <p:cNvGrpSpPr/>
          <p:nvPr/>
        </p:nvGrpSpPr>
        <p:grpSpPr>
          <a:xfrm>
            <a:off x="6705720" y="304920"/>
            <a:ext cx="2209680" cy="2590560"/>
            <a:chOff x="6705720" y="304920"/>
            <a:chExt cx="2209680" cy="2590560"/>
          </a:xfrm>
        </p:grpSpPr>
        <p:sp>
          <p:nvSpPr>
            <p:cNvPr id="436" name="Oval 22"/>
            <p:cNvSpPr/>
            <p:nvPr/>
          </p:nvSpPr>
          <p:spPr>
            <a:xfrm rot="1914600">
              <a:off x="6847200" y="1537560"/>
              <a:ext cx="49608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3"/>
            <p:cNvSpPr/>
            <p:nvPr/>
          </p:nvSpPr>
          <p:spPr>
            <a:xfrm>
              <a:off x="784728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4"/>
            <p:cNvSpPr/>
            <p:nvPr/>
          </p:nvSpPr>
          <p:spPr>
            <a:xfrm>
              <a:off x="7946280" y="451440"/>
              <a:ext cx="44640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9" name="Picture 25" descr="Thumper-1-lg"/>
            <p:cNvPicPr/>
            <p:nvPr/>
          </p:nvPicPr>
          <p:blipFill>
            <a:blip r:embed="rId4"/>
            <a:stretch/>
          </p:blipFill>
          <p:spPr>
            <a:xfrm>
              <a:off x="6705720" y="304920"/>
              <a:ext cx="2209680" cy="259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0" name="Picture 26" descr="зайчик 1"/>
          <p:cNvPicPr/>
          <p:nvPr/>
        </p:nvPicPr>
        <p:blipFill>
          <a:blip r:embed="rId5">
            <a:grayscl/>
            <a:lum bright="30000"/>
          </a:blip>
          <a:stretch/>
        </p:blipFill>
        <p:spPr>
          <a:xfrm>
            <a:off x="2209680" y="3276720"/>
            <a:ext cx="1844640" cy="28940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7" descr="зайчик 1"/>
          <p:cNvPicPr/>
          <p:nvPr/>
        </p:nvPicPr>
        <p:blipFill>
          <a:blip r:embed="rId6">
            <a:grayscl/>
            <a:lum bright="30000"/>
          </a:blip>
          <a:stretch/>
        </p:blipFill>
        <p:spPr>
          <a:xfrm>
            <a:off x="4495680" y="3200400"/>
            <a:ext cx="18446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5"/>
          <p:cNvGrpSpPr/>
          <p:nvPr/>
        </p:nvGrpSpPr>
        <p:grpSpPr>
          <a:xfrm>
            <a:off x="228600" y="228600"/>
            <a:ext cx="8686800" cy="2666880"/>
            <a:chOff x="228600" y="228600"/>
            <a:chExt cx="8686800" cy="2666880"/>
          </a:xfrm>
        </p:grpSpPr>
        <p:grpSp>
          <p:nvGrpSpPr>
            <p:cNvPr id="443" name="Group 2"/>
            <p:cNvGrpSpPr/>
            <p:nvPr/>
          </p:nvGrpSpPr>
          <p:grpSpPr>
            <a:xfrm>
              <a:off x="228600" y="304920"/>
              <a:ext cx="2209680" cy="2590560"/>
              <a:chOff x="228600" y="304920"/>
              <a:chExt cx="2209680" cy="2590560"/>
            </a:xfrm>
          </p:grpSpPr>
          <p:sp>
            <p:nvSpPr>
              <p:cNvPr id="444" name="Oval 3"/>
              <p:cNvSpPr/>
              <p:nvPr/>
            </p:nvSpPr>
            <p:spPr>
              <a:xfrm rot="1914600">
                <a:off x="370080" y="1537560"/>
                <a:ext cx="496080" cy="620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4"/>
              <p:cNvSpPr/>
              <p:nvPr/>
            </p:nvSpPr>
            <p:spPr>
              <a:xfrm>
                <a:off x="1370160" y="1477800"/>
                <a:ext cx="545760" cy="58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5"/>
              <p:cNvSpPr/>
              <p:nvPr/>
            </p:nvSpPr>
            <p:spPr>
              <a:xfrm>
                <a:off x="1469160" y="451440"/>
                <a:ext cx="446400" cy="53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7" name="Picture 6" descr="Thumper-1-lg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04920"/>
                <a:ext cx="2209680" cy="259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8" name="Group 7"/>
            <p:cNvGrpSpPr/>
            <p:nvPr/>
          </p:nvGrpSpPr>
          <p:grpSpPr>
            <a:xfrm>
              <a:off x="2286000" y="228600"/>
              <a:ext cx="2209680" cy="2590920"/>
              <a:chOff x="2286000" y="228600"/>
              <a:chExt cx="2209680" cy="2590920"/>
            </a:xfrm>
          </p:grpSpPr>
          <p:sp>
            <p:nvSpPr>
              <p:cNvPr id="449" name="Oval 8"/>
              <p:cNvSpPr/>
              <p:nvPr/>
            </p:nvSpPr>
            <p:spPr>
              <a:xfrm rot="1914600">
                <a:off x="2427120" y="1461600"/>
                <a:ext cx="496080" cy="621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9"/>
              <p:cNvSpPr/>
              <p:nvPr/>
            </p:nvSpPr>
            <p:spPr>
              <a:xfrm>
                <a:off x="3427560" y="1401480"/>
                <a:ext cx="545760" cy="58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10"/>
              <p:cNvSpPr/>
              <p:nvPr/>
            </p:nvSpPr>
            <p:spPr>
              <a:xfrm>
                <a:off x="3526560" y="375120"/>
                <a:ext cx="446400" cy="537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2" name="Picture 11" descr="Thumper-1-lg"/>
              <p:cNvPicPr/>
              <p:nvPr/>
            </p:nvPicPr>
            <p:blipFill>
              <a:blip r:embed="rId2"/>
              <a:stretch/>
            </p:blipFill>
            <p:spPr>
              <a:xfrm>
                <a:off x="2286000" y="228600"/>
                <a:ext cx="2209680" cy="2590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3" name="Group 12"/>
            <p:cNvGrpSpPr/>
            <p:nvPr/>
          </p:nvGrpSpPr>
          <p:grpSpPr>
            <a:xfrm>
              <a:off x="4495680" y="304920"/>
              <a:ext cx="2210040" cy="2590560"/>
              <a:chOff x="4495680" y="304920"/>
              <a:chExt cx="2210040" cy="2590560"/>
            </a:xfrm>
          </p:grpSpPr>
          <p:sp>
            <p:nvSpPr>
              <p:cNvPr id="454" name="Oval 13"/>
              <p:cNvSpPr/>
              <p:nvPr/>
            </p:nvSpPr>
            <p:spPr>
              <a:xfrm rot="1914600">
                <a:off x="4637160" y="1537920"/>
                <a:ext cx="496440" cy="620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14"/>
              <p:cNvSpPr/>
              <p:nvPr/>
            </p:nvSpPr>
            <p:spPr>
              <a:xfrm>
                <a:off x="5637240" y="1477800"/>
                <a:ext cx="545760" cy="58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15"/>
              <p:cNvSpPr/>
              <p:nvPr/>
            </p:nvSpPr>
            <p:spPr>
              <a:xfrm>
                <a:off x="5736600" y="451440"/>
                <a:ext cx="446760" cy="53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7" name="Picture 16" descr="Thumper-1-lg"/>
              <p:cNvPicPr/>
              <p:nvPr/>
            </p:nvPicPr>
            <p:blipFill>
              <a:blip r:embed="rId3"/>
              <a:stretch/>
            </p:blipFill>
            <p:spPr>
              <a:xfrm>
                <a:off x="4495680" y="304920"/>
                <a:ext cx="2210040" cy="259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Group 17"/>
            <p:cNvGrpSpPr/>
            <p:nvPr/>
          </p:nvGrpSpPr>
          <p:grpSpPr>
            <a:xfrm>
              <a:off x="6705720" y="304920"/>
              <a:ext cx="2209680" cy="2590560"/>
              <a:chOff x="6705720" y="304920"/>
              <a:chExt cx="2209680" cy="2590560"/>
            </a:xfrm>
          </p:grpSpPr>
          <p:sp>
            <p:nvSpPr>
              <p:cNvPr id="459" name="Oval 18"/>
              <p:cNvSpPr/>
              <p:nvPr/>
            </p:nvSpPr>
            <p:spPr>
              <a:xfrm rot="1914600">
                <a:off x="6847200" y="1537560"/>
                <a:ext cx="496080" cy="620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19"/>
              <p:cNvSpPr/>
              <p:nvPr/>
            </p:nvSpPr>
            <p:spPr>
              <a:xfrm>
                <a:off x="7847280" y="1477800"/>
                <a:ext cx="545760" cy="58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20"/>
              <p:cNvSpPr/>
              <p:nvPr/>
            </p:nvSpPr>
            <p:spPr>
              <a:xfrm>
                <a:off x="7946280" y="451440"/>
                <a:ext cx="446400" cy="53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2" name="Picture 21" descr="Thumper-1-lg"/>
              <p:cNvPicPr/>
              <p:nvPr/>
            </p:nvPicPr>
            <p:blipFill>
              <a:blip r:embed="rId4"/>
              <a:stretch/>
            </p:blipFill>
            <p:spPr>
              <a:xfrm>
                <a:off x="6705720" y="304920"/>
                <a:ext cx="2209680" cy="259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63" name="Picture 26" descr="зайчик 1"/>
          <p:cNvPicPr/>
          <p:nvPr/>
        </p:nvPicPr>
        <p:blipFill>
          <a:blip r:embed="rId5">
            <a:grayscl/>
            <a:lum bright="30000"/>
          </a:blip>
          <a:stretch/>
        </p:blipFill>
        <p:spPr>
          <a:xfrm>
            <a:off x="2209680" y="3276720"/>
            <a:ext cx="1844640" cy="2894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7" descr="зайчик 1"/>
          <p:cNvPicPr/>
          <p:nvPr/>
        </p:nvPicPr>
        <p:blipFill>
          <a:blip r:embed="rId6">
            <a:grayscl/>
            <a:lum bright="30000"/>
          </a:blip>
          <a:stretch/>
        </p:blipFill>
        <p:spPr>
          <a:xfrm>
            <a:off x="4495680" y="3200400"/>
            <a:ext cx="18446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228600" y="304920"/>
            <a:ext cx="2209680" cy="2590560"/>
            <a:chOff x="228600" y="304920"/>
            <a:chExt cx="2209680" cy="2590560"/>
          </a:xfrm>
        </p:grpSpPr>
        <p:sp>
          <p:nvSpPr>
            <p:cNvPr id="466" name="Oval 3"/>
            <p:cNvSpPr/>
            <p:nvPr/>
          </p:nvSpPr>
          <p:spPr>
            <a:xfrm rot="1914600">
              <a:off x="370080" y="1537560"/>
              <a:ext cx="49608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"/>
            <p:cNvSpPr/>
            <p:nvPr/>
          </p:nvSpPr>
          <p:spPr>
            <a:xfrm>
              <a:off x="137016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"/>
            <p:cNvSpPr/>
            <p:nvPr/>
          </p:nvSpPr>
          <p:spPr>
            <a:xfrm>
              <a:off x="1469160" y="451440"/>
              <a:ext cx="44640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" name="Picture 6" descr="Thumper-1-lg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20968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Group 7"/>
          <p:cNvGrpSpPr/>
          <p:nvPr/>
        </p:nvGrpSpPr>
        <p:grpSpPr>
          <a:xfrm>
            <a:off x="2286000" y="228600"/>
            <a:ext cx="2209680" cy="2590920"/>
            <a:chOff x="2286000" y="228600"/>
            <a:chExt cx="2209680" cy="2590920"/>
          </a:xfrm>
        </p:grpSpPr>
        <p:sp>
          <p:nvSpPr>
            <p:cNvPr id="471" name="Oval 8"/>
            <p:cNvSpPr/>
            <p:nvPr/>
          </p:nvSpPr>
          <p:spPr>
            <a:xfrm rot="1914600">
              <a:off x="2427120" y="1461600"/>
              <a:ext cx="496080" cy="62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"/>
            <p:cNvSpPr/>
            <p:nvPr/>
          </p:nvSpPr>
          <p:spPr>
            <a:xfrm>
              <a:off x="3427560" y="140148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0"/>
            <p:cNvSpPr/>
            <p:nvPr/>
          </p:nvSpPr>
          <p:spPr>
            <a:xfrm>
              <a:off x="3526560" y="375120"/>
              <a:ext cx="446400" cy="53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4" name="Picture 11" descr="Thumper-1-lg"/>
            <p:cNvPicPr/>
            <p:nvPr/>
          </p:nvPicPr>
          <p:blipFill>
            <a:blip r:embed="rId2"/>
            <a:stretch/>
          </p:blipFill>
          <p:spPr>
            <a:xfrm>
              <a:off x="2286000" y="228600"/>
              <a:ext cx="2209680" cy="259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Group 12"/>
          <p:cNvGrpSpPr/>
          <p:nvPr/>
        </p:nvGrpSpPr>
        <p:grpSpPr>
          <a:xfrm>
            <a:off x="4495680" y="304920"/>
            <a:ext cx="2210040" cy="2590560"/>
            <a:chOff x="4495680" y="304920"/>
            <a:chExt cx="2210040" cy="2590560"/>
          </a:xfrm>
        </p:grpSpPr>
        <p:sp>
          <p:nvSpPr>
            <p:cNvPr id="476" name="Oval 13"/>
            <p:cNvSpPr/>
            <p:nvPr/>
          </p:nvSpPr>
          <p:spPr>
            <a:xfrm rot="1914600">
              <a:off x="4637160" y="1537920"/>
              <a:ext cx="49644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4"/>
            <p:cNvSpPr/>
            <p:nvPr/>
          </p:nvSpPr>
          <p:spPr>
            <a:xfrm>
              <a:off x="563724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5"/>
            <p:cNvSpPr/>
            <p:nvPr/>
          </p:nvSpPr>
          <p:spPr>
            <a:xfrm>
              <a:off x="5736600" y="451440"/>
              <a:ext cx="44676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Thumper-1-lg"/>
            <p:cNvPicPr/>
            <p:nvPr/>
          </p:nvPicPr>
          <p:blipFill>
            <a:blip r:embed="rId3"/>
            <a:stretch/>
          </p:blipFill>
          <p:spPr>
            <a:xfrm>
              <a:off x="4495680" y="304920"/>
              <a:ext cx="221004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0" name="Group 17"/>
          <p:cNvGrpSpPr/>
          <p:nvPr/>
        </p:nvGrpSpPr>
        <p:grpSpPr>
          <a:xfrm>
            <a:off x="6705720" y="304920"/>
            <a:ext cx="2209680" cy="2590560"/>
            <a:chOff x="6705720" y="304920"/>
            <a:chExt cx="2209680" cy="2590560"/>
          </a:xfrm>
        </p:grpSpPr>
        <p:sp>
          <p:nvSpPr>
            <p:cNvPr id="481" name="Oval 18"/>
            <p:cNvSpPr/>
            <p:nvPr/>
          </p:nvSpPr>
          <p:spPr>
            <a:xfrm rot="1914600">
              <a:off x="6847200" y="1537560"/>
              <a:ext cx="49608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9"/>
            <p:cNvSpPr/>
            <p:nvPr/>
          </p:nvSpPr>
          <p:spPr>
            <a:xfrm>
              <a:off x="784728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20"/>
            <p:cNvSpPr/>
            <p:nvPr/>
          </p:nvSpPr>
          <p:spPr>
            <a:xfrm>
              <a:off x="7946280" y="451440"/>
              <a:ext cx="44640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4" name="Picture 21" descr="Thumper-1-lg"/>
            <p:cNvPicPr/>
            <p:nvPr/>
          </p:nvPicPr>
          <p:blipFill>
            <a:blip r:embed="rId4"/>
            <a:stretch/>
          </p:blipFill>
          <p:spPr>
            <a:xfrm>
              <a:off x="6705720" y="304920"/>
              <a:ext cx="220968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5" name="Group 24"/>
          <p:cNvGrpSpPr/>
          <p:nvPr/>
        </p:nvGrpSpPr>
        <p:grpSpPr>
          <a:xfrm>
            <a:off x="2209680" y="3200400"/>
            <a:ext cx="4130640" cy="2970360"/>
            <a:chOff x="2209680" y="3200400"/>
            <a:chExt cx="4130640" cy="2970360"/>
          </a:xfrm>
        </p:grpSpPr>
        <p:pic>
          <p:nvPicPr>
            <p:cNvPr id="486" name="Picture 22" descr="зайчик 1"/>
            <p:cNvPicPr/>
            <p:nvPr/>
          </p:nvPicPr>
          <p:blipFill>
            <a:blip r:embed="rId5">
              <a:grayscl/>
              <a:lum bright="30000"/>
            </a:blip>
            <a:stretch/>
          </p:blipFill>
          <p:spPr>
            <a:xfrm>
              <a:off x="2209680" y="3276720"/>
              <a:ext cx="1844640" cy="28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3" descr="зайчик 1"/>
            <p:cNvPicPr/>
            <p:nvPr/>
          </p:nvPicPr>
          <p:blipFill>
            <a:blip r:embed="rId6">
              <a:grayscl/>
              <a:lum bright="30000"/>
            </a:blip>
            <a:stretch/>
          </p:blipFill>
          <p:spPr>
            <a:xfrm>
              <a:off x="4495680" y="3200400"/>
              <a:ext cx="1844640" cy="289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4" descr="шк_доска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WordArt 5"/>
          <p:cNvSpPr txBox="1"/>
          <p:nvPr/>
        </p:nvSpPr>
        <p:spPr>
          <a:xfrm>
            <a:off x="1981080" y="838080"/>
            <a:ext cx="59436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 + 2 =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 - 4 =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 - 2 =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шк_доска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WordArt 4"/>
          <p:cNvSpPr txBox="1"/>
          <p:nvPr/>
        </p:nvSpPr>
        <p:spPr>
          <a:xfrm>
            <a:off x="1371600" y="533520"/>
            <a:ext cx="60958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 из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че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учит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2" name="WordArt 5"/>
          <p:cNvSpPr txBox="1"/>
          <p:nvPr/>
        </p:nvSpPr>
        <p:spPr>
          <a:xfrm>
            <a:off x="1676520" y="3352680"/>
            <a:ext cx="5715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4b9e8"/>
                </a:solidFill>
                <a:latin typeface="Arial"/>
              </a:rPr>
              <a:t>одно  слагаемо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4b9e8"/>
              </a:solidFill>
              <a:latin typeface="Arial"/>
              <a:ea typeface="Arial"/>
            </a:endParaRPr>
          </a:p>
        </p:txBody>
      </p:sp>
      <p:sp>
        <p:nvSpPr>
          <p:cNvPr id="493" name="WordArt 6"/>
          <p:cNvSpPr txBox="1"/>
          <p:nvPr/>
        </p:nvSpPr>
        <p:spPr>
          <a:xfrm>
            <a:off x="2819520" y="1600200"/>
            <a:ext cx="3200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4b9e8"/>
                </a:solidFill>
                <a:latin typeface="Arial"/>
              </a:rPr>
              <a:t>сум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4b9e8"/>
              </a:solidFill>
              <a:latin typeface="Arial"/>
              <a:ea typeface="Arial"/>
            </a:endParaRPr>
          </a:p>
        </p:txBody>
      </p:sp>
      <p:sp>
        <p:nvSpPr>
          <p:cNvPr id="494" name="WordArt 7"/>
          <p:cNvSpPr txBox="1"/>
          <p:nvPr/>
        </p:nvSpPr>
        <p:spPr>
          <a:xfrm>
            <a:off x="1371600" y="5181480"/>
            <a:ext cx="6400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4b9e8"/>
                </a:solidFill>
                <a:latin typeface="Arial"/>
              </a:rPr>
              <a:t>другое  слагаемо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4b9e8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4:53:29Z</dcterms:created>
  <dc:creator>user</dc:creator>
  <dc:description/>
  <dc:language>en-US</dc:language>
  <cp:lastModifiedBy>Ёля</cp:lastModifiedBy>
  <dcterms:modified xsi:type="dcterms:W3CDTF">2014-05-17T14:34:1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