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976-DEEA-499B-B407-A081E416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C63-E86C-406D-9E15-6C8D8A41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00E-B2B7-401C-9439-01F0CB87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FA0-BBB3-486A-8D01-CFA2890F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BF34-8C70-4602-BF4A-1C6DA1EF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1824-7D6E-4031-BAB1-0A816999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B920-39BB-49D9-990E-99E9B466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001E-A0F6-469C-95F9-A0A9CE32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804B-EDEF-4560-B4AD-FBAF4872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B4A4-1F8D-4F19-B350-C300D941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4617-A22D-4B1A-9AAA-7DF880AC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EA9-DFDF-4BBA-809D-0FB8D72D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BDEE-959E-4C80-9966-8E6DB4D4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5653-3A69-484E-B675-156A47A7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B580-238C-451E-A83B-26962B85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67F3-4891-4B70-B930-A987C588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7D85-36BB-439B-BAC6-3E62C47C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81EDB-4102-4D0C-B8E2-797054BA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CCD3-706A-4EE3-B030-35B17617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2B781-EB06-44AB-AF00-76C40970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7041-B45F-46E2-A8D7-6FE93370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E0DCB-7C72-4F80-A4D5-4FEC98CC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46F-8E4A-461A-B7D2-7C0CBB80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298E-2F1C-4D5F-B96D-7CCCC0FB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F8017-7B84-41D2-A41E-A860B0B6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B6EE-72BF-40BA-B49E-BFEF9278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555C5-1EEF-4355-8A3D-DD80C102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F5CD-B853-40D9-A9D0-305D35B2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43479-4B7B-41F6-84D4-0B1F21BC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552D-A6C5-4E78-B229-F487482A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4CF36-D806-497E-BEEB-84E93419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2383-C512-4CEB-A494-905FD62A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E340D-EA68-4DEA-870C-657FE3FF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9A3-EC75-4A25-B2CF-EB398982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BF420-5760-4592-9B58-24D6AFCE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8A963-7D51-4FE1-8278-99EDC15D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B2D54-368E-40FA-ADF7-ADC6CB65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472E0-8400-4173-A0D5-048ADEF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A3B0E-4F35-46BC-A5A9-D7A59772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3E9BC-C1BC-4AA8-B677-7026A12A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EB60F-9469-4C21-81E9-2494407E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CF9AC-95A0-4AFB-A957-D482C106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A1B37-E17B-461D-847C-3CFF7F6F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7797-DC7B-4A2D-9646-738521E6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606-DB74-49DF-BE26-E839521D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FE4EB-0870-4B32-8C56-53DC9D7C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92A51-F224-4D9A-814C-5C7CBB3B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7FF95-563F-4DA9-A119-E60C3441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1449C-B060-4188-A8BF-411C5C74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20D52-DC46-469F-8153-AF842711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8B5AA-BA49-43AD-A7AB-48169808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190C5-8082-4AB2-8014-3E705C87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D0C7D-EA0C-4FA2-9D5F-1F73290C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8EA2C-7736-4065-9B22-D124E196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8609F-1F82-4F48-B395-078F9015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518-A976-435E-9D34-318CA9F8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7DEF6-A72D-4ADC-9B70-9A32D349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1A0-93CE-47F9-A77C-956EEC3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3A5-E5C1-47D3-8E2E-52CD1242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940-CFC5-4B25-A776-EBAC7FBA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5F40-83DC-4F1F-9A79-0C927279F05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57DB-FF2B-4A04-A1FC-F7626A39475E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55AB-1D2C-46DF-9126-2BB7361FA6F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FD59-1AF4-4544-9720-62496241EB89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AAFC-3A5A-42F1-B080-286166EE967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3" descr=""/>
          <p:cNvPicPr/>
          <p:nvPr/>
        </p:nvPicPr>
        <p:blipFill>
          <a:blip r:embed="rId2"/>
          <a:stretch/>
        </p:blipFill>
        <p:spPr>
          <a:xfrm>
            <a:off x="1779480" y="109440"/>
            <a:ext cx="479736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5" descr=""/>
          <p:cNvPicPr/>
          <p:nvPr/>
        </p:nvPicPr>
        <p:blipFill>
          <a:blip r:embed="rId3"/>
          <a:stretch/>
        </p:blipFill>
        <p:spPr>
          <a:xfrm>
            <a:off x="1403280" y="1341360"/>
            <a:ext cx="5533920" cy="11397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2"/>
          <p:cNvSpPr/>
          <p:nvPr/>
        </p:nvSpPr>
        <p:spPr>
          <a:xfrm>
            <a:off x="395280" y="5013360"/>
            <a:ext cx="496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Работу выполнил: Александр Поп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ченик 7Б клас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Руководитель: Поспелова Г.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МБОУ «СОШ №20» г. Новомосковс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018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>
            <a:hlinkClick r:id="" action="ppaction://hlinkshowjump?jump=nextslide"/>
          </p:cNvPr>
          <p:cNvSpPr/>
          <p:nvPr/>
        </p:nvSpPr>
        <p:spPr>
          <a:xfrm>
            <a:off x="6804000" y="5734080"/>
            <a:ext cx="1368360" cy="1123920"/>
          </a:xfrm>
          <a:custGeom>
            <a:avLst/>
            <a:gdLst>
              <a:gd name="textAreaLeft" fmla="*/ 72720 w 1368360"/>
              <a:gd name="textAreaRight" fmla="*/ 1295640 w 13683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2" y="3794"/>
                </a:moveTo>
                <a:lnTo>
                  <a:pt x="20155" y="10800"/>
                </a:lnTo>
                <a:lnTo>
                  <a:pt x="6142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817236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-3095280" y="3429000"/>
            <a:ext cx="652464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2268360" y="26028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яснение  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24000" y="2565360"/>
            <a:ext cx="756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иант ответа, который вы выбрали поменял цвет на крас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ыскочил, то он ошибо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иант ответа поменял цвет на зелёный, то он в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>
            <a:hlinkClick r:id="" action="ppaction://hlinkshowjump?jump=nextslide"/>
          </p:cNvPr>
          <p:cNvSpPr/>
          <p:nvPr/>
        </p:nvSpPr>
        <p:spPr>
          <a:xfrm>
            <a:off x="6804000" y="5734080"/>
            <a:ext cx="1370160" cy="1123920"/>
          </a:xfrm>
          <a:custGeom>
            <a:avLst/>
            <a:gdLst>
              <a:gd name="textAreaLeft" fmla="*/ 72720 w 1370160"/>
              <a:gd name="textAreaRight" fmla="*/ 1297440 w 13701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331" h="21600">
                <a:moveTo>
                  <a:pt x="0" y="0"/>
                </a:moveTo>
                <a:lnTo>
                  <a:pt x="26331" y="0"/>
                </a:lnTo>
                <a:lnTo>
                  <a:pt x="26331" y="21600"/>
                </a:lnTo>
                <a:lnTo>
                  <a:pt x="0" y="21600"/>
                </a:lnTo>
                <a:close/>
              </a:path>
              <a:path fill="lightenLess" w="26331" h="21600">
                <a:moveTo>
                  <a:pt x="0" y="0"/>
                </a:moveTo>
                <a:lnTo>
                  <a:pt x="26331" y="0"/>
                </a:lnTo>
                <a:lnTo>
                  <a:pt x="24931" y="1400"/>
                </a:lnTo>
                <a:lnTo>
                  <a:pt x="1400" y="1400"/>
                </a:lnTo>
                <a:close/>
              </a:path>
              <a:path fill="darken" w="26331" h="21600">
                <a:moveTo>
                  <a:pt x="26331" y="0"/>
                </a:moveTo>
                <a:lnTo>
                  <a:pt x="26331" y="21600"/>
                </a:lnTo>
                <a:lnTo>
                  <a:pt x="24931" y="20200"/>
                </a:lnTo>
                <a:lnTo>
                  <a:pt x="24931" y="1400"/>
                </a:lnTo>
                <a:close/>
              </a:path>
              <a:path fill="darkenLess" w="26331" h="21600">
                <a:moveTo>
                  <a:pt x="26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1" y="20200"/>
                </a:lnTo>
                <a:close/>
              </a:path>
              <a:path fill="lighten" w="26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1" h="21600">
                <a:moveTo>
                  <a:pt x="6159" y="3794"/>
                </a:moveTo>
                <a:lnTo>
                  <a:pt x="20172" y="10800"/>
                </a:lnTo>
                <a:lnTo>
                  <a:pt x="6159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1547640" y="189000"/>
            <a:ext cx="5545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лько   будет   5  x  12 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684360" y="2852640"/>
            <a:ext cx="51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5</a:t>
            </a:r>
            <a:endParaRPr b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2268360" y="41497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9</a:t>
            </a:r>
            <a:endParaRPr b="1" i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3851280" y="27813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0</a:t>
            </a:r>
            <a:endParaRPr b="1" i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6084720" y="3860640"/>
            <a:ext cx="771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5</a:t>
            </a:r>
            <a:endParaRPr b="1" i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AutoShape 9">
            <a:hlinkClick r:id="" action="ppaction://hlinkshowjump?jump=nextslide"/>
          </p:cNvPr>
          <p:cNvSpPr/>
          <p:nvPr/>
        </p:nvSpPr>
        <p:spPr>
          <a:xfrm>
            <a:off x="6804000" y="5805360"/>
            <a:ext cx="1366920" cy="1052640"/>
          </a:xfrm>
          <a:custGeom>
            <a:avLst/>
            <a:gdLst>
              <a:gd name="textAreaLeft" fmla="*/ 68040 w 1366920"/>
              <a:gd name="textAreaRight" fmla="*/ 1298880 w 13669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8047" h="21600">
                <a:moveTo>
                  <a:pt x="0" y="0"/>
                </a:moveTo>
                <a:lnTo>
                  <a:pt x="28047" y="0"/>
                </a:lnTo>
                <a:lnTo>
                  <a:pt x="28047" y="21600"/>
                </a:lnTo>
                <a:lnTo>
                  <a:pt x="0" y="21600"/>
                </a:lnTo>
                <a:close/>
              </a:path>
              <a:path fill="lightenLess" w="28047" h="21600">
                <a:moveTo>
                  <a:pt x="0" y="0"/>
                </a:moveTo>
                <a:lnTo>
                  <a:pt x="28047" y="0"/>
                </a:lnTo>
                <a:lnTo>
                  <a:pt x="26647" y="1400"/>
                </a:lnTo>
                <a:lnTo>
                  <a:pt x="1400" y="1400"/>
                </a:lnTo>
                <a:close/>
              </a:path>
              <a:path fill="darken" w="28047" h="21600">
                <a:moveTo>
                  <a:pt x="28047" y="0"/>
                </a:moveTo>
                <a:lnTo>
                  <a:pt x="28047" y="21600"/>
                </a:lnTo>
                <a:lnTo>
                  <a:pt x="26647" y="20200"/>
                </a:lnTo>
                <a:lnTo>
                  <a:pt x="26647" y="1400"/>
                </a:lnTo>
                <a:close/>
              </a:path>
              <a:path fill="darkenLess" w="28047" h="21600">
                <a:moveTo>
                  <a:pt x="28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7" y="20200"/>
                </a:lnTo>
                <a:close/>
              </a:path>
              <a:path fill="lighten" w="28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47" h="21600">
                <a:moveTo>
                  <a:pt x="7017" y="3794"/>
                </a:moveTo>
                <a:lnTo>
                  <a:pt x="21030" y="10800"/>
                </a:lnTo>
                <a:lnTo>
                  <a:pt x="7017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12"/>
          <p:cNvSpPr txBox="1"/>
          <p:nvPr/>
        </p:nvSpPr>
        <p:spPr>
          <a:xfrm>
            <a:off x="1619280" y="0"/>
            <a:ext cx="547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йдите   НОК   2 - х    чисел  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  и  12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1116000" y="2708280"/>
            <a:ext cx="934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6300720" y="2421000"/>
            <a:ext cx="79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9"/>
          <p:cNvSpPr txBox="1"/>
          <p:nvPr/>
        </p:nvSpPr>
        <p:spPr>
          <a:xfrm>
            <a:off x="3780000" y="4149720"/>
            <a:ext cx="86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AutoShape 9">
            <a:hlinkClick r:id="" action="ppaction://hlinkshowjump?jump=nextslide"/>
          </p:cNvPr>
          <p:cNvSpPr/>
          <p:nvPr/>
        </p:nvSpPr>
        <p:spPr>
          <a:xfrm>
            <a:off x="6804000" y="5805360"/>
            <a:ext cx="1366920" cy="1052640"/>
          </a:xfrm>
          <a:custGeom>
            <a:avLst/>
            <a:gdLst>
              <a:gd name="textAreaLeft" fmla="*/ 68040 w 1366920"/>
              <a:gd name="textAreaRight" fmla="*/ 1298880 w 13669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8047" h="21600">
                <a:moveTo>
                  <a:pt x="0" y="0"/>
                </a:moveTo>
                <a:lnTo>
                  <a:pt x="28047" y="0"/>
                </a:lnTo>
                <a:lnTo>
                  <a:pt x="28047" y="21600"/>
                </a:lnTo>
                <a:lnTo>
                  <a:pt x="0" y="21600"/>
                </a:lnTo>
                <a:close/>
              </a:path>
              <a:path fill="lightenLess" w="28047" h="21600">
                <a:moveTo>
                  <a:pt x="0" y="0"/>
                </a:moveTo>
                <a:lnTo>
                  <a:pt x="28047" y="0"/>
                </a:lnTo>
                <a:lnTo>
                  <a:pt x="26647" y="1400"/>
                </a:lnTo>
                <a:lnTo>
                  <a:pt x="1400" y="1400"/>
                </a:lnTo>
                <a:close/>
              </a:path>
              <a:path fill="darken" w="28047" h="21600">
                <a:moveTo>
                  <a:pt x="28047" y="0"/>
                </a:moveTo>
                <a:lnTo>
                  <a:pt x="28047" y="21600"/>
                </a:lnTo>
                <a:lnTo>
                  <a:pt x="26647" y="20200"/>
                </a:lnTo>
                <a:lnTo>
                  <a:pt x="26647" y="1400"/>
                </a:lnTo>
                <a:close/>
              </a:path>
              <a:path fill="darkenLess" w="28047" h="21600">
                <a:moveTo>
                  <a:pt x="28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7" y="20200"/>
                </a:lnTo>
                <a:close/>
              </a:path>
              <a:path fill="lighten" w="28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47" h="21600">
                <a:moveTo>
                  <a:pt x="7017" y="3794"/>
                </a:moveTo>
                <a:lnTo>
                  <a:pt x="21030" y="10800"/>
                </a:lnTo>
                <a:lnTo>
                  <a:pt x="7017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>
            <a:off x="1258920" y="333360"/>
            <a:ext cx="5905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ие   бывают   дроби  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WordArt 6"/>
          <p:cNvSpPr txBox="1"/>
          <p:nvPr/>
        </p:nvSpPr>
        <p:spPr>
          <a:xfrm>
            <a:off x="900000" y="2421000"/>
            <a:ext cx="388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тые   и   сложные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3708360" y="3429000"/>
            <a:ext cx="316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олько   лёгк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971640" y="4581360"/>
            <a:ext cx="5100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тые   и   десятичн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AutoShape 5">
            <a:hlinkClick r:id="" action="ppaction://hlinkshowjump?jump=nextslide"/>
          </p:cNvPr>
          <p:cNvSpPr/>
          <p:nvPr/>
        </p:nvSpPr>
        <p:spPr>
          <a:xfrm>
            <a:off x="6804000" y="5734080"/>
            <a:ext cx="1368360" cy="1123920"/>
          </a:xfrm>
          <a:custGeom>
            <a:avLst/>
            <a:gdLst>
              <a:gd name="textAreaLeft" fmla="*/ 72720 w 1368360"/>
              <a:gd name="textAreaRight" fmla="*/ 1295640 w 13683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2" y="3794"/>
                </a:moveTo>
                <a:lnTo>
                  <a:pt x="20155" y="10800"/>
                </a:lnTo>
                <a:lnTo>
                  <a:pt x="6142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755640" y="333360"/>
            <a:ext cx="6972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83d68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   невыполнимый   вопрос!</a:t>
            </a:r>
            <a:endParaRPr b="0" lang="en-US" sz="1800" spc="1" strike="noStrike">
              <a:ln w="9360">
                <a:solidFill>
                  <a:srgbClr val="b83d68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3"/>
          <p:cNvSpPr txBox="1"/>
          <p:nvPr/>
        </p:nvSpPr>
        <p:spPr>
          <a:xfrm>
            <a:off x="179280" y="5373720"/>
            <a:ext cx="782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83d68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бы   перейти   к   вопросу   нажмите   на   кнопку</a:t>
            </a:r>
            <a:endParaRPr b="0" lang="en-US" sz="1800" spc="1" strike="noStrike">
              <a:ln w="9360">
                <a:solidFill>
                  <a:srgbClr val="b83d68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4">
            <a:hlinkClick r:id="" action="ppaction://hlinkshowjump?jump=nextslide"/>
          </p:cNvPr>
          <p:cNvSpPr/>
          <p:nvPr/>
        </p:nvSpPr>
        <p:spPr>
          <a:xfrm>
            <a:off x="539640" y="1557360"/>
            <a:ext cx="7056720" cy="3527280"/>
          </a:xfrm>
          <a:custGeom>
            <a:avLst/>
            <a:gdLst>
              <a:gd name="textAreaLeft" fmla="*/ 228600 w 7056720"/>
              <a:gd name="textAreaRight" fmla="*/ 6828120 w 7056720"/>
              <a:gd name="textAreaTop" fmla="*/ 228600 h 3527280"/>
              <a:gd name="textAreaBottom" fmla="*/ 3298680 h 3527280"/>
            </a:gdLst>
            <a:ahLst/>
            <a:rect l="textAreaLeft" t="textAreaTop" r="textAreaRight" b="textAreaBottom"/>
            <a:pathLst>
              <a:path w="43211" h="21600">
                <a:moveTo>
                  <a:pt x="0" y="0"/>
                </a:moveTo>
                <a:lnTo>
                  <a:pt x="43211" y="0"/>
                </a:lnTo>
                <a:lnTo>
                  <a:pt x="43211" y="21600"/>
                </a:lnTo>
                <a:lnTo>
                  <a:pt x="0" y="21600"/>
                </a:lnTo>
                <a:close/>
              </a:path>
              <a:path fill="lightenLess" w="43211" h="21600">
                <a:moveTo>
                  <a:pt x="0" y="0"/>
                </a:moveTo>
                <a:lnTo>
                  <a:pt x="43211" y="0"/>
                </a:lnTo>
                <a:lnTo>
                  <a:pt x="41811" y="1400"/>
                </a:lnTo>
                <a:lnTo>
                  <a:pt x="1400" y="1400"/>
                </a:lnTo>
                <a:close/>
              </a:path>
              <a:path fill="darken" w="43211" h="21600">
                <a:moveTo>
                  <a:pt x="43211" y="0"/>
                </a:moveTo>
                <a:lnTo>
                  <a:pt x="43211" y="21600"/>
                </a:lnTo>
                <a:lnTo>
                  <a:pt x="41811" y="20200"/>
                </a:lnTo>
                <a:lnTo>
                  <a:pt x="41811" y="1400"/>
                </a:lnTo>
                <a:close/>
              </a:path>
              <a:path fill="darkenLess" w="43211" h="21600">
                <a:moveTo>
                  <a:pt x="432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1" y="20200"/>
                </a:lnTo>
                <a:close/>
              </a:path>
              <a:path fill="lighten" w="432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1" h="21600">
                <a:moveTo>
                  <a:pt x="14599" y="3794"/>
                </a:moveTo>
                <a:lnTo>
                  <a:pt x="28612" y="10800"/>
                </a:lnTo>
                <a:lnTo>
                  <a:pt x="14599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6"/>
          <p:cNvSpPr txBox="1"/>
          <p:nvPr/>
        </p:nvSpPr>
        <p:spPr>
          <a:xfrm>
            <a:off x="1116000" y="260280"/>
            <a:ext cx="612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лько   будет   3201 +  633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WordArt 7"/>
          <p:cNvSpPr txBox="1"/>
          <p:nvPr/>
        </p:nvSpPr>
        <p:spPr>
          <a:xfrm>
            <a:off x="1042920" y="2708280"/>
            <a:ext cx="180036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66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WordArt 8"/>
          <p:cNvSpPr txBox="1"/>
          <p:nvPr/>
        </p:nvSpPr>
        <p:spPr>
          <a:xfrm>
            <a:off x="2484360" y="4508640"/>
            <a:ext cx="2232000" cy="92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36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WordArt 9"/>
          <p:cNvSpPr txBox="1"/>
          <p:nvPr/>
        </p:nvSpPr>
        <p:spPr>
          <a:xfrm>
            <a:off x="5148360" y="2708280"/>
            <a:ext cx="201600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53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AutoShape 5">
            <a:hlinkClick r:id="" action="ppaction://hlinkshowjump?jump=nextslide"/>
          </p:cNvPr>
          <p:cNvSpPr/>
          <p:nvPr/>
        </p:nvSpPr>
        <p:spPr>
          <a:xfrm>
            <a:off x="6804000" y="5734080"/>
            <a:ext cx="1368360" cy="1123920"/>
          </a:xfrm>
          <a:custGeom>
            <a:avLst/>
            <a:gdLst>
              <a:gd name="textAreaLeft" fmla="*/ 72720 w 1368360"/>
              <a:gd name="textAreaRight" fmla="*/ 1295640 w 13683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2" y="3794"/>
                </a:moveTo>
                <a:lnTo>
                  <a:pt x="20155" y="10800"/>
                </a:lnTo>
                <a:lnTo>
                  <a:pt x="6142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5"/>
          <p:cNvSpPr txBox="1"/>
          <p:nvPr/>
        </p:nvSpPr>
        <p:spPr>
          <a:xfrm>
            <a:off x="755640" y="2143080"/>
            <a:ext cx="71294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  за   внимание !!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>
            <a:hlinkClick r:id="" action="ppaction://hlinkshowjump?jump=endshow"/>
          </p:cNvPr>
          <p:cNvSpPr/>
          <p:nvPr/>
        </p:nvSpPr>
        <p:spPr>
          <a:xfrm>
            <a:off x="6804000" y="6021360"/>
            <a:ext cx="1368360" cy="836640"/>
          </a:xfrm>
          <a:custGeom>
            <a:avLst/>
            <a:gdLst>
              <a:gd name="textAreaLeft" fmla="*/ 54000 w 1368360"/>
              <a:gd name="textAreaRight" fmla="*/ 1314360 w 136836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5322" h="21600">
                <a:moveTo>
                  <a:pt x="0" y="0"/>
                </a:moveTo>
                <a:lnTo>
                  <a:pt x="35322" y="0"/>
                </a:lnTo>
                <a:lnTo>
                  <a:pt x="35322" y="21600"/>
                </a:lnTo>
                <a:lnTo>
                  <a:pt x="0" y="21600"/>
                </a:lnTo>
                <a:close/>
              </a:path>
              <a:path fill="lightenLess" w="35322" h="21600">
                <a:moveTo>
                  <a:pt x="0" y="0"/>
                </a:moveTo>
                <a:lnTo>
                  <a:pt x="35322" y="0"/>
                </a:lnTo>
                <a:lnTo>
                  <a:pt x="33922" y="1400"/>
                </a:lnTo>
                <a:lnTo>
                  <a:pt x="1400" y="1400"/>
                </a:lnTo>
                <a:close/>
              </a:path>
              <a:path fill="darken" w="35322" h="21600">
                <a:moveTo>
                  <a:pt x="35322" y="0"/>
                </a:moveTo>
                <a:lnTo>
                  <a:pt x="35322" y="21600"/>
                </a:lnTo>
                <a:lnTo>
                  <a:pt x="33922" y="20200"/>
                </a:lnTo>
                <a:lnTo>
                  <a:pt x="33922" y="1400"/>
                </a:lnTo>
                <a:close/>
              </a:path>
              <a:path fill="darkenLess" w="35322" h="21600">
                <a:moveTo>
                  <a:pt x="35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22" y="20200"/>
                </a:lnTo>
                <a:close/>
              </a:path>
              <a:path fill="lighten" w="35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22" h="21600">
                <a:moveTo>
                  <a:pt x="17661" y="3837"/>
                </a:moveTo>
                <a:lnTo>
                  <a:pt x="20237" y="6448"/>
                </a:lnTo>
                <a:lnTo>
                  <a:pt x="20237" y="4707"/>
                </a:lnTo>
                <a:lnTo>
                  <a:pt x="22013" y="4707"/>
                </a:lnTo>
                <a:lnTo>
                  <a:pt x="22013" y="8224"/>
                </a:lnTo>
                <a:lnTo>
                  <a:pt x="24624" y="10800"/>
                </a:lnTo>
                <a:lnTo>
                  <a:pt x="22970" y="10800"/>
                </a:lnTo>
                <a:lnTo>
                  <a:pt x="22970" y="17989"/>
                </a:lnTo>
                <a:lnTo>
                  <a:pt x="12352" y="17989"/>
                </a:lnTo>
                <a:lnTo>
                  <a:pt x="12352" y="10800"/>
                </a:lnTo>
                <a:lnTo>
                  <a:pt x="10698" y="10800"/>
                </a:lnTo>
                <a:close/>
              </a:path>
              <a:path fill="darkenLess" w="35322" h="21600">
                <a:moveTo>
                  <a:pt x="20237" y="6448"/>
                </a:moveTo>
                <a:lnTo>
                  <a:pt x="20237" y="4707"/>
                </a:lnTo>
                <a:lnTo>
                  <a:pt x="22013" y="4707"/>
                </a:lnTo>
                <a:lnTo>
                  <a:pt x="22013" y="8224"/>
                </a:lnTo>
                <a:close/>
              </a:path>
              <a:path fill="darkenLess" w="35322" h="21600">
                <a:moveTo>
                  <a:pt x="16738" y="14299"/>
                </a:moveTo>
                <a:lnTo>
                  <a:pt x="18583" y="14299"/>
                </a:lnTo>
                <a:lnTo>
                  <a:pt x="18583" y="17989"/>
                </a:lnTo>
                <a:lnTo>
                  <a:pt x="22970" y="17989"/>
                </a:lnTo>
                <a:lnTo>
                  <a:pt x="22970" y="10800"/>
                </a:lnTo>
                <a:lnTo>
                  <a:pt x="12352" y="10800"/>
                </a:lnTo>
                <a:lnTo>
                  <a:pt x="12352" y="17989"/>
                </a:lnTo>
                <a:lnTo>
                  <a:pt x="16738" y="17989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11:40:50Z</dcterms:created>
  <dc:creator>ученик</dc:creator>
  <dc:description/>
  <dc:language>en-US</dc:language>
  <cp:lastModifiedBy>Галина</cp:lastModifiedBy>
  <dcterms:modified xsi:type="dcterms:W3CDTF">2018-10-28T12:45:55Z</dcterms:modified>
  <cp:revision>18</cp:revision>
  <dc:subject/>
  <dc:title>Слайд 1</dc:title>
</cp:coreProperties>
</file>