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E2E-4D42-4024-B349-E6B9875B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62D-66F0-4AFC-86A3-B07F4D63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A47-0930-488B-BCE2-7D9D5C00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CD0-3C5D-4183-9EB5-E206AB31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8CDE-6F01-4902-85FC-122A039E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EF3F-2636-4816-91DD-B0857A1D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16D9-FCED-47C1-A2BA-36A96451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B9F1-6E57-438C-A2E8-890FE077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B8AC-891F-4E0E-9DE9-CE5AC4EA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C71A-683F-425A-81E4-7D2E60A6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C708-B396-435C-8256-AD8897AC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6CF-0A5D-4394-A7D8-1D04FC87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07B2-0DEE-4436-99E6-908DC88C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3F82-B490-43DB-B2BE-1D51D6EE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C1F8-3F79-4AC7-A041-296D6D93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4C16-960D-42DA-874C-5C876DCB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0EDA-E0CE-4107-9C1F-C3E8D62B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DC4-EE0D-4026-B7D3-55FA1576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898A-2BEF-4C78-9B01-339B6D22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4B1-7A60-490C-B125-0C8DC609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030-7BE6-4EE2-8163-2F86422A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61C-0127-4270-93AF-A079570F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505-49A2-4D44-852E-254823DF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A5C-15AE-4502-B1BA-6A708AFC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E8A1-A3D4-4037-A05F-F75A62F7FA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8559-B08C-449B-A7DD-9891379911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26920" y="549360"/>
            <a:ext cx="77425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Тест 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"Безопасность в сети Интернет"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529240"/>
            <a:ext cx="74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Verdana"/>
              </a:rPr>
              <a:t>Работу выполнил: Чистяков Илья, ученик 7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Verdana"/>
              </a:rPr>
              <a:t>Руководитель: Поспелова Г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Verdana"/>
              </a:rPr>
              <a:t>МБОУ «СОШ №20» г. Новомоск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Verdana"/>
              </a:rPr>
              <a:t>201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2411280" y="3500280"/>
            <a:ext cx="5185080" cy="1081080"/>
          </a:xfrm>
          <a:custGeom>
            <a:avLst/>
            <a:gdLst>
              <a:gd name="textAreaLeft" fmla="*/ 69840 w 5185080"/>
              <a:gd name="textAreaRight" fmla="*/ 5115240 w 518508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103571" h="21600">
                <a:moveTo>
                  <a:pt x="0" y="0"/>
                </a:moveTo>
                <a:lnTo>
                  <a:pt x="103571" y="0"/>
                </a:lnTo>
                <a:lnTo>
                  <a:pt x="103571" y="21600"/>
                </a:lnTo>
                <a:lnTo>
                  <a:pt x="0" y="21600"/>
                </a:lnTo>
                <a:close/>
              </a:path>
              <a:path fill="lightenLess" w="103571" h="21600">
                <a:moveTo>
                  <a:pt x="0" y="0"/>
                </a:moveTo>
                <a:lnTo>
                  <a:pt x="103571" y="0"/>
                </a:lnTo>
                <a:lnTo>
                  <a:pt x="102171" y="1400"/>
                </a:lnTo>
                <a:lnTo>
                  <a:pt x="1400" y="1400"/>
                </a:lnTo>
                <a:close/>
              </a:path>
              <a:path fill="darken" w="103571" h="21600">
                <a:moveTo>
                  <a:pt x="103571" y="0"/>
                </a:moveTo>
                <a:lnTo>
                  <a:pt x="103571" y="21600"/>
                </a:lnTo>
                <a:lnTo>
                  <a:pt x="102171" y="20200"/>
                </a:lnTo>
                <a:lnTo>
                  <a:pt x="102171" y="1400"/>
                </a:lnTo>
                <a:close/>
              </a:path>
              <a:path fill="darkenLess" w="103571" h="21600">
                <a:moveTo>
                  <a:pt x="1035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171" y="20200"/>
                </a:lnTo>
                <a:close/>
              </a:path>
              <a:path fill="lighten" w="1035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3571" h="21600">
                <a:moveTo>
                  <a:pt x="44779" y="3794"/>
                </a:moveTo>
                <a:lnTo>
                  <a:pt x="58792" y="10800"/>
                </a:lnTo>
                <a:lnTo>
                  <a:pt x="44779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332000" y="260280"/>
            <a:ext cx="6912000" cy="108108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Инструк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1914120"/>
            <a:ext cx="460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 слайде будет вопрос и несколько ответов. Один из них правильный, а все остальные неправильные. При нажатии на неправильный - ответ он исчезает, а при нажатии на правильный – остается на слай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4360" y="549360"/>
            <a:ext cx="8135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Какие данные относятся к персональным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2421000"/>
            <a:ext cx="23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421000"/>
            <a:ext cx="8353440" cy="7095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уппа крови,     отпечатки   пальцев,     медицинские диагноз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58920" y="3429000"/>
            <a:ext cx="6480000" cy="7938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едения   об   образовании,     фотограф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50920" y="4437000"/>
            <a:ext cx="5315040" cy="7095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е    вышеперечисленно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189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Можешь ли ты контролировать размещение своих фотографий в сети Интернет,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если выкладываешь их в социальные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2924280"/>
            <a:ext cx="2448000" cy="18716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03640" y="2997360"/>
            <a:ext cx="3279960" cy="17287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5640" y="765360"/>
            <a:ext cx="83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Друг устраивает вечеринку в выходные, и все ваши друзья приглашены. Правильно ли будет разместить дату, время и место на сайте, потому что тогда у каждого будут детали этой встр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16000" y="2924280"/>
            <a:ext cx="2160720" cy="15127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580000" y="2924280"/>
            <a:ext cx="2305080" cy="15127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1640" y="4017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Может ли твой друг заходить в твой аккаунт и отправлять от твоего имени со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26920" y="1844640"/>
            <a:ext cx="7810560" cy="13683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,  потому  что  он  мой  друг,  и  я  ему  доверяю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95640" y="3789360"/>
            <a:ext cx="1500120" cy="10033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20908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При заполнении онлайн–формы для ввода данных, которые будут опубликованы, какие данные не стоит указывать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920" y="2492280"/>
            <a:ext cx="5833800" cy="108108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икнейм  или  псевдоним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948360" y="2637000"/>
            <a:ext cx="1582920" cy="11538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0" y="4508640"/>
            <a:ext cx="4038480" cy="7729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дрес,  где ты учишьс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3933720"/>
            <a:ext cx="4448160" cy="8748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дрес,  где ты живеш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58920" y="1844640"/>
            <a:ext cx="6551640" cy="46087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Verdana"/>
              </a:rPr>
              <a:t>Всё)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189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Источни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46924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риалы сайта «Лига безопасного Интернета» - http://www.ligainternet.ru/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endshow"/>
          </p:cNvPr>
          <p:cNvSpPr/>
          <p:nvPr/>
        </p:nvSpPr>
        <p:spPr>
          <a:xfrm>
            <a:off x="7740720" y="5805360"/>
            <a:ext cx="934920" cy="79056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5542" h="21600">
                <a:moveTo>
                  <a:pt x="0" y="0"/>
                </a:moveTo>
                <a:lnTo>
                  <a:pt x="25542" y="0"/>
                </a:lnTo>
                <a:lnTo>
                  <a:pt x="25542" y="21600"/>
                </a:lnTo>
                <a:lnTo>
                  <a:pt x="0" y="21600"/>
                </a:lnTo>
                <a:close/>
              </a:path>
              <a:path fill="lightenLess" w="25542" h="21600">
                <a:moveTo>
                  <a:pt x="0" y="0"/>
                </a:moveTo>
                <a:lnTo>
                  <a:pt x="25542" y="0"/>
                </a:lnTo>
                <a:lnTo>
                  <a:pt x="24142" y="1400"/>
                </a:lnTo>
                <a:lnTo>
                  <a:pt x="1400" y="1400"/>
                </a:lnTo>
                <a:close/>
              </a:path>
              <a:path fill="darken" w="25542" h="21600">
                <a:moveTo>
                  <a:pt x="25542" y="0"/>
                </a:moveTo>
                <a:lnTo>
                  <a:pt x="25542" y="21600"/>
                </a:lnTo>
                <a:lnTo>
                  <a:pt x="24142" y="20200"/>
                </a:lnTo>
                <a:lnTo>
                  <a:pt x="24142" y="1400"/>
                </a:lnTo>
                <a:close/>
              </a:path>
              <a:path fill="darkenLess" w="25542" h="21600">
                <a:moveTo>
                  <a:pt x="25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2" y="20200"/>
                </a:lnTo>
                <a:close/>
              </a:path>
              <a:path fill="lighten" w="25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2" h="21600">
                <a:moveTo>
                  <a:pt x="12771" y="3837"/>
                </a:moveTo>
                <a:lnTo>
                  <a:pt x="15348" y="6448"/>
                </a:lnTo>
                <a:lnTo>
                  <a:pt x="15348" y="4707"/>
                </a:lnTo>
                <a:lnTo>
                  <a:pt x="17123" y="4707"/>
                </a:lnTo>
                <a:lnTo>
                  <a:pt x="17123" y="8224"/>
                </a:lnTo>
                <a:lnTo>
                  <a:pt x="19734" y="10800"/>
                </a:lnTo>
                <a:lnTo>
                  <a:pt x="18080" y="10800"/>
                </a:lnTo>
                <a:lnTo>
                  <a:pt x="18080" y="17989"/>
                </a:lnTo>
                <a:lnTo>
                  <a:pt x="7462" y="17989"/>
                </a:lnTo>
                <a:lnTo>
                  <a:pt x="7462" y="10800"/>
                </a:lnTo>
                <a:lnTo>
                  <a:pt x="5808" y="10800"/>
                </a:lnTo>
                <a:close/>
              </a:path>
              <a:path fill="darkenLess" w="25542" h="21600">
                <a:moveTo>
                  <a:pt x="15348" y="6448"/>
                </a:moveTo>
                <a:lnTo>
                  <a:pt x="15348" y="4707"/>
                </a:lnTo>
                <a:lnTo>
                  <a:pt x="17123" y="4707"/>
                </a:lnTo>
                <a:lnTo>
                  <a:pt x="17123" y="8224"/>
                </a:lnTo>
                <a:close/>
              </a:path>
              <a:path fill="darkenLess" w="25542" h="21600">
                <a:moveTo>
                  <a:pt x="11849" y="14299"/>
                </a:moveTo>
                <a:lnTo>
                  <a:pt x="13694" y="14299"/>
                </a:lnTo>
                <a:lnTo>
                  <a:pt x="13694" y="17989"/>
                </a:lnTo>
                <a:lnTo>
                  <a:pt x="18080" y="17989"/>
                </a:lnTo>
                <a:lnTo>
                  <a:pt x="18080" y="10800"/>
                </a:lnTo>
                <a:lnTo>
                  <a:pt x="7462" y="10800"/>
                </a:lnTo>
                <a:lnTo>
                  <a:pt x="7462" y="17989"/>
                </a:lnTo>
                <a:lnTo>
                  <a:pt x="11849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10:43:19Z</dcterms:created>
  <dc:creator>Ученик</dc:creator>
  <dc:description/>
  <dc:language>en-US</dc:language>
  <cp:lastModifiedBy>Галина</cp:lastModifiedBy>
  <dcterms:modified xsi:type="dcterms:W3CDTF">2018-10-28T12:38:24Z</dcterms:modified>
  <cp:revision>20</cp:revision>
  <dc:subject/>
  <dc:title>Слайд 1</dc:title>
</cp:coreProperties>
</file>