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553D-4C5C-4FE9-A34A-ADE55276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CA75-977A-4EF5-968F-2A588C92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D707-6081-430E-8DE5-06D97891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CC88-FB52-4A85-AD14-BCDD77F43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BAF7-A46F-4E91-BED8-16736A96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C516-1985-43BD-84EC-9C0DDA2A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F1DB-54B3-4180-AA74-8AB33718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38A1-6639-4191-B800-6384FE7A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67EC-080E-43DC-9BAD-B3665E6F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2DFE-A91D-4F6A-9D71-692A73F0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E94B-1BF4-4643-997B-9C458990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B4B1-3724-47AC-A20E-00EC93A6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4752-0983-41C4-9F7E-04D5C0DA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20DD-6363-4CF1-8747-FF8F93CB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1535-5ACE-4AE1-AD6E-6B5DAFF7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3046-20DB-468F-A53A-23E99D0D1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FE7B-7223-43DC-B029-BD2584C4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67B8-2852-44B9-91A0-429B851D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84CC-9F32-403E-B28B-5293DEF8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B17B-BC9D-429F-AAEC-9C58134C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1EA4-97D6-4CBC-A640-8CFE54D1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F6BA-1DE4-4AA1-AA50-F6D4D09C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1BEA-3A0A-4986-9E55-7BD200D6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D49B-4BB6-4A93-9EC4-845EC97C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9DE9-A8E6-40B2-9E74-952B7FA28B2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2B75-6C7E-4E36-856E-C1DCBC4A938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258920" y="0"/>
            <a:ext cx="641988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оверка таблицы умнож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50920" y="5084640"/>
            <a:ext cx="482436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езентацию подготовил М.С. Наумк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7667640" y="6165720"/>
            <a:ext cx="1476360" cy="692280"/>
          </a:xfrm>
          <a:custGeom>
            <a:avLst/>
            <a:gdLst>
              <a:gd name="textAreaLeft" fmla="*/ 44640 w 1476360"/>
              <a:gd name="textAreaRight" fmla="*/ 1431720 w 1476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6052" h="21600">
                <a:moveTo>
                  <a:pt x="0" y="0"/>
                </a:moveTo>
                <a:lnTo>
                  <a:pt x="46052" y="0"/>
                </a:lnTo>
                <a:lnTo>
                  <a:pt x="46052" y="21600"/>
                </a:lnTo>
                <a:lnTo>
                  <a:pt x="0" y="21600"/>
                </a:lnTo>
                <a:close/>
              </a:path>
              <a:path fill="lightenLess" w="46052" h="21600">
                <a:moveTo>
                  <a:pt x="0" y="0"/>
                </a:moveTo>
                <a:lnTo>
                  <a:pt x="46052" y="0"/>
                </a:lnTo>
                <a:lnTo>
                  <a:pt x="44652" y="1400"/>
                </a:lnTo>
                <a:lnTo>
                  <a:pt x="1400" y="1400"/>
                </a:lnTo>
                <a:close/>
              </a:path>
              <a:path fill="darken" w="46052" h="21600">
                <a:moveTo>
                  <a:pt x="46052" y="0"/>
                </a:moveTo>
                <a:lnTo>
                  <a:pt x="46052" y="21600"/>
                </a:lnTo>
                <a:lnTo>
                  <a:pt x="44652" y="20200"/>
                </a:lnTo>
                <a:lnTo>
                  <a:pt x="44652" y="1400"/>
                </a:lnTo>
                <a:close/>
              </a:path>
              <a:path fill="darkenLess" w="46052" h="21600">
                <a:moveTo>
                  <a:pt x="46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52" y="20200"/>
                </a:lnTo>
                <a:close/>
              </a:path>
              <a:path fill="lighten" w="46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52" h="21600">
                <a:moveTo>
                  <a:pt x="16019" y="3794"/>
                </a:moveTo>
                <a:lnTo>
                  <a:pt x="30032" y="10800"/>
                </a:lnTo>
                <a:lnTo>
                  <a:pt x="16019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95280" y="5516640"/>
            <a:ext cx="266400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ченик 7Б клас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4000" y="5877000"/>
            <a:ext cx="449892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уководитель: Поспелова Г.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6308640"/>
            <a:ext cx="4103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БОУ "СОШ №20" г. Новомосковс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835280" y="620640"/>
            <a:ext cx="525780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посибо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а внимание !!!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1" name="">
            <a:hlinkClick r:id="" action="ppaction://hlinkshowjump?jump=endshow"/>
          </p:cNvPr>
          <p:cNvSpPr/>
          <p:nvPr/>
        </p:nvSpPr>
        <p:spPr>
          <a:xfrm>
            <a:off x="7956720" y="6165720"/>
            <a:ext cx="647640" cy="6922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92280"/>
              <a:gd name="textAreaBottom" fmla="*/ 650520 h 692280"/>
            </a:gdLst>
            <a:ahLst/>
            <a:rect l="textAreaLeft" t="textAreaTop" r="textAreaRight" b="textAreaBottom"/>
            <a:pathLst>
              <a:path w="21600" h="23088">
                <a:moveTo>
                  <a:pt x="0" y="0"/>
                </a:moveTo>
                <a:lnTo>
                  <a:pt x="21600" y="0"/>
                </a:lnTo>
                <a:lnTo>
                  <a:pt x="21600" y="23088"/>
                </a:lnTo>
                <a:lnTo>
                  <a:pt x="0" y="23088"/>
                </a:lnTo>
                <a:close/>
              </a:path>
              <a:path fill="lightenLess" w="21600" h="230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88">
                <a:moveTo>
                  <a:pt x="21600" y="0"/>
                </a:moveTo>
                <a:lnTo>
                  <a:pt x="21600" y="23088"/>
                </a:lnTo>
                <a:lnTo>
                  <a:pt x="20200" y="21688"/>
                </a:lnTo>
                <a:lnTo>
                  <a:pt x="20200" y="1400"/>
                </a:lnTo>
                <a:close/>
              </a:path>
              <a:path fill="darkenLess" w="21600" h="23088">
                <a:moveTo>
                  <a:pt x="21600" y="23088"/>
                </a:moveTo>
                <a:lnTo>
                  <a:pt x="0" y="23088"/>
                </a:lnTo>
                <a:lnTo>
                  <a:pt x="1400" y="21688"/>
                </a:lnTo>
                <a:lnTo>
                  <a:pt x="20200" y="21688"/>
                </a:lnTo>
                <a:close/>
              </a:path>
              <a:path fill="lighten" w="21600" h="23088">
                <a:moveTo>
                  <a:pt x="0" y="230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88"/>
                </a:lnTo>
                <a:close/>
              </a:path>
              <a:path fill="darken" w="21600" h="23088">
                <a:moveTo>
                  <a:pt x="10800" y="4581"/>
                </a:moveTo>
                <a:lnTo>
                  <a:pt x="13376" y="7192"/>
                </a:lnTo>
                <a:lnTo>
                  <a:pt x="13376" y="5451"/>
                </a:lnTo>
                <a:lnTo>
                  <a:pt x="15152" y="5451"/>
                </a:lnTo>
                <a:lnTo>
                  <a:pt x="15152" y="8968"/>
                </a:lnTo>
                <a:lnTo>
                  <a:pt x="17763" y="11544"/>
                </a:lnTo>
                <a:lnTo>
                  <a:pt x="16109" y="11544"/>
                </a:lnTo>
                <a:lnTo>
                  <a:pt x="16109" y="18733"/>
                </a:lnTo>
                <a:lnTo>
                  <a:pt x="5491" y="18733"/>
                </a:lnTo>
                <a:lnTo>
                  <a:pt x="5491" y="11544"/>
                </a:lnTo>
                <a:lnTo>
                  <a:pt x="3837" y="11544"/>
                </a:lnTo>
                <a:close/>
              </a:path>
              <a:path fill="darkenLess" w="21600" h="23088">
                <a:moveTo>
                  <a:pt x="13376" y="7192"/>
                </a:moveTo>
                <a:lnTo>
                  <a:pt x="13376" y="5451"/>
                </a:lnTo>
                <a:lnTo>
                  <a:pt x="15152" y="5451"/>
                </a:lnTo>
                <a:lnTo>
                  <a:pt x="15152" y="8968"/>
                </a:lnTo>
                <a:close/>
              </a:path>
              <a:path fill="darkenLess" w="21600" h="23088">
                <a:moveTo>
                  <a:pt x="9877" y="15043"/>
                </a:moveTo>
                <a:lnTo>
                  <a:pt x="11723" y="15043"/>
                </a:lnTo>
                <a:lnTo>
                  <a:pt x="11723" y="18733"/>
                </a:lnTo>
                <a:lnTo>
                  <a:pt x="16109" y="18733"/>
                </a:lnTo>
                <a:lnTo>
                  <a:pt x="16109" y="11544"/>
                </a:lnTo>
                <a:lnTo>
                  <a:pt x="5491" y="11544"/>
                </a:lnTo>
                <a:lnTo>
                  <a:pt x="5491" y="18733"/>
                </a:lnTo>
                <a:lnTo>
                  <a:pt x="9877" y="18733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124000" y="260280"/>
            <a:ext cx="51627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верьте свои знан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блицы умножения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332000" y="1557360"/>
            <a:ext cx="6886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ыбирайте правильный отве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з 4-х предложенных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763640" y="3284640"/>
            <a:ext cx="59040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авильный отве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таётся на слайде,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правильны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чезае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7667640" y="6165720"/>
            <a:ext cx="1476360" cy="692280"/>
          </a:xfrm>
          <a:custGeom>
            <a:avLst/>
            <a:gdLst>
              <a:gd name="textAreaLeft" fmla="*/ 44640 w 1476360"/>
              <a:gd name="textAreaRight" fmla="*/ 1431720 w 1476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6052" h="21600">
                <a:moveTo>
                  <a:pt x="0" y="0"/>
                </a:moveTo>
                <a:lnTo>
                  <a:pt x="46052" y="0"/>
                </a:lnTo>
                <a:lnTo>
                  <a:pt x="46052" y="21600"/>
                </a:lnTo>
                <a:lnTo>
                  <a:pt x="0" y="21600"/>
                </a:lnTo>
                <a:close/>
              </a:path>
              <a:path fill="lightenLess" w="46052" h="21600">
                <a:moveTo>
                  <a:pt x="0" y="0"/>
                </a:moveTo>
                <a:lnTo>
                  <a:pt x="46052" y="0"/>
                </a:lnTo>
                <a:lnTo>
                  <a:pt x="44652" y="1400"/>
                </a:lnTo>
                <a:lnTo>
                  <a:pt x="1400" y="1400"/>
                </a:lnTo>
                <a:close/>
              </a:path>
              <a:path fill="darken" w="46052" h="21600">
                <a:moveTo>
                  <a:pt x="46052" y="0"/>
                </a:moveTo>
                <a:lnTo>
                  <a:pt x="46052" y="21600"/>
                </a:lnTo>
                <a:lnTo>
                  <a:pt x="44652" y="20200"/>
                </a:lnTo>
                <a:lnTo>
                  <a:pt x="44652" y="1400"/>
                </a:lnTo>
                <a:close/>
              </a:path>
              <a:path fill="darkenLess" w="46052" h="21600">
                <a:moveTo>
                  <a:pt x="46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52" y="20200"/>
                </a:lnTo>
                <a:close/>
              </a:path>
              <a:path fill="lighten" w="46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52" h="21600">
                <a:moveTo>
                  <a:pt x="16019" y="3794"/>
                </a:moveTo>
                <a:lnTo>
                  <a:pt x="30032" y="10800"/>
                </a:lnTo>
                <a:lnTo>
                  <a:pt x="16019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348000" y="260280"/>
            <a:ext cx="24382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 x 6 = ?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50920" y="2060640"/>
            <a:ext cx="685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9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411280" y="335772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5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940360" y="3429000"/>
            <a:ext cx="685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6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956720" y="2205000"/>
            <a:ext cx="685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7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7667640" y="6165720"/>
            <a:ext cx="1476360" cy="692280"/>
          </a:xfrm>
          <a:custGeom>
            <a:avLst/>
            <a:gdLst>
              <a:gd name="textAreaLeft" fmla="*/ 44640 w 1476360"/>
              <a:gd name="textAreaRight" fmla="*/ 1431720 w 1476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6052" h="21600">
                <a:moveTo>
                  <a:pt x="0" y="0"/>
                </a:moveTo>
                <a:lnTo>
                  <a:pt x="46052" y="0"/>
                </a:lnTo>
                <a:lnTo>
                  <a:pt x="46052" y="21600"/>
                </a:lnTo>
                <a:lnTo>
                  <a:pt x="0" y="21600"/>
                </a:lnTo>
                <a:close/>
              </a:path>
              <a:path fill="lightenLess" w="46052" h="21600">
                <a:moveTo>
                  <a:pt x="0" y="0"/>
                </a:moveTo>
                <a:lnTo>
                  <a:pt x="46052" y="0"/>
                </a:lnTo>
                <a:lnTo>
                  <a:pt x="44652" y="1400"/>
                </a:lnTo>
                <a:lnTo>
                  <a:pt x="1400" y="1400"/>
                </a:lnTo>
                <a:close/>
              </a:path>
              <a:path fill="darken" w="46052" h="21600">
                <a:moveTo>
                  <a:pt x="46052" y="0"/>
                </a:moveTo>
                <a:lnTo>
                  <a:pt x="46052" y="21600"/>
                </a:lnTo>
                <a:lnTo>
                  <a:pt x="44652" y="20200"/>
                </a:lnTo>
                <a:lnTo>
                  <a:pt x="44652" y="1400"/>
                </a:lnTo>
                <a:close/>
              </a:path>
              <a:path fill="darkenLess" w="46052" h="21600">
                <a:moveTo>
                  <a:pt x="46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52" y="20200"/>
                </a:lnTo>
                <a:close/>
              </a:path>
              <a:path fill="lighten" w="46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52" h="21600">
                <a:moveTo>
                  <a:pt x="16019" y="3794"/>
                </a:moveTo>
                <a:lnTo>
                  <a:pt x="30032" y="10800"/>
                </a:lnTo>
                <a:lnTo>
                  <a:pt x="16019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2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419640" y="404640"/>
            <a:ext cx="24382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 x 8 = ?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360" y="227664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4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484360" y="335772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8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227640" y="3429000"/>
            <a:ext cx="685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8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885080" y="227664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3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7667640" y="6165720"/>
            <a:ext cx="1476360" cy="692280"/>
          </a:xfrm>
          <a:custGeom>
            <a:avLst/>
            <a:gdLst>
              <a:gd name="textAreaLeft" fmla="*/ 44640 w 1476360"/>
              <a:gd name="textAreaRight" fmla="*/ 1431720 w 1476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6052" h="21600">
                <a:moveTo>
                  <a:pt x="0" y="0"/>
                </a:moveTo>
                <a:lnTo>
                  <a:pt x="46052" y="0"/>
                </a:lnTo>
                <a:lnTo>
                  <a:pt x="46052" y="21600"/>
                </a:lnTo>
                <a:lnTo>
                  <a:pt x="0" y="21600"/>
                </a:lnTo>
                <a:close/>
              </a:path>
              <a:path fill="lightenLess" w="46052" h="21600">
                <a:moveTo>
                  <a:pt x="0" y="0"/>
                </a:moveTo>
                <a:lnTo>
                  <a:pt x="46052" y="0"/>
                </a:lnTo>
                <a:lnTo>
                  <a:pt x="44652" y="1400"/>
                </a:lnTo>
                <a:lnTo>
                  <a:pt x="1400" y="1400"/>
                </a:lnTo>
                <a:close/>
              </a:path>
              <a:path fill="darken" w="46052" h="21600">
                <a:moveTo>
                  <a:pt x="46052" y="0"/>
                </a:moveTo>
                <a:lnTo>
                  <a:pt x="46052" y="21600"/>
                </a:lnTo>
                <a:lnTo>
                  <a:pt x="44652" y="20200"/>
                </a:lnTo>
                <a:lnTo>
                  <a:pt x="44652" y="1400"/>
                </a:lnTo>
                <a:close/>
              </a:path>
              <a:path fill="darkenLess" w="46052" h="21600">
                <a:moveTo>
                  <a:pt x="46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52" y="20200"/>
                </a:lnTo>
                <a:close/>
              </a:path>
              <a:path fill="lighten" w="46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52" h="21600">
                <a:moveTo>
                  <a:pt x="16019" y="3794"/>
                </a:moveTo>
                <a:lnTo>
                  <a:pt x="30032" y="10800"/>
                </a:lnTo>
                <a:lnTo>
                  <a:pt x="16019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5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419640" y="404640"/>
            <a:ext cx="24382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9 : 7 = ?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227664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484360" y="335772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227640" y="3429000"/>
            <a:ext cx="685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885080" y="227664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7667640" y="6165720"/>
            <a:ext cx="1476360" cy="692280"/>
          </a:xfrm>
          <a:custGeom>
            <a:avLst/>
            <a:gdLst>
              <a:gd name="textAreaLeft" fmla="*/ 44640 w 1476360"/>
              <a:gd name="textAreaRight" fmla="*/ 1431720 w 1476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6052" h="21600">
                <a:moveTo>
                  <a:pt x="0" y="0"/>
                </a:moveTo>
                <a:lnTo>
                  <a:pt x="46052" y="0"/>
                </a:lnTo>
                <a:lnTo>
                  <a:pt x="46052" y="21600"/>
                </a:lnTo>
                <a:lnTo>
                  <a:pt x="0" y="21600"/>
                </a:lnTo>
                <a:close/>
              </a:path>
              <a:path fill="lightenLess" w="46052" h="21600">
                <a:moveTo>
                  <a:pt x="0" y="0"/>
                </a:moveTo>
                <a:lnTo>
                  <a:pt x="46052" y="0"/>
                </a:lnTo>
                <a:lnTo>
                  <a:pt x="44652" y="1400"/>
                </a:lnTo>
                <a:lnTo>
                  <a:pt x="1400" y="1400"/>
                </a:lnTo>
                <a:close/>
              </a:path>
              <a:path fill="darken" w="46052" h="21600">
                <a:moveTo>
                  <a:pt x="46052" y="0"/>
                </a:moveTo>
                <a:lnTo>
                  <a:pt x="46052" y="21600"/>
                </a:lnTo>
                <a:lnTo>
                  <a:pt x="44652" y="20200"/>
                </a:lnTo>
                <a:lnTo>
                  <a:pt x="44652" y="1400"/>
                </a:lnTo>
                <a:close/>
              </a:path>
              <a:path fill="darkenLess" w="46052" h="21600">
                <a:moveTo>
                  <a:pt x="46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52" y="20200"/>
                </a:lnTo>
                <a:close/>
              </a:path>
              <a:path fill="lighten" w="46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52" h="21600">
                <a:moveTo>
                  <a:pt x="16019" y="3794"/>
                </a:moveTo>
                <a:lnTo>
                  <a:pt x="30032" y="10800"/>
                </a:lnTo>
                <a:lnTo>
                  <a:pt x="16019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7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419640" y="404640"/>
            <a:ext cx="24382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1 : 9 = ?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8360" y="227664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484360" y="335772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227640" y="3429000"/>
            <a:ext cx="685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885080" y="227664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7667640" y="6165720"/>
            <a:ext cx="1476360" cy="692280"/>
          </a:xfrm>
          <a:custGeom>
            <a:avLst/>
            <a:gdLst>
              <a:gd name="textAreaLeft" fmla="*/ 44640 w 1476360"/>
              <a:gd name="textAreaRight" fmla="*/ 1431720 w 1476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6052" h="21600">
                <a:moveTo>
                  <a:pt x="0" y="0"/>
                </a:moveTo>
                <a:lnTo>
                  <a:pt x="46052" y="0"/>
                </a:lnTo>
                <a:lnTo>
                  <a:pt x="46052" y="21600"/>
                </a:lnTo>
                <a:lnTo>
                  <a:pt x="0" y="21600"/>
                </a:lnTo>
                <a:close/>
              </a:path>
              <a:path fill="lightenLess" w="46052" h="21600">
                <a:moveTo>
                  <a:pt x="0" y="0"/>
                </a:moveTo>
                <a:lnTo>
                  <a:pt x="46052" y="0"/>
                </a:lnTo>
                <a:lnTo>
                  <a:pt x="44652" y="1400"/>
                </a:lnTo>
                <a:lnTo>
                  <a:pt x="1400" y="1400"/>
                </a:lnTo>
                <a:close/>
              </a:path>
              <a:path fill="darken" w="46052" h="21600">
                <a:moveTo>
                  <a:pt x="46052" y="0"/>
                </a:moveTo>
                <a:lnTo>
                  <a:pt x="46052" y="21600"/>
                </a:lnTo>
                <a:lnTo>
                  <a:pt x="44652" y="20200"/>
                </a:lnTo>
                <a:lnTo>
                  <a:pt x="44652" y="1400"/>
                </a:lnTo>
                <a:close/>
              </a:path>
              <a:path fill="darkenLess" w="46052" h="21600">
                <a:moveTo>
                  <a:pt x="46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52" y="20200"/>
                </a:lnTo>
                <a:close/>
              </a:path>
              <a:path fill="lighten" w="46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52" h="21600">
                <a:moveTo>
                  <a:pt x="16019" y="3794"/>
                </a:moveTo>
                <a:lnTo>
                  <a:pt x="30032" y="10800"/>
                </a:lnTo>
                <a:lnTo>
                  <a:pt x="16019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8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419640" y="404640"/>
            <a:ext cx="24382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4 : 9 = ?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8360" y="227664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411280" y="3284640"/>
            <a:ext cx="685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227640" y="3429000"/>
            <a:ext cx="685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885080" y="227664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0" name="">
            <a:hlinkClick r:id="" action="ppaction://hlinkshowjump?jump=nextslide"/>
          </p:cNvPr>
          <p:cNvSpPr/>
          <p:nvPr/>
        </p:nvSpPr>
        <p:spPr>
          <a:xfrm>
            <a:off x="7667640" y="6165720"/>
            <a:ext cx="1476360" cy="692280"/>
          </a:xfrm>
          <a:custGeom>
            <a:avLst/>
            <a:gdLst>
              <a:gd name="textAreaLeft" fmla="*/ 44640 w 1476360"/>
              <a:gd name="textAreaRight" fmla="*/ 1431720 w 1476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6052" h="21600">
                <a:moveTo>
                  <a:pt x="0" y="0"/>
                </a:moveTo>
                <a:lnTo>
                  <a:pt x="46052" y="0"/>
                </a:lnTo>
                <a:lnTo>
                  <a:pt x="46052" y="21600"/>
                </a:lnTo>
                <a:lnTo>
                  <a:pt x="0" y="21600"/>
                </a:lnTo>
                <a:close/>
              </a:path>
              <a:path fill="lightenLess" w="46052" h="21600">
                <a:moveTo>
                  <a:pt x="0" y="0"/>
                </a:moveTo>
                <a:lnTo>
                  <a:pt x="46052" y="0"/>
                </a:lnTo>
                <a:lnTo>
                  <a:pt x="44652" y="1400"/>
                </a:lnTo>
                <a:lnTo>
                  <a:pt x="1400" y="1400"/>
                </a:lnTo>
                <a:close/>
              </a:path>
              <a:path fill="darken" w="46052" h="21600">
                <a:moveTo>
                  <a:pt x="46052" y="0"/>
                </a:moveTo>
                <a:lnTo>
                  <a:pt x="46052" y="21600"/>
                </a:lnTo>
                <a:lnTo>
                  <a:pt x="44652" y="20200"/>
                </a:lnTo>
                <a:lnTo>
                  <a:pt x="44652" y="1400"/>
                </a:lnTo>
                <a:close/>
              </a:path>
              <a:path fill="darkenLess" w="46052" h="21600">
                <a:moveTo>
                  <a:pt x="46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52" y="20200"/>
                </a:lnTo>
                <a:close/>
              </a:path>
              <a:path fill="lighten" w="46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52" h="21600">
                <a:moveTo>
                  <a:pt x="16019" y="3794"/>
                </a:moveTo>
                <a:lnTo>
                  <a:pt x="30032" y="10800"/>
                </a:lnTo>
                <a:lnTo>
                  <a:pt x="16019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" dur="5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a500"/>
                                      </p:to>
                                    </p:animClr>
                                    <p:set>
                                      <p:cBhvr>
                                        <p:cTn id="12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419640" y="404640"/>
            <a:ext cx="24382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 х 6 = ?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8360" y="227664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2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484360" y="335772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4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227640" y="3429000"/>
            <a:ext cx="685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2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885080" y="227664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5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7667640" y="6165720"/>
            <a:ext cx="1476360" cy="692280"/>
          </a:xfrm>
          <a:custGeom>
            <a:avLst/>
            <a:gdLst>
              <a:gd name="textAreaLeft" fmla="*/ 44640 w 1476360"/>
              <a:gd name="textAreaRight" fmla="*/ 1431720 w 1476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6052" h="21600">
                <a:moveTo>
                  <a:pt x="0" y="0"/>
                </a:moveTo>
                <a:lnTo>
                  <a:pt x="46052" y="0"/>
                </a:lnTo>
                <a:lnTo>
                  <a:pt x="46052" y="21600"/>
                </a:lnTo>
                <a:lnTo>
                  <a:pt x="0" y="21600"/>
                </a:lnTo>
                <a:close/>
              </a:path>
              <a:path fill="lightenLess" w="46052" h="21600">
                <a:moveTo>
                  <a:pt x="0" y="0"/>
                </a:moveTo>
                <a:lnTo>
                  <a:pt x="46052" y="0"/>
                </a:lnTo>
                <a:lnTo>
                  <a:pt x="44652" y="1400"/>
                </a:lnTo>
                <a:lnTo>
                  <a:pt x="1400" y="1400"/>
                </a:lnTo>
                <a:close/>
              </a:path>
              <a:path fill="darken" w="46052" h="21600">
                <a:moveTo>
                  <a:pt x="46052" y="0"/>
                </a:moveTo>
                <a:lnTo>
                  <a:pt x="46052" y="21600"/>
                </a:lnTo>
                <a:lnTo>
                  <a:pt x="44652" y="20200"/>
                </a:lnTo>
                <a:lnTo>
                  <a:pt x="44652" y="1400"/>
                </a:lnTo>
                <a:close/>
              </a:path>
              <a:path fill="darkenLess" w="46052" h="21600">
                <a:moveTo>
                  <a:pt x="46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52" y="20200"/>
                </a:lnTo>
                <a:close/>
              </a:path>
              <a:path fill="lighten" w="46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52" h="21600">
                <a:moveTo>
                  <a:pt x="16019" y="3794"/>
                </a:moveTo>
                <a:lnTo>
                  <a:pt x="30032" y="10800"/>
                </a:lnTo>
                <a:lnTo>
                  <a:pt x="16019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29" dur="indefinite" restart="never" nodeType="tmRoot">
          <p:childTnLst>
            <p:seq>
              <p:cTn id="130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" dur="5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7" dur="5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55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328840" y="388800"/>
            <a:ext cx="4619520" cy="73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точники информации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7667640" y="6165720"/>
            <a:ext cx="1476360" cy="692280"/>
          </a:xfrm>
          <a:custGeom>
            <a:avLst/>
            <a:gdLst>
              <a:gd name="textAreaLeft" fmla="*/ 44640 w 1476360"/>
              <a:gd name="textAreaRight" fmla="*/ 1431720 w 1476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6052" h="21600">
                <a:moveTo>
                  <a:pt x="0" y="0"/>
                </a:moveTo>
                <a:lnTo>
                  <a:pt x="46052" y="0"/>
                </a:lnTo>
                <a:lnTo>
                  <a:pt x="46052" y="21600"/>
                </a:lnTo>
                <a:lnTo>
                  <a:pt x="0" y="21600"/>
                </a:lnTo>
                <a:close/>
              </a:path>
              <a:path fill="lightenLess" w="46052" h="21600">
                <a:moveTo>
                  <a:pt x="0" y="0"/>
                </a:moveTo>
                <a:lnTo>
                  <a:pt x="46052" y="0"/>
                </a:lnTo>
                <a:lnTo>
                  <a:pt x="44652" y="1400"/>
                </a:lnTo>
                <a:lnTo>
                  <a:pt x="1400" y="1400"/>
                </a:lnTo>
                <a:close/>
              </a:path>
              <a:path fill="darken" w="46052" h="21600">
                <a:moveTo>
                  <a:pt x="46052" y="0"/>
                </a:moveTo>
                <a:lnTo>
                  <a:pt x="46052" y="21600"/>
                </a:lnTo>
                <a:lnTo>
                  <a:pt x="44652" y="20200"/>
                </a:lnTo>
                <a:lnTo>
                  <a:pt x="44652" y="1400"/>
                </a:lnTo>
                <a:close/>
              </a:path>
              <a:path fill="darkenLess" w="46052" h="21600">
                <a:moveTo>
                  <a:pt x="46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52" y="20200"/>
                </a:lnTo>
                <a:close/>
              </a:path>
              <a:path fill="lighten" w="46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52" h="21600">
                <a:moveTo>
                  <a:pt x="16019" y="3794"/>
                </a:moveTo>
                <a:lnTo>
                  <a:pt x="30032" y="10800"/>
                </a:lnTo>
                <a:lnTo>
                  <a:pt x="16019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9640" y="1197000"/>
            <a:ext cx="80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ы сайта «http://nashol.com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nashol.com/2013091473519/uchim-tablicu-umnojeniya-aleksandrova-o-v-2012.html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21T11:33:19Z</dcterms:created>
  <dc:creator>ученик</dc:creator>
  <dc:description/>
  <dc:language>en-US</dc:language>
  <cp:lastModifiedBy>Галина</cp:lastModifiedBy>
  <dcterms:modified xsi:type="dcterms:W3CDTF">2018-10-28T12:50:46Z</dcterms:modified>
  <cp:revision>9</cp:revision>
  <dc:subject/>
  <dc:title>Слайд 1</dc:title>
</cp:coreProperties>
</file>